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9AE-B3EF-430B-AFF3-84C8AC2A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0EB-16CC-4159-90F0-811F0000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F11-DE35-4F69-AEB0-08D6E919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7F4-43E8-4C50-B1FA-69A11CA2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2E2D-610C-4168-8B24-40C52D08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A80F-53BF-4D5D-A993-0155F692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7A2A-5240-4576-9E9D-44C08253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E23A-180D-4E31-84DC-2D23E183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B94C-209C-486E-9BA9-1483C3EB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4330-E816-4EC6-BD6E-DF4C120F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DF58-2165-4293-A911-6B451742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AFB-E6F1-4DB2-8E21-901940CB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8CF9-C4C2-4DBE-AE00-1DEA7631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F316-9601-474B-9D3C-988A5457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9E01-A3E1-400C-90F0-E28BA78F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6CA1-09C7-42C5-9EBF-DAB7E80C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2F20-5CB4-408F-95FE-60D239D8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1E9-5332-44CD-953C-09A8A646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4C0-093D-44DC-B522-B59291B8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C48-34E8-47C7-B115-11021E6B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0B1-6E4E-4E91-B71E-2EB963B6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079-3E6E-454C-A67B-91EB57E1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4AA-5916-4820-ABE3-CCDC3601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A5C-F420-467D-8585-A68F3013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4DAB-5B07-47FA-BFF0-8ADF0AE81CD9}" type="slidenum"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192cd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192cd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192c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c64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46FB-4839-42D7-9C12-2B63A2D4CD53}" type="slidenum">
              <a:rPr b="0" lang="en-US" sz="1200" spc="-1" strike="noStrike">
                <a:solidFill>
                  <a:srgbClr val="8bc64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deos.howstuffworks.com/hsw/12476-chemistry-connections-acid-base-definitions-video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Britton Peach, Cassidy Bowman, Matt Tsirnikas, Hanna Scipioni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189000" y="585720"/>
            <a:ext cx="9192960" cy="871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sciencecompany.com/images/phscale.gif"/>
          <p:cNvPicPr/>
          <p:nvPr/>
        </p:nvPicPr>
        <p:blipFill>
          <a:blip r:embed="rId2"/>
          <a:stretch/>
        </p:blipFill>
        <p:spPr>
          <a:xfrm>
            <a:off x="1371600" y="1523880"/>
            <a:ext cx="5486400" cy="50198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Acid/Base Video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videos.howstuffworks.com/hsw/12476-chemistry-connections-acid-base-definitions-video.htm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Acid/Base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Chemists use a number scale from 0 to 14 to describe the concentration of hydronium ions in a solution. None as the PH Scale. The pH of a solution is a measure of its hydronium ion concentration. If the pH is 7 it is neutral.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3" name="Smiley Face 3"/>
          <p:cNvSpPr/>
          <p:nvPr/>
        </p:nvSpPr>
        <p:spPr>
          <a:xfrm>
            <a:off x="228600" y="4038480"/>
            <a:ext cx="2514600" cy="2362320"/>
          </a:xfrm>
          <a:prstGeom prst="smileyFace">
            <a:avLst>
              <a:gd name="adj" fmla="val 9282"/>
            </a:avLst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Century Gothic"/>
              </a:rPr>
              <a:t>Examples of Acid/Base</a:t>
            </a:r>
            <a:endParaRPr b="0" lang="en-US" sz="5000" spc="-1" strike="noStrike">
              <a:solidFill>
                <a:srgbClr val="92d05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entury Gothic"/>
              </a:rPr>
              <a:t>Acid</a:t>
            </a:r>
            <a:endParaRPr b="0" lang="en-US" sz="24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entury Gothic"/>
              </a:rPr>
              <a:t>Base</a:t>
            </a:r>
            <a:endParaRPr b="0" lang="en-US" sz="24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  <p:pic>
        <p:nvPicPr>
          <p:cNvPr id="109" name="Picture 3" descr="\\10.36.3.10\HS-Redirected\cl12peachb\Desktop\volcanomats.jpg"/>
          <p:cNvPicPr/>
          <p:nvPr/>
        </p:nvPicPr>
        <p:blipFill>
          <a:blip r:embed="rId1"/>
          <a:stretch/>
        </p:blipFill>
        <p:spPr>
          <a:xfrm>
            <a:off x="4800600" y="2895480"/>
            <a:ext cx="373212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\\10.36.3.10\HS-Redirected\cl12peachb\Desktop\r.gif"/>
          <p:cNvPicPr/>
          <p:nvPr/>
        </p:nvPicPr>
        <p:blipFill>
          <a:blip r:embed="rId2"/>
          <a:stretch/>
        </p:blipFill>
        <p:spPr>
          <a:xfrm>
            <a:off x="609480" y="2895480"/>
            <a:ext cx="3638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112" name="Cloud 2" descr=""/>
          <p:cNvPicPr/>
          <p:nvPr/>
        </p:nvPicPr>
        <p:blipFill>
          <a:blip r:embed="rId2"/>
          <a:stretch/>
        </p:blipFill>
        <p:spPr>
          <a:xfrm>
            <a:off x="285840" y="2590920"/>
            <a:ext cx="4146480" cy="3833640"/>
          </a:xfrm>
          <a:prstGeom prst="rect">
            <a:avLst/>
          </a:prstGeom>
          <a:ln w="0">
            <a:noFill/>
          </a:ln>
        </p:spPr>
      </p:pic>
      <p:pic>
        <p:nvPicPr>
          <p:cNvPr id="113" name="Cloud 4" descr=""/>
          <p:cNvPicPr/>
          <p:nvPr/>
        </p:nvPicPr>
        <p:blipFill>
          <a:blip r:embed="rId3"/>
          <a:stretch/>
        </p:blipFill>
        <p:spPr>
          <a:xfrm>
            <a:off x="4651200" y="1116000"/>
            <a:ext cx="42609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&quot;No&quot; Symbol 5"/>
          <p:cNvSpPr/>
          <p:nvPr/>
        </p:nvSpPr>
        <p:spPr>
          <a:xfrm>
            <a:off x="4038480" y="4724280"/>
            <a:ext cx="1905120" cy="1828800"/>
          </a:xfrm>
          <a:prstGeom prst="pie">
            <a:avLst/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92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Acid generates the (H+) in a solution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92cd"/>
                </a:solidFill>
                <a:latin typeface="Century Gothic"/>
              </a:rPr>
              <a:t>Base generates (OH-) in a solution </a:t>
            </a:r>
            <a:endParaRPr b="0" lang="en-US" sz="26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www.howstuffworks.com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Physical science textbook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de6c36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92cd"/>
                </a:solidFill>
                <a:latin typeface="Century Gothic"/>
              </a:rPr>
              <a:t>www.shodor.org</a:t>
            </a:r>
            <a:endParaRPr b="0" lang="en-US" sz="2200" spc="-1" strike="noStrike">
              <a:solidFill>
                <a:srgbClr val="0192c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6:36:22Z</dcterms:created>
  <dc:creator>cl12peachb</dc:creator>
  <dc:description/>
  <dc:language>en-US</dc:language>
  <cp:lastModifiedBy>cl12peachb</cp:lastModifiedBy>
  <dcterms:modified xsi:type="dcterms:W3CDTF">2009-02-18T15:58:28Z</dcterms:modified>
  <cp:revision>12</cp:revision>
  <dc:subject/>
  <dc:title>Acid/Base</dc:title>
</cp:coreProperties>
</file>