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chimes.wav" ContentType="audio/x-wav"/>
  <Override PartName="/ppt/media/image8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C99F-A320-44E6-A338-F851EFD92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270D-01EC-43C2-B39A-679B84D5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AA42-5A75-4C85-BB58-1CC133C77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91FC-565B-410A-8DEB-CA8873AAE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CB34-132D-4CD5-99D8-129798B39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100C-1026-4E32-8DC3-FD5C6DB1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82C4-C0EF-4026-BE3D-55E90CFD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E4B4-F0D9-413A-A580-76902932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5337-79EF-4DA9-AB3C-D424AC83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1C9C-6B03-43D3-BA4C-749BA172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57E7-11BB-4ADB-BF09-96099917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6A57-A0D8-40DF-B8F5-E3939ED1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BD0F-5038-4669-8B75-0A7864E5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2526-CA5F-47BF-A83D-B097EC29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D309-EACF-41B5-94A2-99F2712C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4D64-11B5-447C-A08E-C5788961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F00B-A567-4187-B32F-77C65F43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1C6B-59B8-4A99-8CDA-C6308B2F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E7CD-81A3-464E-B983-2AD52E96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9E5E-822C-4F05-8FA5-0CEDA789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A1FC-4D06-4537-A197-BFAD6325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BF6D-FF38-48D0-99E6-B15D147D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9CB5-D39F-4A07-8060-5CC9FF1F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9A83-2BD7-402F-8225-D000DFAB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92cd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92c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2d050"/>
                </a:solidFill>
                <a:latin typeface="Century Gothic"/>
              </a:rPr>
              <a:t>Click to edit the title text format</a:t>
            </a: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5" marL="1461960" indent="-209520">
              <a:spcBef>
                <a:spcPts val="649"/>
              </a:spcBef>
              <a:buClr>
                <a:srgbClr val="0192c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6" marL="1461960" indent="-209520">
              <a:spcBef>
                <a:spcPts val="649"/>
              </a:spcBef>
              <a:buClr>
                <a:srgbClr val="0192c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c64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c64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92c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c64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C62B-24C4-4083-AC80-75B5BD275016}" type="slidenum">
              <a:rPr b="0" lang="en-US" sz="1200" spc="-1" strike="noStrike">
                <a:solidFill>
                  <a:srgbClr val="8bc64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192cd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192cd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92cd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92cd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92cd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92cd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2d050"/>
                </a:solidFill>
                <a:latin typeface="Century Gothic"/>
              </a:rPr>
              <a:t>Click to edit the title text format</a:t>
            </a: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5" marL="1461960" indent="-209520">
              <a:spcBef>
                <a:spcPts val="649"/>
              </a:spcBef>
              <a:buClr>
                <a:srgbClr val="0192c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6" marL="1461960" indent="-209520">
              <a:spcBef>
                <a:spcPts val="649"/>
              </a:spcBef>
              <a:buClr>
                <a:srgbClr val="0192c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c64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c64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92cd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c64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BADF-0B6C-4FCB-872B-106F827BECEB}" type="slidenum">
              <a:rPr b="0" lang="en-US" sz="1200" spc="-1" strike="noStrike">
                <a:solidFill>
                  <a:srgbClr val="8bc64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videos.howstuffworks.com/hsw/12476-chemistry-connections-acid-base-definitions-video.ht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Britton Peach, Cassidy Bowman, Matt Tsirnikas, Hanna Scipioni 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le 1" descr=""/>
          <p:cNvPicPr/>
          <p:nvPr/>
        </p:nvPicPr>
        <p:blipFill>
          <a:blip r:embed="rId1"/>
          <a:stretch/>
        </p:blipFill>
        <p:spPr>
          <a:xfrm>
            <a:off x="189000" y="585720"/>
            <a:ext cx="9192960" cy="871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://www.sciencecompany.com/images/phscale.gif"/>
          <p:cNvPicPr/>
          <p:nvPr/>
        </p:nvPicPr>
        <p:blipFill>
          <a:blip r:embed="rId2"/>
          <a:stretch/>
        </p:blipFill>
        <p:spPr>
          <a:xfrm>
            <a:off x="1371600" y="1523880"/>
            <a:ext cx="5486400" cy="501984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2d050"/>
                </a:solidFill>
                <a:latin typeface="Century Gothic"/>
              </a:rPr>
              <a:t>Acid/Base Video</a:t>
            </a: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80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1"/>
              </a:rPr>
              <a:t>http://videos.howstuffworks.com/hsw/12476-chemistry-connections-acid-base-definitions-video.htm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2d050"/>
                </a:solidFill>
                <a:latin typeface="Century Gothic"/>
              </a:rPr>
              <a:t>Acid/Base</a:t>
            </a: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Chemists use a number scale from 0 to 14 to describe the concentration of hydronium ions in a solution. None as the PH Scale. The pH of a solution is a measure of its hydronium ion concentration. If the pH is 7 it is neutral. 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103" name="Smiley Face 3"/>
          <p:cNvSpPr/>
          <p:nvPr/>
        </p:nvSpPr>
        <p:spPr>
          <a:xfrm>
            <a:off x="228600" y="4038480"/>
            <a:ext cx="2514600" cy="2362320"/>
          </a:xfrm>
          <a:prstGeom prst="smileyFace">
            <a:avLst>
              <a:gd name="adj" fmla="val 9282"/>
            </a:avLst>
          </a:prstGeom>
          <a:solidFill>
            <a:srgbClr val="ff388c"/>
          </a:solidFill>
          <a:ln w="11520">
            <a:solidFill>
              <a:srgbClr val="bc266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92c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2d050"/>
                </a:solidFill>
                <a:latin typeface="Century Gothic"/>
              </a:rPr>
              <a:t>Examples of Acid/Base</a:t>
            </a: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Century Gothic"/>
              </a:rPr>
              <a:t>Acid</a:t>
            </a:r>
            <a:endParaRPr b="0" lang="en-US" sz="24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Century Gothic"/>
              </a:rPr>
              <a:t>Base</a:t>
            </a:r>
            <a:endParaRPr b="0" lang="en-US" sz="24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92cd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92cd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92cd"/>
              </a:solidFill>
              <a:latin typeface="Century Gothic"/>
            </a:endParaRPr>
          </a:p>
        </p:txBody>
      </p:sp>
      <p:pic>
        <p:nvPicPr>
          <p:cNvPr id="109" name="Picture 3" descr="\\10.36.3.10\HS-Redirected\cl12peachb\Desktop\volcanomats.jpg"/>
          <p:cNvPicPr/>
          <p:nvPr/>
        </p:nvPicPr>
        <p:blipFill>
          <a:blip r:embed="rId1"/>
          <a:stretch/>
        </p:blipFill>
        <p:spPr>
          <a:xfrm>
            <a:off x="4800600" y="2895480"/>
            <a:ext cx="3732120" cy="3048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\\10.36.3.10\HS-Redirected\cl12peachb\Desktop\r.gif"/>
          <p:cNvPicPr/>
          <p:nvPr/>
        </p:nvPicPr>
        <p:blipFill>
          <a:blip r:embed="rId2"/>
          <a:stretch/>
        </p:blipFill>
        <p:spPr>
          <a:xfrm>
            <a:off x="609480" y="2895480"/>
            <a:ext cx="3638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112" name="Cloud 2" descr=""/>
          <p:cNvPicPr/>
          <p:nvPr/>
        </p:nvPicPr>
        <p:blipFill>
          <a:blip r:embed="rId2"/>
          <a:stretch/>
        </p:blipFill>
        <p:spPr>
          <a:xfrm>
            <a:off x="285840" y="2590920"/>
            <a:ext cx="4146480" cy="3833640"/>
          </a:xfrm>
          <a:prstGeom prst="rect">
            <a:avLst/>
          </a:prstGeom>
          <a:ln w="0">
            <a:noFill/>
          </a:ln>
        </p:spPr>
      </p:pic>
      <p:pic>
        <p:nvPicPr>
          <p:cNvPr id="113" name="Cloud 4" descr=""/>
          <p:cNvPicPr/>
          <p:nvPr/>
        </p:nvPicPr>
        <p:blipFill>
          <a:blip r:embed="rId3"/>
          <a:stretch/>
        </p:blipFill>
        <p:spPr>
          <a:xfrm>
            <a:off x="4651200" y="1116000"/>
            <a:ext cx="4260960" cy="4181400"/>
          </a:xfrm>
          <a:prstGeom prst="rect">
            <a:avLst/>
          </a:prstGeom>
          <a:ln w="0">
            <a:noFill/>
          </a:ln>
        </p:spPr>
      </p:pic>
      <p:sp>
        <p:nvSpPr>
          <p:cNvPr id="114" name="&quot;No&quot; Symbol 5"/>
          <p:cNvSpPr/>
          <p:nvPr/>
        </p:nvSpPr>
        <p:spPr>
          <a:xfrm>
            <a:off x="4038480" y="4724280"/>
            <a:ext cx="1905120" cy="1828800"/>
          </a:xfrm>
          <a:prstGeom prst="pie">
            <a:avLst/>
          </a:prstGeom>
          <a:solidFill>
            <a:srgbClr val="ff388c"/>
          </a:solidFill>
          <a:ln w="11520">
            <a:solidFill>
              <a:srgbClr val="bc266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92c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it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2680" cy="19018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Acid generates the (H+) in a solution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Base generates (OH-) in a solution 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itle 1" descr=""/>
          <p:cNvPicPr/>
          <p:nvPr/>
        </p:nvPicPr>
        <p:blipFill>
          <a:blip r:embed="rId1"/>
          <a:stretch/>
        </p:blipFill>
        <p:spPr>
          <a:xfrm>
            <a:off x="55440" y="1311120"/>
            <a:ext cx="8253360" cy="14385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550"/>
              </a:spcBef>
              <a:buClr>
                <a:srgbClr val="de6c36"/>
              </a:buClr>
              <a:buSzPct val="95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92cd"/>
                </a:solidFill>
                <a:latin typeface="Century Gothic"/>
              </a:rPr>
              <a:t>www.howstuffworks.com</a:t>
            </a:r>
            <a:endParaRPr b="0" lang="en-US" sz="2200" spc="-1" strike="noStrike">
              <a:solidFill>
                <a:srgbClr val="0192cd"/>
              </a:solidFill>
              <a:latin typeface="Century Gothic"/>
            </a:endParaRPr>
          </a:p>
          <a:p>
            <a:pPr>
              <a:spcBef>
                <a:spcPts val="550"/>
              </a:spcBef>
              <a:buClr>
                <a:srgbClr val="de6c36"/>
              </a:buClr>
              <a:buSzPct val="95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92cd"/>
                </a:solidFill>
                <a:latin typeface="Century Gothic"/>
              </a:rPr>
              <a:t>Physical science textbook</a:t>
            </a:r>
            <a:endParaRPr b="0" lang="en-US" sz="2200" spc="-1" strike="noStrike">
              <a:solidFill>
                <a:srgbClr val="0192cd"/>
              </a:solidFill>
              <a:latin typeface="Century Gothic"/>
            </a:endParaRPr>
          </a:p>
          <a:p>
            <a:pPr>
              <a:spcBef>
                <a:spcPts val="550"/>
              </a:spcBef>
              <a:buClr>
                <a:srgbClr val="de6c36"/>
              </a:buClr>
              <a:buSzPct val="95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92cd"/>
                </a:solidFill>
                <a:latin typeface="Century Gothic"/>
              </a:rPr>
              <a:t>www.shodor.org</a:t>
            </a:r>
            <a:endParaRPr b="0" lang="en-US" sz="2200" spc="-1" strike="noStrike">
              <a:solidFill>
                <a:srgbClr val="0192c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16:36:22Z</dcterms:created>
  <dc:creator>cl12peachb</dc:creator>
  <dc:description/>
  <dc:language>en-US</dc:language>
  <cp:lastModifiedBy>cl12peachb</cp:lastModifiedBy>
  <dcterms:modified xsi:type="dcterms:W3CDTF">2009-02-18T15:58:28Z</dcterms:modified>
  <cp:revision>12</cp:revision>
  <dc:subject/>
  <dc:title>Acid/Base</dc:title>
</cp:coreProperties>
</file>