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3E5-6160-4D15-BF1E-FDD3D644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5A4-A954-41FE-99F0-0EDC1D0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5B3-A152-4507-9385-BFC36C08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68A-4CCD-44D9-8FC8-0A4B1AF1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4C78-4D78-4DE7-9E8E-D8768D20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E06A-06FC-45C5-8256-082DAFC2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D094-E3C8-4A78-9750-A0753B3A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577A-1A82-45CE-A398-8015E3A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CFBD-21F7-4021-B76D-2DF4FD08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4CF4-3F80-4420-BE76-A7BAA76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70EE-6A1C-4179-8C3E-75249CC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3BC-5633-4FEA-AD52-02773D8C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A3AD-1FF9-4E57-937B-CEF290D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1366-9622-45ED-B351-D8A2CA7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344E-B102-41D8-A703-AE80682B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1DD-D3E7-436A-AE48-748B7BDC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A715-B254-4DE1-800A-4BC9313A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029-28DF-45EB-ABCE-CED8BD9C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E31-0545-498C-A868-5C31F8E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26B-7FEE-43C5-A274-6E69137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E2D-65A2-4F96-9386-65A14C15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552-6979-4D14-9BD0-D43DEB5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FDF-F089-4B41-A025-7F71337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066-8551-47DB-970F-D44EC54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639-9BD8-4FA0-9607-CF0349D6AC00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640A-9537-4BF8-9B5C-F6D9FA7609FD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hsw/12476-chemistry-connections-acid-base-definitions-vide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ritton Peach, Cassidy Bowman, Matt Tsirnikas, Hanna Scipioni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189000" y="585720"/>
            <a:ext cx="9192960" cy="87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sciencecompany.com/images/phscale.gif"/>
          <p:cNvPicPr/>
          <p:nvPr/>
        </p:nvPicPr>
        <p:blipFill>
          <a:blip r:embed="rId2"/>
          <a:stretch/>
        </p:blipFill>
        <p:spPr>
          <a:xfrm>
            <a:off x="1371600" y="1523880"/>
            <a:ext cx="5486400" cy="5019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 Video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videos.howstuffworks.com/hsw/12476-chemistry-connections-acid-base-definitions-video.htm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hemists use a number scale from 0 to 14 to describe the concentration of hydronium ions in a solution. None as the PH Scale. The pH of a solution is a measure of its hydronium ion concentration. If the pH is 7 it is neutral.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3" name="Smiley Face 3"/>
          <p:cNvSpPr/>
          <p:nvPr/>
        </p:nvSpPr>
        <p:spPr>
          <a:xfrm>
            <a:off x="228600" y="4038480"/>
            <a:ext cx="2514600" cy="2362320"/>
          </a:xfrm>
          <a:prstGeom prst="smileyFace">
            <a:avLst>
              <a:gd name="adj" fmla="val 9282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Examples of 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Acid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Base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pic>
        <p:nvPicPr>
          <p:cNvPr id="109" name="Picture 3" descr="\\10.36.3.10\HS-Redirected\cl12peachb\Desktop\volcanomats.jpg"/>
          <p:cNvPicPr/>
          <p:nvPr/>
        </p:nvPicPr>
        <p:blipFill>
          <a:blip r:embed="rId1"/>
          <a:stretch/>
        </p:blipFill>
        <p:spPr>
          <a:xfrm>
            <a:off x="4800600" y="2895480"/>
            <a:ext cx="373212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\\10.36.3.10\HS-Redirected\cl12peachb\Desktop\r.gif"/>
          <p:cNvPicPr/>
          <p:nvPr/>
        </p:nvPicPr>
        <p:blipFill>
          <a:blip r:embed="rId2"/>
          <a:stretch/>
        </p:blipFill>
        <p:spPr>
          <a:xfrm>
            <a:off x="609480" y="2895480"/>
            <a:ext cx="3638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12" name="Cloud 2" descr=""/>
          <p:cNvPicPr/>
          <p:nvPr/>
        </p:nvPicPr>
        <p:blipFill>
          <a:blip r:embed="rId2"/>
          <a:stretch/>
        </p:blipFill>
        <p:spPr>
          <a:xfrm>
            <a:off x="285840" y="2590920"/>
            <a:ext cx="4146480" cy="3833640"/>
          </a:xfrm>
          <a:prstGeom prst="rect">
            <a:avLst/>
          </a:prstGeom>
          <a:ln w="0">
            <a:noFill/>
          </a:ln>
        </p:spPr>
      </p:pic>
      <p:pic>
        <p:nvPicPr>
          <p:cNvPr id="113" name="Cloud 4" descr=""/>
          <p:cNvPicPr/>
          <p:nvPr/>
        </p:nvPicPr>
        <p:blipFill>
          <a:blip r:embed="rId3"/>
          <a:stretch/>
        </p:blipFill>
        <p:spPr>
          <a:xfrm>
            <a:off x="4651200" y="1116000"/>
            <a:ext cx="42609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&quot;No&quot; Symbol 5"/>
          <p:cNvSpPr/>
          <p:nvPr/>
        </p:nvSpPr>
        <p:spPr>
          <a:xfrm>
            <a:off x="4038480" y="4724280"/>
            <a:ext cx="1905120" cy="1828800"/>
          </a:xfrm>
          <a:prstGeom prst="pie">
            <a:avLst/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Acid generates the (H+) in a solution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ase generates (OH-) in a solution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howstuffworks.com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Physical science textbook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shodor.org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6:36:22Z</dcterms:created>
  <dc:creator>cl12peachb</dc:creator>
  <dc:description/>
  <dc:language>en-US</dc:language>
  <cp:lastModifiedBy>cl12peachb</cp:lastModifiedBy>
  <dcterms:modified xsi:type="dcterms:W3CDTF">2009-02-18T15:58:28Z</dcterms:modified>
  <cp:revision>12</cp:revision>
  <dc:subject/>
  <dc:title>Acid/Base</dc:title>
</cp:coreProperties>
</file>