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165-05A6-48F6-8C2B-27234A40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A1B-F1BC-450E-87F4-C94B1B9F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6AB-1181-4510-B2D5-082F6080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C1A-AC57-430F-8837-7DFAC425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8067-8E59-44AA-ADCC-59E377D7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0C59-B6C2-4AE3-BD2C-8506FE76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3644-69D9-4DDC-989C-1D5C6370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477D-227F-44C2-8558-9AD2AAA4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8AE2-5D3A-4385-B5BF-C06265FA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194D-08E9-4237-8756-2CDCFD8A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7E41-4FFF-4818-AC87-11B5218E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B93-0B4B-45E3-9F52-D5FFC969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0A5B-C32F-4D1F-8E14-58DB1FCF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8F86-191E-4D5F-BB77-033BC9C7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7CD7-2A6A-4DA3-96BB-340811CF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4BFC-B5A8-4462-9882-91168AC5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A915-B2CB-4C4B-B97F-5EFBC177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494-06C1-4D35-9129-052AA0BF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E09-CD4F-464C-B00A-ECBD078A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3C0-9642-405D-97B3-201D794B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469-3822-4DBB-8AC2-B7C1E57D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8EB-821C-44A4-A074-671A2408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95A-9527-459E-AB2E-53F98600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C21-A6F1-4962-991E-E0C52362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6B79-C8DC-47C5-AB9E-2072B4124DAC}" type="slidenum"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192cd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192cd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4EFC-BDEB-47F5-8509-DA6869D11579}" type="slidenum"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deos.howstuffworks.com/hsw/12476-chemistry-connections-acid-base-definitions-video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Britton Peach, Cassidy Bowman, Matt Tsirnikas, Hanna Scipioni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189000" y="585720"/>
            <a:ext cx="9192960" cy="871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sciencecompany.com/images/phscale.gif"/>
          <p:cNvPicPr/>
          <p:nvPr/>
        </p:nvPicPr>
        <p:blipFill>
          <a:blip r:embed="rId2"/>
          <a:stretch/>
        </p:blipFill>
        <p:spPr>
          <a:xfrm>
            <a:off x="1371600" y="1523880"/>
            <a:ext cx="5486400" cy="50198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Acid/Base Video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videos.howstuffworks.com/hsw/12476-chemistry-connections-acid-base-definitions-video.htm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Acid/Base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hemists use a number scale from 0 to 14 to describe the concentration of hydronium ions in a solution. None as the PH Scale. The pH of a solution is a measure of its hydronium ion concentration. If the pH is 7 it is neutral.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3" name="Smiley Face 3"/>
          <p:cNvSpPr/>
          <p:nvPr/>
        </p:nvSpPr>
        <p:spPr>
          <a:xfrm>
            <a:off x="228600" y="4038480"/>
            <a:ext cx="2514600" cy="2362320"/>
          </a:xfrm>
          <a:prstGeom prst="smileyFace">
            <a:avLst>
              <a:gd name="adj" fmla="val 9282"/>
            </a:avLst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Examples of Acid/Base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entury Gothic"/>
              </a:rPr>
              <a:t>Acid</a:t>
            </a:r>
            <a:endParaRPr b="0" lang="en-US" sz="24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entury Gothic"/>
              </a:rPr>
              <a:t>Base</a:t>
            </a:r>
            <a:endParaRPr b="0" lang="en-US" sz="24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  <p:pic>
        <p:nvPicPr>
          <p:cNvPr id="109" name="Picture 3" descr="\\10.36.3.10\HS-Redirected\cl12peachb\Desktop\volcanomats.jpg"/>
          <p:cNvPicPr/>
          <p:nvPr/>
        </p:nvPicPr>
        <p:blipFill>
          <a:blip r:embed="rId1"/>
          <a:stretch/>
        </p:blipFill>
        <p:spPr>
          <a:xfrm>
            <a:off x="4800600" y="2895480"/>
            <a:ext cx="373212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\\10.36.3.10\HS-Redirected\cl12peachb\Desktop\r.gif"/>
          <p:cNvPicPr/>
          <p:nvPr/>
        </p:nvPicPr>
        <p:blipFill>
          <a:blip r:embed="rId2"/>
          <a:stretch/>
        </p:blipFill>
        <p:spPr>
          <a:xfrm>
            <a:off x="609480" y="2895480"/>
            <a:ext cx="3638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112" name="Cloud 2" descr=""/>
          <p:cNvPicPr/>
          <p:nvPr/>
        </p:nvPicPr>
        <p:blipFill>
          <a:blip r:embed="rId2"/>
          <a:stretch/>
        </p:blipFill>
        <p:spPr>
          <a:xfrm>
            <a:off x="285840" y="2590920"/>
            <a:ext cx="4146480" cy="3833640"/>
          </a:xfrm>
          <a:prstGeom prst="rect">
            <a:avLst/>
          </a:prstGeom>
          <a:ln w="0">
            <a:noFill/>
          </a:ln>
        </p:spPr>
      </p:pic>
      <p:pic>
        <p:nvPicPr>
          <p:cNvPr id="113" name="Cloud 4" descr=""/>
          <p:cNvPicPr/>
          <p:nvPr/>
        </p:nvPicPr>
        <p:blipFill>
          <a:blip r:embed="rId3"/>
          <a:stretch/>
        </p:blipFill>
        <p:spPr>
          <a:xfrm>
            <a:off x="4651200" y="1116000"/>
            <a:ext cx="42609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&quot;No&quot; Symbol 5"/>
          <p:cNvSpPr/>
          <p:nvPr/>
        </p:nvSpPr>
        <p:spPr>
          <a:xfrm>
            <a:off x="4038480" y="4724280"/>
            <a:ext cx="1905120" cy="1828800"/>
          </a:xfrm>
          <a:prstGeom prst="pie">
            <a:avLst/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Acid generates the (H+) in a solution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Base generates (OH-) in a solution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www.howstuffworks.com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Physical science textbook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www.shodor.org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6:36:22Z</dcterms:created>
  <dc:creator>cl12peachb</dc:creator>
  <dc:description/>
  <dc:language>en-US</dc:language>
  <cp:lastModifiedBy>cl12peachb</cp:lastModifiedBy>
  <dcterms:modified xsi:type="dcterms:W3CDTF">2009-02-18T15:58:28Z</dcterms:modified>
  <cp:revision>12</cp:revision>
  <dc:subject/>
  <dc:title>Acid/Base</dc:title>
</cp:coreProperties>
</file>