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8467-1A5D-486B-A982-573C22B27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D209-E971-4446-8CD3-42AB0F36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621B6-C1DE-4E5C-9F85-84655ACCA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A05AA-192E-44D1-899B-04B4B763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91C86-695C-4C30-9016-C342565A5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73088-EA6B-40AD-9B83-504FD146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7FD2-C340-4C21-8E95-2FEB8EFE8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D701B-2544-4752-9898-2812A742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DAC55-CCE4-43AD-B734-9FD7B244C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6869B-13EE-42CD-8915-650C2E562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DD693-78E6-4582-9F21-DD3C2875D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09E1-344C-4283-8093-802085F7F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EF741-7051-4BCB-B3F4-C8D3E944D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359C-7CD4-4741-A8E2-26F339423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B8EEA-051F-4540-A2B7-D2F557119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E43DD-6B37-4C91-AEF7-D9B5A2911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21696-4363-4AF1-BDE7-6986A792C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1913D-3B5D-452B-B474-CF30F70427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557F2-2CE2-4E33-AE75-3621222E3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E10F1-7BBB-4615-AB30-B1ADB8E8F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B6D9F-3601-4E71-85B7-E41D0285E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E93EB-8ECB-43BD-87D1-26B9F8B56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53FF-CFBD-44C6-AA6E-E97F7039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1F503-9AD0-4AED-9E89-4C3B309E2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71960-85B0-4994-8879-9CB1E4342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CA7CE-7871-4618-A517-F27B5BB20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45F90-E105-44A1-B4E4-285F97F04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6A4B6-D4AC-43AA-841F-AEDC620A4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2B5F89-2D20-4F86-A1FA-26C3A0D50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861A0-56E9-4C74-8D9A-F6380BAE0F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A913A-EF69-4D83-8F07-D375A5C5B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C7C2C-20FE-4FBF-AB3F-1F37D7A22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4DD2DC-1008-44A1-BF8C-058E74D84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4AC2-7807-4234-936D-2E00E549D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735CC9-8EA5-4438-8806-872926A81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7F8B62-B883-4B67-9CF5-815F97498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D14E7-8037-4C22-BDAC-056A5C52A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2E905-59E9-4829-923C-3123F0D1B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AD0EB-9042-4647-BD2E-4621ED3BF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28654-636E-4896-92BE-AAAB077D5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1551F-EE55-4974-965E-3496A272F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12669C-62F3-45E8-BE39-A70060077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DB0B58-B4CE-438B-8B7A-01805BFE6D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D05ABB-A69E-4A4B-8269-AC5A2F967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EBEA-C2BB-4DF1-9A02-6F3F4F8D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F29F8-D1B7-4D2C-945C-C9EB57167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8A9BA-A363-4333-AEE1-9B73E3A23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33201-CCED-4B81-B22E-F70419DE7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38405-40E5-4E09-9CBA-21E30E77D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86984-E7BB-44BA-BAB7-B18CD0869F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C6558-9878-44A2-828F-0C91AC8C6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480E5-1610-4A2D-8B4E-97901D834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050BB-8338-411B-A091-0F444A7DA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D79C0-3753-43AC-9BCE-B5C63A1E1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A70C7-8046-490B-9ACF-D6C3CD729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4F27-371C-470C-B117-466F13DBC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EBE08-5C17-4F6F-A13D-688500783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A868BD-103A-43BB-A46D-7F2997578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38332-28A1-4D32-8873-D9FB23A26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ADE6D-4026-48F1-871C-2BB77A953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9CAED-B245-4632-8CA7-E94921CC6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0A860-3DBB-495A-8B88-92078D94E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01DEE-9FB2-451D-9EBF-FE2B6E032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E085C-460C-475F-BB10-47D4A4FF2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1CB5E-D8F7-49FC-96B9-BB331FFD3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2C039-C04C-4DC1-A4FF-B4A36D5F2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BB8DD-F6E9-4172-BB2C-347BB8AE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4F229-FD44-42FD-BC6A-17A8F961E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EAD91-9133-401F-8C7B-19995A7EFB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98073-AFDE-45BA-9BBB-EA862426D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6AA861-F88D-44F7-836E-FBA6354851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61431-638B-4FB4-8AC6-E6C10903D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4D0BD-A926-4DDF-8CE1-5DAFC12E0C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4C985-D635-4293-8122-C60D24FDA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D0D7F-7A6D-475E-B824-8238E0DAD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8579E-4557-46E4-AB28-3A0AA9656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D3B59-C6FB-4A65-B40E-C3CA2F56D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29A2-EBDC-4F2B-BF49-FE6AD9A2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9C17C-AE64-4BBA-9CF2-13FFD31F4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9B7A9-AE91-4908-A053-D5EBE7F42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6AE0FD-F022-4461-BC00-D3AEC3ADB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751B56-D020-4BCD-A9F9-81D2B05A5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CB33A1-6D61-4ABA-AC65-D523900466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49907-0FD6-4D01-BD6B-3E9D8D6B7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5109-866D-452E-B49A-2DDB05D939F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3F53-93B3-4EAE-B490-24E984A0C8DA}"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ED40-0135-4DC5-869A-B2C2DBC564D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2353-4683-4829-9EE1-E0DD0B760ADF}"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680B-DADB-4C66-92FA-B474E5D3CCF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437D-0DE3-4631-B7FC-5B423D15A044}"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2033-9FF0-4219-8847-BE351AB6C228}"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un.edu/~cpanhd/C101webnotes/chemical%20reactions/combustion.html"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Subtitle 2" descr=""/>
          <p:cNvPicPr/>
          <p:nvPr/>
        </p:nvPicPr>
        <p:blipFill>
          <a:blip r:embed="rId1"/>
          <a:stretch/>
        </p:blipFill>
        <p:spPr>
          <a:xfrm>
            <a:off x="536400" y="2127240"/>
            <a:ext cx="8174160" cy="1884240"/>
          </a:xfrm>
          <a:prstGeom prst="rect">
            <a:avLst/>
          </a:prstGeom>
          <a:ln w="0">
            <a:noFill/>
          </a:ln>
        </p:spPr>
      </p:pic>
      <p:pic>
        <p:nvPicPr>
          <p:cNvPr id="302" name="Rectangle 3" descr=""/>
          <p:cNvPicPr/>
          <p:nvPr/>
        </p:nvPicPr>
        <p:blipFill>
          <a:blip r:embed="rId2"/>
          <a:stretch/>
        </p:blipFill>
        <p:spPr>
          <a:xfrm>
            <a:off x="1212840" y="1962000"/>
            <a:ext cx="603576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3" descr=""/>
          <p:cNvPicPr/>
          <p:nvPr/>
        </p:nvPicPr>
        <p:blipFill>
          <a:blip r:embed="rId1"/>
          <a:stretch/>
        </p:blipFill>
        <p:spPr>
          <a:xfrm>
            <a:off x="2127240" y="878040"/>
            <a:ext cx="4889520" cy="1865160"/>
          </a:xfrm>
          <a:prstGeom prst="rect">
            <a:avLst/>
          </a:prstGeom>
          <a:ln w="0">
            <a:noFill/>
          </a:ln>
        </p:spPr>
      </p:pic>
      <p:pic>
        <p:nvPicPr>
          <p:cNvPr id="304" name="Rectangle 4" descr=""/>
          <p:cNvPicPr/>
          <p:nvPr/>
        </p:nvPicPr>
        <p:blipFill>
          <a:blip r:embed="rId2"/>
          <a:stretch/>
        </p:blipFill>
        <p:spPr>
          <a:xfrm>
            <a:off x="987480" y="2852640"/>
            <a:ext cx="663876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CH</a:t>
            </a:r>
            <a:r>
              <a:rPr b="0" lang="en-US" sz="3000" spc="-1" strike="noStrike" baseline="-25000">
                <a:solidFill>
                  <a:srgbClr val="ffffff"/>
                </a:solidFill>
                <a:latin typeface="Century Gothic"/>
              </a:rPr>
              <a:t>4</a:t>
            </a:r>
            <a:r>
              <a:rPr b="0" lang="en-US" sz="3000" spc="-1" strike="noStrike">
                <a:solidFill>
                  <a:srgbClr val="ffffff"/>
                </a:solidFill>
                <a:latin typeface="Century Gothic"/>
              </a:rPr>
              <a:t> + 2O</a:t>
            </a:r>
            <a:r>
              <a:rPr b="0" lang="en-US" sz="3000" spc="-1" strike="noStrike" baseline="-25000">
                <a:solidFill>
                  <a:srgbClr val="ffffff"/>
                </a:solidFill>
                <a:latin typeface="Century Gothic"/>
              </a:rPr>
              <a:t>2</a:t>
            </a:r>
            <a:r>
              <a:rPr b="0" lang="en-US" sz="3000" spc="-1" strike="noStrike">
                <a:solidFill>
                  <a:srgbClr val="ffffff"/>
                </a:solidFill>
                <a:latin typeface="Century Gothic"/>
              </a:rPr>
              <a:t>                       CO</a:t>
            </a:r>
            <a:r>
              <a:rPr b="0" lang="en-US" sz="3000" spc="-1" strike="noStrike" baseline="-25000">
                <a:solidFill>
                  <a:srgbClr val="ffffff"/>
                </a:solidFill>
                <a:latin typeface="Century Gothic"/>
              </a:rPr>
              <a:t>2</a:t>
            </a:r>
            <a:r>
              <a:rPr b="0" lang="en-US" sz="3000" spc="-1" strike="noStrike">
                <a:solidFill>
                  <a:srgbClr val="ffffff"/>
                </a:solidFill>
                <a:latin typeface="Century Gothic"/>
              </a:rPr>
              <a:t> + 2H</a:t>
            </a:r>
            <a:r>
              <a:rPr b="0" lang="en-US" sz="3000" spc="-1" strike="noStrike" baseline="-25000">
                <a:solidFill>
                  <a:srgbClr val="ffffff"/>
                </a:solidFill>
                <a:latin typeface="Century Gothic"/>
              </a:rPr>
              <a:t>2</a:t>
            </a:r>
            <a:r>
              <a:rPr b="0" lang="en-US" sz="3000" spc="-1" strike="noStrike">
                <a:solidFill>
                  <a:srgbClr val="ffffff"/>
                </a:solidFill>
                <a:latin typeface="Century Gothic"/>
              </a:rPr>
              <a:t>O</a:t>
            </a:r>
            <a:endParaRPr b="0" lang="en-US" sz="3000" spc="-1" strike="noStrike">
              <a:solidFill>
                <a:srgbClr val="ffffff"/>
              </a:solidFill>
              <a:latin typeface="Century Gothic"/>
            </a:endParaRPr>
          </a:p>
        </p:txBody>
      </p:sp>
      <p:pic>
        <p:nvPicPr>
          <p:cNvPr id="306" name="Rectangle 3" descr=""/>
          <p:cNvPicPr/>
          <p:nvPr/>
        </p:nvPicPr>
        <p:blipFill>
          <a:blip r:embed="rId1"/>
          <a:stretch/>
        </p:blipFill>
        <p:spPr>
          <a:xfrm>
            <a:off x="2693880" y="133200"/>
            <a:ext cx="3756240" cy="1098720"/>
          </a:xfrm>
          <a:prstGeom prst="rect">
            <a:avLst/>
          </a:prstGeom>
          <a:ln w="0">
            <a:noFill/>
          </a:ln>
        </p:spPr>
      </p:pic>
      <p:sp>
        <p:nvSpPr>
          <p:cNvPr id="307" name="Right Arrow 5"/>
          <p:cNvSpPr/>
          <p:nvPr/>
        </p:nvSpPr>
        <p:spPr>
          <a:xfrm>
            <a:off x="2819520" y="1981080"/>
            <a:ext cx="2057400" cy="533520"/>
          </a:xfrm>
          <a:prstGeom prst="rightArrow">
            <a:avLst>
              <a:gd name="adj1" fmla="val 50000"/>
              <a:gd name="adj2" fmla="val 4998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3" descr=""/>
          <p:cNvPicPr/>
          <p:nvPr/>
        </p:nvPicPr>
        <p:blipFill>
          <a:blip r:embed="rId1"/>
          <a:stretch/>
        </p:blipFill>
        <p:spPr>
          <a:xfrm>
            <a:off x="1079640" y="285840"/>
            <a:ext cx="6984720" cy="1098360"/>
          </a:xfrm>
          <a:prstGeom prst="rect">
            <a:avLst/>
          </a:prstGeom>
          <a:ln w="0">
            <a:noFill/>
          </a:ln>
        </p:spPr>
      </p:pic>
      <p:pic>
        <p:nvPicPr>
          <p:cNvPr id="309" name="Combustion_Reactions_.asf" descr=""/>
          <p:cNvPicPr/>
          <p:nvPr/>
        </p:nvPicPr>
        <p:blipFill>
          <a:blip r:embed="rId2"/>
          <a:stretch/>
        </p:blipFill>
        <p:spPr>
          <a:xfrm>
            <a:off x="2133720" y="1752480"/>
            <a:ext cx="56386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8285"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9"/>
                    </p:tgtEl>
                  </p:cond>
                </p:stCondLst>
                <p:childTnLst>
                  <p:par>
                    <p:cTn id="8" fill="hold">
                      <p:stCondLst>
                        <p:cond evt="onClick">
                          <p:tgtEl>
                            <p:spTgt spid="3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72260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 fuel that we use to cook our food and to heat our homes.</a:t>
            </a:r>
            <a:endParaRPr b="0" lang="en-US" sz="2600" spc="-1" strike="noStrike">
              <a:solidFill>
                <a:srgbClr val="ffffff"/>
              </a:solidFill>
              <a:latin typeface="Century Gothic"/>
            </a:endParaRPr>
          </a:p>
        </p:txBody>
      </p:sp>
      <p:pic>
        <p:nvPicPr>
          <p:cNvPr id="311" name="Content Placeholder 6" descr="fuel.jpg"/>
          <p:cNvPicPr/>
          <p:nvPr/>
        </p:nvPicPr>
        <p:blipFill>
          <a:blip r:embed="rId1"/>
          <a:stretch/>
        </p:blipFill>
        <p:spPr>
          <a:xfrm>
            <a:off x="5181480" y="1722600"/>
            <a:ext cx="3181320" cy="3763800"/>
          </a:xfrm>
          <a:prstGeom prst="rect">
            <a:avLst/>
          </a:prstGeom>
          <a:ln w="0">
            <a:noFill/>
          </a:ln>
        </p:spPr>
      </p:pic>
      <p:pic>
        <p:nvPicPr>
          <p:cNvPr id="312" name="Rectangle 5" descr=""/>
          <p:cNvPicPr/>
          <p:nvPr/>
        </p:nvPicPr>
        <p:blipFill>
          <a:blip r:embed="rId2"/>
          <a:stretch/>
        </p:blipFill>
        <p:spPr>
          <a:xfrm>
            <a:off x="1170000" y="324000"/>
            <a:ext cx="749772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6" descr="engine.jpg"/>
          <p:cNvPicPr/>
          <p:nvPr/>
        </p:nvPicPr>
        <p:blipFill>
          <a:blip r:embed="rId1"/>
          <a:stretch/>
        </p:blipFill>
        <p:spPr>
          <a:xfrm>
            <a:off x="457200" y="2590920"/>
            <a:ext cx="4038480" cy="2789280"/>
          </a:xfrm>
          <a:prstGeom prst="rect">
            <a:avLst/>
          </a:prstGeom>
          <a:ln w="0">
            <a:noFill/>
          </a:ln>
        </p:spPr>
      </p:pic>
      <p:sp>
        <p:nvSpPr>
          <p:cNvPr id="314" name=""/>
          <p:cNvSpPr txBox="1"/>
          <p:nvPr/>
        </p:nvSpPr>
        <p:spPr>
          <a:xfrm>
            <a:off x="4648320" y="175248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y can also be used to make engines in cars that we use everyda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520" y="1600200"/>
            <a:ext cx="72392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can be explained in simpler terms….</a:t>
            </a:r>
            <a:endParaRPr b="0" lang="en-US" sz="2600" spc="-1" strike="noStrike">
              <a:solidFill>
                <a:srgbClr val="ffffff"/>
              </a:solidFill>
              <a:latin typeface="Century Gothic"/>
            </a:endParaRPr>
          </a:p>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It is basically a reaction that reacts with oxygen.  We know this because we use it everyday without even knowing it.  We use it in our kitchen, cars, fireworks, and even in our science classrooms for the Bunsen burners.</a:t>
            </a:r>
            <a:endParaRPr b="0" lang="en-US" sz="2600" spc="-1" strike="noStrike">
              <a:solidFill>
                <a:srgbClr val="ffffff"/>
              </a:solidFill>
              <a:latin typeface="Century Gothic"/>
            </a:endParaRPr>
          </a:p>
        </p:txBody>
      </p:sp>
      <p:pic>
        <p:nvPicPr>
          <p:cNvPr id="316" name="Rectangle 4" descr=""/>
          <p:cNvPicPr/>
          <p:nvPr/>
        </p:nvPicPr>
        <p:blipFill>
          <a:blip r:embed="rId1"/>
          <a:stretch/>
        </p:blipFill>
        <p:spPr>
          <a:xfrm>
            <a:off x="225360" y="-212760"/>
            <a:ext cx="8345520" cy="19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hysical Science, Prentice Ha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iun.edu/~cpanhd/C101webnotes/chemical%20reactions/combustion.htm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treaming.discoveryeducation.co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4:43:50Z</dcterms:created>
  <dc:creator>cl12lopezkj</dc:creator>
  <dc:description/>
  <dc:language>en-US</dc:language>
  <cp:lastModifiedBy>cl12lopezkj</cp:lastModifiedBy>
  <dcterms:modified xsi:type="dcterms:W3CDTF">2009-02-18T14:56:09Z</dcterms:modified>
  <cp:revision>21</cp:revision>
  <dc:subject/>
  <dc:title>Slide 1</dc:title>
</cp:coreProperties>
</file>