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0948E-877C-4D3F-B492-E947F8BAD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A8FC1-CF72-4DF3-B94F-715BA977E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D4EB4-21EB-4AEA-8201-8BD334728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1F101-5D37-49A9-AD70-016442A67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BA4679-3CBD-4D3A-AE3A-A3BBDE52E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31376-25A4-485A-A7D7-1346945AC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EB232-D043-4973-A45D-357AC6150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9293B-A102-4AF0-8E5A-BDED991BC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DE39B-FF61-4373-954D-B3C6E7E6A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95385-0D87-4FBD-9C9C-F476B6403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3E086-86CF-4142-B97D-9EB399B98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7AC38-2DC4-4DBC-B900-7C9426A5D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83E8C-77AF-43DC-9455-E1A002380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25622-D49D-4CAC-8279-701072C43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20C1C-5C98-4386-BBFA-F33CFF3C9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24D9B8-858B-4FCD-871A-1DF5CC58FC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B1E82A-8B8A-4EA5-915B-5035181146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0C1044-D154-4A97-90EC-32FB5B8528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D6B945-EDD4-4040-B0F3-00F53609FF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D24726-39AA-4E9F-A21E-3ABAB1BA7B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E3B9EA-EFAB-4576-A9A6-7A874FF0F0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65FAF6-EA34-4395-AE6D-E3B896828E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E7463-C388-4BC5-BA95-908BA897E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451120-0329-4CCA-8EFE-0DFB644671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523A67-2757-48B3-B0C3-06E2BF9514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E9ACE4-E505-4CFC-9D36-222F5CDF9B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3D516D-DC4D-4638-8981-E69451B5CB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9BF0FA-6FC8-4A0E-99D2-C18B7D5A33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284CB3-8916-40B6-9D0A-3D47AB4AE8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B0388D-FBCF-4EE0-9456-7095F8E9FA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E9F968-3E64-483E-B9D4-8A6A9A7968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AFBEA0-F9AB-407C-82E9-7110C0B553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3CBE79-049A-48AA-90EB-B7BD5D825C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B405B-9B2A-468D-8834-95517A241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D0FC9C-5962-42AD-8CA8-01BE2D684C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573CCF-7B08-4C0F-A4AF-2F5C7417DA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F10073-FE51-4D89-959C-D8EF884B1F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098A13-3C1C-4F80-AA7F-87698C5382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F25478-A647-4432-ABDD-B72B05166E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336C7F-8FB4-4F9E-8EDA-881898AF64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003D20-3467-4DFA-B4B3-D425245803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9ACDCA-6D9D-4F3A-9CF9-3B120FF24B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DD77FE-B869-4CEB-A232-613566C155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69D999-D67E-432A-B25B-AA012D9A7C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5175E-1B3E-4C12-8F6D-6D6678C6E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F16A60-0194-4A1E-A95C-95A5905458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66E369-91EB-423D-9B5C-72E170367B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CCE08B-15AC-406E-A87E-A7A8DA4CD9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3C0266-C99A-4E15-822C-6684F0E868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760EA7-4E0D-46CF-B559-FF86C2B83E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F365ED-E3EC-4A7B-9952-62B143D0A3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7821D0-B508-428B-8DEE-C55A67581F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426299-5B60-42EA-A744-60C754EA5E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EE0F3C-B615-48BC-92B9-9C0694E022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980CA0-22B9-4C5F-9A6E-0581D4E2DE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05460-E7F4-42FD-822E-D266FD509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02EA40-BE59-4467-856A-4BCA492FFF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8F5A36-D121-47B8-890B-B65C52A75F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AAB6F8-3928-4B6C-A710-E31A002701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8E2B44-8FC1-4D24-B2A6-41C60C80FB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53A470-3878-4634-85A3-0E95C8F9F0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E0B9B1-C3CE-417F-AB20-358FD4CABA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1D40DC-6D59-49BD-821C-55F27CF350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512325-169C-4D39-8DBB-3324BEAB12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72A6EB-19CA-44C3-B6D3-7F4DDB9587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28CC36-241B-48F8-B807-48ABAF6F9D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48C53-5CFC-45E5-820D-A60F07DF8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1E6273-058F-44D4-9D69-657EB07F41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D466B0-69DF-48C6-8D90-226DA7E0A1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2F5F54-F974-4C07-B758-01ACE40AB4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59960F-EE70-490E-84D6-7C17DCE8CB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A3114B-08B2-4A13-B58B-CBB0EB9800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79B4D5-5D76-4240-99E3-72BEFEF4BC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CC694D-288E-4E87-96E7-BED670CBE9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2659EA-839F-4C69-AAD9-5C718D2A37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C263BD-94EA-4DF7-A47B-8472D47F20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B44170-B15B-4949-A6D4-57C9A31F02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C13DC-C87D-4D43-9EB7-CB8F33820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12D00C-3299-48A8-85B6-E643CA70AC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CC9B42-5EDC-430B-A4B5-EC52E9CF02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2282FB-366A-4C61-AE3D-F017953717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79CF88-29C3-4044-A824-D081A76665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22A1B6-2901-4686-98CF-C01EAAB796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024D3-4824-4C8B-953D-3E95C4B5A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58D0-A7A6-4D81-97D8-F1B542E40BD0}"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A46D-9D59-420E-8F49-049846933360}"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2AC4-433D-48DA-A8B6-D064C8A7FE0A}"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425D-3352-48F1-AB81-8FEA7752B5A3}"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86BB-65D4-407C-9C02-20F9E6A58200}"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6A58-313B-4EE4-A49E-2E81A459223F}"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7F65-D8E7-47ED-AFED-D578661DAE5E}"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iun.edu/~cpanhd/C101webnotes/chemical%20reactions/combustion.html" TargetMode="External"/><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Subtitle 2" descr=""/>
          <p:cNvPicPr/>
          <p:nvPr/>
        </p:nvPicPr>
        <p:blipFill>
          <a:blip r:embed="rId1"/>
          <a:stretch/>
        </p:blipFill>
        <p:spPr>
          <a:xfrm>
            <a:off x="536400" y="2127240"/>
            <a:ext cx="8174160" cy="1884240"/>
          </a:xfrm>
          <a:prstGeom prst="rect">
            <a:avLst/>
          </a:prstGeom>
          <a:ln w="0">
            <a:noFill/>
          </a:ln>
        </p:spPr>
      </p:pic>
      <p:pic>
        <p:nvPicPr>
          <p:cNvPr id="302" name="Rectangle 3" descr=""/>
          <p:cNvPicPr/>
          <p:nvPr/>
        </p:nvPicPr>
        <p:blipFill>
          <a:blip r:embed="rId2"/>
          <a:stretch/>
        </p:blipFill>
        <p:spPr>
          <a:xfrm>
            <a:off x="1212840" y="1962000"/>
            <a:ext cx="603576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Rectangle 3" descr=""/>
          <p:cNvPicPr/>
          <p:nvPr/>
        </p:nvPicPr>
        <p:blipFill>
          <a:blip r:embed="rId1"/>
          <a:stretch/>
        </p:blipFill>
        <p:spPr>
          <a:xfrm>
            <a:off x="2127240" y="878040"/>
            <a:ext cx="4889520" cy="1865160"/>
          </a:xfrm>
          <a:prstGeom prst="rect">
            <a:avLst/>
          </a:prstGeom>
          <a:ln w="0">
            <a:noFill/>
          </a:ln>
        </p:spPr>
      </p:pic>
      <p:pic>
        <p:nvPicPr>
          <p:cNvPr id="304" name="Rectangle 4" descr=""/>
          <p:cNvPicPr/>
          <p:nvPr/>
        </p:nvPicPr>
        <p:blipFill>
          <a:blip r:embed="rId2"/>
          <a:stretch/>
        </p:blipFill>
        <p:spPr>
          <a:xfrm>
            <a:off x="987480" y="2852640"/>
            <a:ext cx="6638760" cy="18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7200" y="1882800"/>
            <a:ext cx="8229600" cy="457200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CH</a:t>
            </a:r>
            <a:r>
              <a:rPr b="0" lang="en-US" sz="3000" spc="-1" strike="noStrike" baseline="-25000">
                <a:solidFill>
                  <a:srgbClr val="ffffff"/>
                </a:solidFill>
                <a:latin typeface="Century Gothic"/>
              </a:rPr>
              <a:t>4</a:t>
            </a:r>
            <a:r>
              <a:rPr b="0" lang="en-US" sz="3000" spc="-1" strike="noStrike">
                <a:solidFill>
                  <a:srgbClr val="ffffff"/>
                </a:solidFill>
                <a:latin typeface="Century Gothic"/>
              </a:rPr>
              <a:t> + 2O</a:t>
            </a:r>
            <a:r>
              <a:rPr b="0" lang="en-US" sz="3000" spc="-1" strike="noStrike" baseline="-25000">
                <a:solidFill>
                  <a:srgbClr val="ffffff"/>
                </a:solidFill>
                <a:latin typeface="Century Gothic"/>
              </a:rPr>
              <a:t>2</a:t>
            </a:r>
            <a:r>
              <a:rPr b="0" lang="en-US" sz="3000" spc="-1" strike="noStrike">
                <a:solidFill>
                  <a:srgbClr val="ffffff"/>
                </a:solidFill>
                <a:latin typeface="Century Gothic"/>
              </a:rPr>
              <a:t>                       CO</a:t>
            </a:r>
            <a:r>
              <a:rPr b="0" lang="en-US" sz="3000" spc="-1" strike="noStrike" baseline="-25000">
                <a:solidFill>
                  <a:srgbClr val="ffffff"/>
                </a:solidFill>
                <a:latin typeface="Century Gothic"/>
              </a:rPr>
              <a:t>2</a:t>
            </a:r>
            <a:r>
              <a:rPr b="0" lang="en-US" sz="3000" spc="-1" strike="noStrike">
                <a:solidFill>
                  <a:srgbClr val="ffffff"/>
                </a:solidFill>
                <a:latin typeface="Century Gothic"/>
              </a:rPr>
              <a:t> + 2H</a:t>
            </a:r>
            <a:r>
              <a:rPr b="0" lang="en-US" sz="3000" spc="-1" strike="noStrike" baseline="-25000">
                <a:solidFill>
                  <a:srgbClr val="ffffff"/>
                </a:solidFill>
                <a:latin typeface="Century Gothic"/>
              </a:rPr>
              <a:t>2</a:t>
            </a:r>
            <a:r>
              <a:rPr b="0" lang="en-US" sz="3000" spc="-1" strike="noStrike">
                <a:solidFill>
                  <a:srgbClr val="ffffff"/>
                </a:solidFill>
                <a:latin typeface="Century Gothic"/>
              </a:rPr>
              <a:t>O</a:t>
            </a:r>
            <a:endParaRPr b="0" lang="en-US" sz="3000" spc="-1" strike="noStrike">
              <a:solidFill>
                <a:srgbClr val="ffffff"/>
              </a:solidFill>
              <a:latin typeface="Century Gothic"/>
            </a:endParaRPr>
          </a:p>
        </p:txBody>
      </p:sp>
      <p:pic>
        <p:nvPicPr>
          <p:cNvPr id="306" name="Rectangle 3" descr=""/>
          <p:cNvPicPr/>
          <p:nvPr/>
        </p:nvPicPr>
        <p:blipFill>
          <a:blip r:embed="rId1"/>
          <a:stretch/>
        </p:blipFill>
        <p:spPr>
          <a:xfrm>
            <a:off x="2693880" y="133200"/>
            <a:ext cx="3756240" cy="1098720"/>
          </a:xfrm>
          <a:prstGeom prst="rect">
            <a:avLst/>
          </a:prstGeom>
          <a:ln w="0">
            <a:noFill/>
          </a:ln>
        </p:spPr>
      </p:pic>
      <p:sp>
        <p:nvSpPr>
          <p:cNvPr id="307" name="Right Arrow 5"/>
          <p:cNvSpPr/>
          <p:nvPr/>
        </p:nvSpPr>
        <p:spPr>
          <a:xfrm>
            <a:off x="2819520" y="1981080"/>
            <a:ext cx="2057400" cy="533520"/>
          </a:xfrm>
          <a:prstGeom prst="rightArrow">
            <a:avLst>
              <a:gd name="adj1" fmla="val 50000"/>
              <a:gd name="adj2" fmla="val 49989"/>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Rectangle 3" descr=""/>
          <p:cNvPicPr/>
          <p:nvPr/>
        </p:nvPicPr>
        <p:blipFill>
          <a:blip r:embed="rId1"/>
          <a:stretch/>
        </p:blipFill>
        <p:spPr>
          <a:xfrm>
            <a:off x="1079640" y="285840"/>
            <a:ext cx="6984720" cy="1098360"/>
          </a:xfrm>
          <a:prstGeom prst="rect">
            <a:avLst/>
          </a:prstGeom>
          <a:ln w="0">
            <a:noFill/>
          </a:ln>
        </p:spPr>
      </p:pic>
      <p:pic>
        <p:nvPicPr>
          <p:cNvPr id="309" name="Combustion_Reactions_.asf" descr=""/>
          <p:cNvPicPr/>
          <p:nvPr/>
        </p:nvPicPr>
        <p:blipFill>
          <a:blip r:embed="rId2"/>
          <a:stretch/>
        </p:blipFill>
        <p:spPr>
          <a:xfrm>
            <a:off x="2133720" y="1752480"/>
            <a:ext cx="563868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98285" fill="hold"/>
                                        <p:tgtEl>
                                          <p:spTgt spid="30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309"/>
                    </p:tgtEl>
                  </p:cond>
                </p:stCondLst>
                <p:childTnLst>
                  <p:par>
                    <p:cTn id="8" fill="hold">
                      <p:stCondLst>
                        <p:cond evt="onClick">
                          <p:tgtEl>
                            <p:spTgt spid="309"/>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3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1722600"/>
            <a:ext cx="4038480" cy="4525920"/>
          </a:xfrm>
          <a:prstGeom prst="rect">
            <a:avLst/>
          </a:prstGeom>
          <a:noFill/>
          <a:ln w="0">
            <a:noFill/>
          </a:ln>
        </p:spPr>
        <p:txBody>
          <a:bodyPr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  </a:t>
            </a:r>
            <a:r>
              <a:rPr b="0" lang="en-US" sz="2600" spc="-1" strike="noStrike">
                <a:solidFill>
                  <a:srgbClr val="ffffff"/>
                </a:solidFill>
                <a:latin typeface="Century Gothic"/>
              </a:rPr>
              <a:t>The fuel that we use to cook our food and to heat our homes.</a:t>
            </a:r>
            <a:endParaRPr b="0" lang="en-US" sz="2600" spc="-1" strike="noStrike">
              <a:solidFill>
                <a:srgbClr val="ffffff"/>
              </a:solidFill>
              <a:latin typeface="Century Gothic"/>
            </a:endParaRPr>
          </a:p>
        </p:txBody>
      </p:sp>
      <p:pic>
        <p:nvPicPr>
          <p:cNvPr id="311" name="Content Placeholder 6" descr="fuel.jpg"/>
          <p:cNvPicPr/>
          <p:nvPr/>
        </p:nvPicPr>
        <p:blipFill>
          <a:blip r:embed="rId1"/>
          <a:stretch/>
        </p:blipFill>
        <p:spPr>
          <a:xfrm>
            <a:off x="5181480" y="1722600"/>
            <a:ext cx="3181320" cy="3763800"/>
          </a:xfrm>
          <a:prstGeom prst="rect">
            <a:avLst/>
          </a:prstGeom>
          <a:ln w="0">
            <a:noFill/>
          </a:ln>
        </p:spPr>
      </p:pic>
      <p:pic>
        <p:nvPicPr>
          <p:cNvPr id="312" name="Rectangle 5" descr=""/>
          <p:cNvPicPr/>
          <p:nvPr/>
        </p:nvPicPr>
        <p:blipFill>
          <a:blip r:embed="rId2"/>
          <a:stretch/>
        </p:blipFill>
        <p:spPr>
          <a:xfrm>
            <a:off x="1170000" y="324000"/>
            <a:ext cx="7497720" cy="113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Content Placeholder 6" descr="engine.jpg"/>
          <p:cNvPicPr/>
          <p:nvPr/>
        </p:nvPicPr>
        <p:blipFill>
          <a:blip r:embed="rId1"/>
          <a:stretch/>
        </p:blipFill>
        <p:spPr>
          <a:xfrm>
            <a:off x="457200" y="2590920"/>
            <a:ext cx="4038480" cy="2789280"/>
          </a:xfrm>
          <a:prstGeom prst="rect">
            <a:avLst/>
          </a:prstGeom>
          <a:ln w="0">
            <a:noFill/>
          </a:ln>
        </p:spPr>
      </p:pic>
      <p:sp>
        <p:nvSpPr>
          <p:cNvPr id="314" name=""/>
          <p:cNvSpPr txBox="1"/>
          <p:nvPr/>
        </p:nvSpPr>
        <p:spPr>
          <a:xfrm>
            <a:off x="4648320" y="1752480"/>
            <a:ext cx="4038480" cy="4525920"/>
          </a:xfrm>
          <a:prstGeom prst="rect">
            <a:avLst/>
          </a:prstGeom>
          <a:noFill/>
          <a:ln w="0">
            <a:noFill/>
          </a:ln>
        </p:spPr>
        <p:txBody>
          <a:bodyPr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   </a:t>
            </a:r>
            <a:r>
              <a:rPr b="0" lang="en-US" sz="2600" spc="-1" strike="noStrike">
                <a:solidFill>
                  <a:srgbClr val="ffffff"/>
                </a:solidFill>
                <a:latin typeface="Century Gothic"/>
              </a:rPr>
              <a:t>They can also be used to make engines in cars that we use everyday.</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0520" y="1600200"/>
            <a:ext cx="7239240" cy="4525920"/>
          </a:xfrm>
          <a:prstGeom prst="rect">
            <a:avLst/>
          </a:prstGeom>
          <a:noFill/>
          <a:ln w="0">
            <a:noFill/>
          </a:ln>
        </p:spPr>
        <p:txBody>
          <a:bodyPr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It can be explained in simpler terms….</a:t>
            </a:r>
            <a:endParaRPr b="0" lang="en-US" sz="2600" spc="-1" strike="noStrike">
              <a:solidFill>
                <a:srgbClr val="ffffff"/>
              </a:solidFill>
              <a:latin typeface="Century Gothic"/>
            </a:endParaRPr>
          </a:p>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	</a:t>
            </a:r>
            <a:r>
              <a:rPr b="0" lang="en-US" sz="2600" spc="-1" strike="noStrike">
                <a:solidFill>
                  <a:srgbClr val="ffffff"/>
                </a:solidFill>
                <a:latin typeface="Century Gothic"/>
              </a:rPr>
              <a:t>It is basically a reaction that reacts with oxygen.  We know this because we use it everyday without even knowing it.  We use it in our kitchen, cars, fireworks, and even in our science classrooms for the Bunsen burners.</a:t>
            </a:r>
            <a:endParaRPr b="0" lang="en-US" sz="2600" spc="-1" strike="noStrike">
              <a:solidFill>
                <a:srgbClr val="ffffff"/>
              </a:solidFill>
              <a:latin typeface="Century Gothic"/>
            </a:endParaRPr>
          </a:p>
        </p:txBody>
      </p:sp>
      <p:pic>
        <p:nvPicPr>
          <p:cNvPr id="316" name="Rectangle 4" descr=""/>
          <p:cNvPicPr/>
          <p:nvPr/>
        </p:nvPicPr>
        <p:blipFill>
          <a:blip r:embed="rId1"/>
          <a:stretch/>
        </p:blipFill>
        <p:spPr>
          <a:xfrm>
            <a:off x="225360" y="-212760"/>
            <a:ext cx="8345520" cy="197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450720" y="262080"/>
            <a:ext cx="8242560" cy="1407960"/>
          </a:xfrm>
          <a:prstGeom prst="rect">
            <a:avLst/>
          </a:prstGeom>
          <a:ln w="0">
            <a:noFill/>
          </a:ln>
        </p:spPr>
      </p:pic>
      <p:sp>
        <p:nvSpPr>
          <p:cNvPr id="318" name=""/>
          <p:cNvSpPr txBox="1"/>
          <p:nvPr/>
        </p:nvSpPr>
        <p:spPr>
          <a:xfrm>
            <a:off x="457200" y="1882800"/>
            <a:ext cx="8229600" cy="457200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Physical Science, Prentice Hall</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2"/>
              </a:rPr>
              <a:t>http://www.iun.edu/~cpanhd/C101webnotes/chemical%20reactions/combustion.html</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ttp://streaming.discoveryeducation.com/</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14:43:50Z</dcterms:created>
  <dc:creator>cl12lopezkj</dc:creator>
  <dc:description/>
  <dc:language>en-US</dc:language>
  <cp:lastModifiedBy>cl12lopezkj</cp:lastModifiedBy>
  <dcterms:modified xsi:type="dcterms:W3CDTF">2009-02-18T14:56:09Z</dcterms:modified>
  <cp:revision>21</cp:revision>
  <dc:subject/>
  <dc:title>Slide 1</dc:title>
</cp:coreProperties>
</file>