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33DF2-5884-476C-977B-38E7A3E4A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35FED-E6C1-401E-AFF3-CE395C89E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B09FE-94AF-434C-8F24-26A1DC044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B9AB2-1261-4CEF-8CA3-B3D507921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0091D-345D-461C-A0FB-6758151E8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6BB73-BA2F-4D80-8593-9024EF203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27E74-8607-4506-ADBE-5B3EEAE5C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B1ACE-9301-4BD9-90A4-E3729E034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9357C-B4A9-4A8F-B5D3-E572D9F3A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3816D-F95A-4707-A386-C1B0D01A5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51C3F-5C1F-4ED7-873E-21B9520C9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B90D4-B8D8-4905-AC36-3B566C495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0C7D5-D18A-402D-8EE5-EAA41E405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89AA1-52C8-407B-B951-E3323929A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02F05-4EB9-469B-A87C-A8B63255E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9EE94A-077B-4447-BA78-33A7EEA5C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D642E-249C-4364-BE58-2AB064D46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83166A-E99C-4B5E-A765-CF4F509754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2BA5D0-8290-4FBB-B3C2-616305C8A0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35088C-E31D-4826-B428-8FBD45B756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5ACC0F-189D-4BD9-99F2-C0A138F08B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27B34C-0882-41F4-AABD-CD082E7687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7C3EB-AB32-43D4-B821-72B486D27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9E91F0-368C-4AC6-8436-1EBB99A701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99F3C4-CC99-4E75-80DB-EFDEF4C3E3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13BF5-32D4-4BCD-90D2-0F0E0A537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C75CF6-9A8C-469F-A3C0-17BDC28E2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9A9EBF-D6FF-4585-B44E-1BFF6DB44A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761B4D-623A-4B64-ACE2-98DAA7CE3F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9BAE69-EA72-4AF6-A9F3-34ED073FF6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88C552-CEEE-4F19-B0F4-1E1845B6F4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FE4008-FF92-42AB-B96B-E1AFD9EAAD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B1D0E7-B0D7-4E94-A996-388F90F0F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0379B-B0BF-4615-B0D4-2168A0A12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96CEEC-C265-4741-8B4E-26FE500DA9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FC8593-6AE2-4BDA-87F0-A355B08218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401D60-A6EC-4352-86F4-8C4F404BD4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26C135-CF64-46EE-9B0A-50886683C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C50237-5A65-46CE-B788-6F3F025A5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1146A8-8BF4-415E-81E9-EC266CFBE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E347FB-E5C9-49DF-B4AB-DD1CEC5E57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405739-F150-4187-A2DC-E914E5DFA7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83F465-650F-4F37-AF8E-D81AECA94F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3B6AF0-602B-4016-A7A2-2DD9A2292D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A8136-9E9F-4276-9749-78F91D600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BA2EF9-ED65-4383-8A2C-45BC363917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5EDF8A-C7FB-47F5-A44C-FB96D7CEBF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8DED0C-D9C6-498F-9045-D579EA607F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4E8D5E-E622-4D13-8EF7-34AC3882D9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7415F3-F7AB-4E54-93EE-5F9DB6A38E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BEFBA7-3948-4171-88F8-E2A28F914C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FB4BEB-0F6B-4364-A249-4F8C4855A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036B3B-50DF-47A7-AADA-39484A74CD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290D4F-B23E-4DDD-ABCB-EC847A7DA4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B3EF2E-B9D2-4170-9758-7DB8970EB3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032FA-90D5-4D4A-A7B1-CD244DA6D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5AEFFB-0E05-4FEA-8222-759E8626D1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BDF748-AC52-46E7-95E9-C849B7858C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45BA6E-4071-4F79-AF09-2F390A3BD9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A4691A-A75B-4E46-8974-257F08AEC9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53A4C5-8BD4-454D-B18E-3ED572D14D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1F9745-EA13-4663-AC2B-F2EF5E7671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EA35A4-0F7F-4F6D-876F-A885E1EA89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455726-215E-4862-B000-269519E7D5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757A2-5821-4C21-BDE6-B87D226708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B6E6A7-359E-42C8-B0DE-A53782C4FE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AC743-8FDE-41DF-A3F9-94E1EA049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81A6A7-EB1E-45C6-A53D-3FDFDB857E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428DA1-F662-408F-94F6-1DAC373E11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0C7319-FD50-42BE-A31A-B81F677A69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7844A8-E818-48BB-90A3-E29263A526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1DF886-1C48-4434-93D8-DA3DE32E6D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7E8E82-CADD-4CB1-B15B-CCCFBC0B8D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E2160A-50F9-49FD-90E9-B63A0A6D68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991092-D3B4-4A6E-91B7-DF16CA932F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732FE1-3918-4701-9BDF-2CF260F2E2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B37996-F95B-4F4A-80CA-0386F61D40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945AC-5C04-4DAC-B420-B9576C055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727576-DE1D-4991-AB9A-917DAB2375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E5CC91-CD16-422A-B0B1-EFA6FA379B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F06598-69A8-4F7E-9856-DC6A72547B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A5F6E0-2C84-4552-BA11-D30610C4FF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9B6585-D24D-4164-B68A-BD70C1BFD3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D9F4C-0A6A-4696-9466-BB2A7CBE7E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2E7A-478E-444E-9B45-5452A285834C}"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B2197-D187-44EF-81D3-CEE5F418F7C1}"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7A85-E37F-42F8-A114-7303BB021CF5}"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978C-1AC3-4860-A2E0-DA7E77A7AFD7}"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D0E5-55F5-4DB8-8753-9C420F968B6F}"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8379-3188-42DB-B1AC-D55E263AE5B0}"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2F99-0386-4E67-8ABE-C9B78FB1BD05}"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iun.edu/~cpanhd/C101webnotes/chemical%20reactions/combustion.html" TargetMode="Externa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Subtitle 2" descr=""/>
          <p:cNvPicPr/>
          <p:nvPr/>
        </p:nvPicPr>
        <p:blipFill>
          <a:blip r:embed="rId1"/>
          <a:stretch/>
        </p:blipFill>
        <p:spPr>
          <a:xfrm>
            <a:off x="536400" y="2127240"/>
            <a:ext cx="8174160" cy="1884240"/>
          </a:xfrm>
          <a:prstGeom prst="rect">
            <a:avLst/>
          </a:prstGeom>
          <a:ln w="0">
            <a:noFill/>
          </a:ln>
        </p:spPr>
      </p:pic>
      <p:pic>
        <p:nvPicPr>
          <p:cNvPr id="302" name="Rectangle 3" descr=""/>
          <p:cNvPicPr/>
          <p:nvPr/>
        </p:nvPicPr>
        <p:blipFill>
          <a:blip r:embed="rId2"/>
          <a:stretch/>
        </p:blipFill>
        <p:spPr>
          <a:xfrm>
            <a:off x="1212840" y="1962000"/>
            <a:ext cx="603576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ectangle 3" descr=""/>
          <p:cNvPicPr/>
          <p:nvPr/>
        </p:nvPicPr>
        <p:blipFill>
          <a:blip r:embed="rId1"/>
          <a:stretch/>
        </p:blipFill>
        <p:spPr>
          <a:xfrm>
            <a:off x="2127240" y="878040"/>
            <a:ext cx="4889520" cy="1865160"/>
          </a:xfrm>
          <a:prstGeom prst="rect">
            <a:avLst/>
          </a:prstGeom>
          <a:ln w="0">
            <a:noFill/>
          </a:ln>
        </p:spPr>
      </p:pic>
      <p:pic>
        <p:nvPicPr>
          <p:cNvPr id="304" name="Rectangle 4" descr=""/>
          <p:cNvPicPr/>
          <p:nvPr/>
        </p:nvPicPr>
        <p:blipFill>
          <a:blip r:embed="rId2"/>
          <a:stretch/>
        </p:blipFill>
        <p:spPr>
          <a:xfrm>
            <a:off x="987480" y="2852640"/>
            <a:ext cx="6638760" cy="18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1882800"/>
            <a:ext cx="8229600" cy="45720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CH</a:t>
            </a:r>
            <a:r>
              <a:rPr b="0" lang="en-US" sz="3000" spc="-1" strike="noStrike" baseline="-25000">
                <a:solidFill>
                  <a:srgbClr val="ffffff"/>
                </a:solidFill>
                <a:latin typeface="Century Gothic"/>
              </a:rPr>
              <a:t>4</a:t>
            </a:r>
            <a:r>
              <a:rPr b="0" lang="en-US" sz="3000" spc="-1" strike="noStrike">
                <a:solidFill>
                  <a:srgbClr val="ffffff"/>
                </a:solidFill>
                <a:latin typeface="Century Gothic"/>
              </a:rPr>
              <a:t> + 2O</a:t>
            </a:r>
            <a:r>
              <a:rPr b="0" lang="en-US" sz="3000" spc="-1" strike="noStrike" baseline="-25000">
                <a:solidFill>
                  <a:srgbClr val="ffffff"/>
                </a:solidFill>
                <a:latin typeface="Century Gothic"/>
              </a:rPr>
              <a:t>2</a:t>
            </a:r>
            <a:r>
              <a:rPr b="0" lang="en-US" sz="3000" spc="-1" strike="noStrike">
                <a:solidFill>
                  <a:srgbClr val="ffffff"/>
                </a:solidFill>
                <a:latin typeface="Century Gothic"/>
              </a:rPr>
              <a:t>                       CO</a:t>
            </a:r>
            <a:r>
              <a:rPr b="0" lang="en-US" sz="3000" spc="-1" strike="noStrike" baseline="-25000">
                <a:solidFill>
                  <a:srgbClr val="ffffff"/>
                </a:solidFill>
                <a:latin typeface="Century Gothic"/>
              </a:rPr>
              <a:t>2</a:t>
            </a:r>
            <a:r>
              <a:rPr b="0" lang="en-US" sz="3000" spc="-1" strike="noStrike">
                <a:solidFill>
                  <a:srgbClr val="ffffff"/>
                </a:solidFill>
                <a:latin typeface="Century Gothic"/>
              </a:rPr>
              <a:t> + 2H</a:t>
            </a:r>
            <a:r>
              <a:rPr b="0" lang="en-US" sz="3000" spc="-1" strike="noStrike" baseline="-25000">
                <a:solidFill>
                  <a:srgbClr val="ffffff"/>
                </a:solidFill>
                <a:latin typeface="Century Gothic"/>
              </a:rPr>
              <a:t>2</a:t>
            </a:r>
            <a:r>
              <a:rPr b="0" lang="en-US" sz="3000" spc="-1" strike="noStrike">
                <a:solidFill>
                  <a:srgbClr val="ffffff"/>
                </a:solidFill>
                <a:latin typeface="Century Gothic"/>
              </a:rPr>
              <a:t>O</a:t>
            </a:r>
            <a:endParaRPr b="0" lang="en-US" sz="3000" spc="-1" strike="noStrike">
              <a:solidFill>
                <a:srgbClr val="ffffff"/>
              </a:solidFill>
              <a:latin typeface="Century Gothic"/>
            </a:endParaRPr>
          </a:p>
        </p:txBody>
      </p:sp>
      <p:pic>
        <p:nvPicPr>
          <p:cNvPr id="306" name="Rectangle 3" descr=""/>
          <p:cNvPicPr/>
          <p:nvPr/>
        </p:nvPicPr>
        <p:blipFill>
          <a:blip r:embed="rId1"/>
          <a:stretch/>
        </p:blipFill>
        <p:spPr>
          <a:xfrm>
            <a:off x="2693880" y="133200"/>
            <a:ext cx="3756240" cy="1098720"/>
          </a:xfrm>
          <a:prstGeom prst="rect">
            <a:avLst/>
          </a:prstGeom>
          <a:ln w="0">
            <a:noFill/>
          </a:ln>
        </p:spPr>
      </p:pic>
      <p:sp>
        <p:nvSpPr>
          <p:cNvPr id="307" name="Right Arrow 5"/>
          <p:cNvSpPr/>
          <p:nvPr/>
        </p:nvSpPr>
        <p:spPr>
          <a:xfrm>
            <a:off x="2819520" y="1981080"/>
            <a:ext cx="2057400" cy="533520"/>
          </a:xfrm>
          <a:prstGeom prst="rightArrow">
            <a:avLst>
              <a:gd name="adj1" fmla="val 50000"/>
              <a:gd name="adj2" fmla="val 49989"/>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3" descr=""/>
          <p:cNvPicPr/>
          <p:nvPr/>
        </p:nvPicPr>
        <p:blipFill>
          <a:blip r:embed="rId1"/>
          <a:stretch/>
        </p:blipFill>
        <p:spPr>
          <a:xfrm>
            <a:off x="1079640" y="285840"/>
            <a:ext cx="6984720" cy="1098360"/>
          </a:xfrm>
          <a:prstGeom prst="rect">
            <a:avLst/>
          </a:prstGeom>
          <a:ln w="0">
            <a:noFill/>
          </a:ln>
        </p:spPr>
      </p:pic>
      <p:pic>
        <p:nvPicPr>
          <p:cNvPr id="309" name="Combustion_Reactions_.asf" descr=""/>
          <p:cNvPicPr/>
          <p:nvPr/>
        </p:nvPicPr>
        <p:blipFill>
          <a:blip r:embed="rId2"/>
          <a:stretch/>
        </p:blipFill>
        <p:spPr>
          <a:xfrm>
            <a:off x="2133720" y="1752480"/>
            <a:ext cx="56386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98285"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09"/>
                    </p:tgtEl>
                  </p:cond>
                </p:stCondLst>
                <p:childTnLst>
                  <p:par>
                    <p:cTn id="8" fill="hold">
                      <p:stCondLst>
                        <p:cond evt="onClick">
                          <p:tgtEl>
                            <p:spTgt spid="30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1722600"/>
            <a:ext cx="4038480" cy="45259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r>
              <a:rPr b="0" lang="en-US" sz="2600" spc="-1" strike="noStrike">
                <a:solidFill>
                  <a:srgbClr val="ffffff"/>
                </a:solidFill>
                <a:latin typeface="Century Gothic"/>
              </a:rPr>
              <a:t>The fuel that we use to cook our food and to heat our homes.</a:t>
            </a:r>
            <a:endParaRPr b="0" lang="en-US" sz="2600" spc="-1" strike="noStrike">
              <a:solidFill>
                <a:srgbClr val="ffffff"/>
              </a:solidFill>
              <a:latin typeface="Century Gothic"/>
            </a:endParaRPr>
          </a:p>
        </p:txBody>
      </p:sp>
      <p:pic>
        <p:nvPicPr>
          <p:cNvPr id="311" name="Content Placeholder 6" descr="fuel.jpg"/>
          <p:cNvPicPr/>
          <p:nvPr/>
        </p:nvPicPr>
        <p:blipFill>
          <a:blip r:embed="rId1"/>
          <a:stretch/>
        </p:blipFill>
        <p:spPr>
          <a:xfrm>
            <a:off x="5181480" y="1722600"/>
            <a:ext cx="3181320" cy="3763800"/>
          </a:xfrm>
          <a:prstGeom prst="rect">
            <a:avLst/>
          </a:prstGeom>
          <a:ln w="0">
            <a:noFill/>
          </a:ln>
        </p:spPr>
      </p:pic>
      <p:pic>
        <p:nvPicPr>
          <p:cNvPr id="312" name="Rectangle 5" descr=""/>
          <p:cNvPicPr/>
          <p:nvPr/>
        </p:nvPicPr>
        <p:blipFill>
          <a:blip r:embed="rId2"/>
          <a:stretch/>
        </p:blipFill>
        <p:spPr>
          <a:xfrm>
            <a:off x="1170000" y="324000"/>
            <a:ext cx="7497720" cy="113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Content Placeholder 6" descr="engine.jpg"/>
          <p:cNvPicPr/>
          <p:nvPr/>
        </p:nvPicPr>
        <p:blipFill>
          <a:blip r:embed="rId1"/>
          <a:stretch/>
        </p:blipFill>
        <p:spPr>
          <a:xfrm>
            <a:off x="457200" y="2590920"/>
            <a:ext cx="4038480" cy="2789280"/>
          </a:xfrm>
          <a:prstGeom prst="rect">
            <a:avLst/>
          </a:prstGeom>
          <a:ln w="0">
            <a:noFill/>
          </a:ln>
        </p:spPr>
      </p:pic>
      <p:sp>
        <p:nvSpPr>
          <p:cNvPr id="314" name=""/>
          <p:cNvSpPr txBox="1"/>
          <p:nvPr/>
        </p:nvSpPr>
        <p:spPr>
          <a:xfrm>
            <a:off x="4648320" y="1752480"/>
            <a:ext cx="4038480" cy="45259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r>
              <a:rPr b="0" lang="en-US" sz="2600" spc="-1" strike="noStrike">
                <a:solidFill>
                  <a:srgbClr val="ffffff"/>
                </a:solidFill>
                <a:latin typeface="Century Gothic"/>
              </a:rPr>
              <a:t>They can also be used to make engines in cars that we use everyday.</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0520" y="1600200"/>
            <a:ext cx="7239240" cy="45259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It can be explained in simpler terms….</a:t>
            </a:r>
            <a:endParaRPr b="0" lang="en-US" sz="2600" spc="-1" strike="noStrike">
              <a:solidFill>
                <a:srgbClr val="ffffff"/>
              </a:solidFill>
              <a:latin typeface="Century Gothic"/>
            </a:endParaRPr>
          </a:p>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r>
              <a:rPr b="0" lang="en-US" sz="2600" spc="-1" strike="noStrike">
                <a:solidFill>
                  <a:srgbClr val="ffffff"/>
                </a:solidFill>
                <a:latin typeface="Century Gothic"/>
              </a:rPr>
              <a:t>It is basically a reaction that reacts with oxygen.  We know this because we use it everyday without even knowing it.  We use it in our kitchen, cars, fireworks, and even in our science classrooms for the Bunsen burners.</a:t>
            </a:r>
            <a:endParaRPr b="0" lang="en-US" sz="2600" spc="-1" strike="noStrike">
              <a:solidFill>
                <a:srgbClr val="ffffff"/>
              </a:solidFill>
              <a:latin typeface="Century Gothic"/>
            </a:endParaRPr>
          </a:p>
        </p:txBody>
      </p:sp>
      <p:pic>
        <p:nvPicPr>
          <p:cNvPr id="316" name="Rectangle 4" descr=""/>
          <p:cNvPicPr/>
          <p:nvPr/>
        </p:nvPicPr>
        <p:blipFill>
          <a:blip r:embed="rId1"/>
          <a:stretch/>
        </p:blipFill>
        <p:spPr>
          <a:xfrm>
            <a:off x="225360" y="-212760"/>
            <a:ext cx="8345520" cy="197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450720" y="262080"/>
            <a:ext cx="8242560" cy="1407960"/>
          </a:xfrm>
          <a:prstGeom prst="rect">
            <a:avLst/>
          </a:prstGeom>
          <a:ln w="0">
            <a:noFill/>
          </a:ln>
        </p:spPr>
      </p:pic>
      <p:sp>
        <p:nvSpPr>
          <p:cNvPr id="318" name=""/>
          <p:cNvSpPr txBox="1"/>
          <p:nvPr/>
        </p:nvSpPr>
        <p:spPr>
          <a:xfrm>
            <a:off x="457200" y="1882800"/>
            <a:ext cx="8229600" cy="45720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hysical Science, Prentice Hall</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rPr>
              <a:t>http://www.iun.edu/~cpanhd/C101webnotes/chemical%20reactions/combustion.html</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streaming.discoveryeducation.com/</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14:43:50Z</dcterms:created>
  <dc:creator>cl12lopezkj</dc:creator>
  <dc:description/>
  <dc:language>en-US</dc:language>
  <cp:lastModifiedBy>cl12lopezkj</cp:lastModifiedBy>
  <dcterms:modified xsi:type="dcterms:W3CDTF">2009-02-18T14:56:09Z</dcterms:modified>
  <cp:revision>21</cp:revision>
  <dc:subject/>
  <dc:title>Slide 1</dc:title>
</cp:coreProperties>
</file>