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1066-35D9-42B4-8BB7-DBFF81BD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121-3653-403F-8F23-0BB0E1B1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17116-B5FA-4856-9A8C-1787FF8A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A7A59-8BB0-47FC-8E86-BD6A7847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F98CE-3B15-48F6-9333-5FF18B29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223DD-F5A4-4B14-B591-B6DAAEEF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716CD-2DE5-4677-A856-A8B3DF61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BBAB3-3530-42F5-9A51-B044D3FA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A0F97-399D-4AE6-8ADA-174A4E52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76A17-9141-41FC-9380-74C10EF0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2E33D-52D8-42B4-A6BC-FC6446E0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45E20-4632-49BF-92BA-9EE8C555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FA6-DE18-467F-9EDB-087CC345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FFED8-A763-494A-A5C1-5D6498F3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8EDAB-698D-4D58-A5EC-15601241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D4696-5227-4149-9EAD-D5E4435A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83112-6C7F-4854-A873-471AF335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A6879-D3F2-4B97-B4FF-4B1EAA00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832F7-6433-417C-815B-05AB3394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5A998-547F-49E1-A090-1D596D04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39103-3491-4DC6-AA16-580E130D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DD25D-3AE9-4ACD-9004-CE733236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E439B-F147-4CB4-9501-1A10982F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F6D-4A7F-4CA5-BA14-7D979A57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0B387-3C12-4FE0-86E7-95E6E6C2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5B64-8337-42C6-9EB2-1C0AAECF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49C7-5F13-4C88-9999-BEB9F0EA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9E8A-2914-4285-9017-D403A709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524A-9A3F-4D36-B7B3-C57FE312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DDF6-B66B-4149-BB25-344849A2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1C44-9779-44D2-A545-A969C0F8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255F-D661-47EC-9D79-FFBEE8E1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EEA-39FB-4241-9051-B00FFADF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2882-C6FA-485F-98F9-69E57302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0791-5FE6-4010-A90F-1E3FCFCD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4D4D-8AE9-4A74-9A98-54FFCC8A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5472-C7CA-46E7-890B-3B1AC1BA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2BE7-DD8F-4C91-A351-AD7988C7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0600C-463C-4CCB-B251-999CD05D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61155-3E79-46C7-8B48-38D6D455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CC356-0062-401D-B5BD-31F4DF27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A1DCF-C4F5-4E99-9C50-345144D0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E0AFE-8039-47D5-91C3-9F8DF0CC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088-C176-405C-8870-29BF3B00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B0B2-9D22-4CDC-A57F-970D2340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8595C-2920-4813-AD74-C5603A3D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89D09-8D9B-4B56-837A-0D22B150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4325-1BB3-41CB-AFFE-87326DBB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D6345-618A-475F-9C79-ED015DBB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AB14E-F6C9-4339-9F69-C2B06CA3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0A4E7-BF64-401F-AF73-13DBF5EA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60601-799A-4BE4-9CC8-8144CBDD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C34C4-BA4A-4654-AAC9-421E988D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1C546-DFCF-4EEB-A89F-A851D9E9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965-8EEC-462F-8786-DC62F446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74A0B-FC48-4CD5-BC04-D1977899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07756-808F-4D0A-A032-81548A32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0CC82-285C-4AFC-B4F7-3A75FDB2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0B391-84D3-470C-A00C-6B554FB9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2C268-CE22-4B66-BA9C-0AE127D1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7F596-301A-4F63-8FEA-A558115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7CF6B-3B85-416E-BB88-98CAA2DA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2325B-A31F-4166-888B-C48C80EA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50469-A77A-4680-8D7F-BE4F0DAF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18074-6AB2-4196-AB08-70AE2B63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EAE-96D2-4145-8806-62877C62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44B6D-48F8-4E6F-B37E-11C73F2A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78C9B-D46C-4951-BA05-AA6B5970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DAB3A-DE2B-475B-AACA-F77006B8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E6AD7-DC9D-4E6E-A22D-AA52EFB7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54836-AC74-4FF5-82CF-6D991C84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432DB-5BCE-4529-91D6-7CBB8A9A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92E0E-5EAE-413E-8D2E-8F2DAF7B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257E9-6792-40A6-B657-8487B6CB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EC16C-F9FE-4CAD-9DA6-FB160568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BE233-94F8-4356-AB00-CDF07766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618-DCC8-4271-9A81-64A9B8C3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272CF-9354-4A8E-986D-15FD751D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D33DF-10C9-4B57-9F13-129031B8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52F93-C127-4BFD-8322-F35456B0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20B03-A3B7-4009-A8B9-B6155304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9BABD-27BD-444B-9744-52605F36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CB57D-8C2F-4C3F-8BDE-0099E55E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FD540-6B2B-469E-BA37-CF027364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159B4-5E1F-4757-81E8-F0D24263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86780-56C9-4296-B3E3-38595351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67087-23B8-45CB-BE38-8DCE1B9C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513-1A02-49EA-870D-65AF84FF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4B428-F692-4EC3-8F4A-84B663BE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CE3B8-6C88-402D-8644-8472A504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DF6D3-A79E-4AD9-84EB-16EDA5DC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BC951-49F4-486C-AB0B-1A91262C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71BA8-4DCA-4CF8-8B4F-DD7A0E15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31BE6-7190-4DA8-B99F-69DFAAA0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487D7-A1F7-452B-A84D-4E5E23A2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9C76F-4540-4E43-99BD-08EF16DE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06E7D-48AD-407E-8BBE-99839965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B6290-8D58-4190-964D-CB44D508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A9F-849F-455C-9878-CDBCA869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92DA8-E05E-4DF0-B7C6-BD56B945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391B8-C6CA-4A18-A63B-82E5D6BF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94A7D-E85D-4FE2-909F-38EE98F7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01135-68DF-41F7-B7C8-7340A966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AF21F-9635-4BE6-BEEF-96454EE0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D44AA-242C-4A8F-A71C-B93E001A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F52C4-BE5B-44C7-B709-C4ED02AF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03375-5039-426A-A72A-89901092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34777-83D4-4BFB-A1F9-F92C70B2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E339D-6F4B-4BA7-A7AF-6DDEC275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E6A-3E9E-4D6F-9F41-4CD33E38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6A7B4-68A7-49F6-8D5F-7A474473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AB333-E90B-4A56-9EA0-80288F95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04E1D-1FE7-4002-A6BA-AED589CC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091CC-FF68-4066-B50B-15EE495D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65008-DBC5-4A65-A7F5-6CF11F20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C7AFB-9FB0-490B-95A1-6BAF2CF9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74F61-7221-477E-AC2A-0244B9BC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70120-E3E8-41A0-8F35-959C194A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01D6C-67EA-45E3-BFE3-14E96798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E03F9-E3B8-4115-9AEB-F704BE9B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F680-CCD5-42CC-8418-4596A3AECA31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452" name="Straight Connector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traight Connector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traight Connector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56" name="Straight Connector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traight Connector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traight Connector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460" name="Straight Connector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Straight Connector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traight Connector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84FB-7A94-4A7F-99B1-ED2B869D5F4F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35A3-5D60-4D98-8C1F-3778624FBF25}" type="slidenum"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D576-9108-4D85-B2EC-3CC9FE990118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A92C-24A1-4E44-9085-838297B5FF85}" type="slidenum"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C68A-EA38-484D-BC28-AA20549449F1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56A1-639C-4F17-BB5B-23E17B4BD043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5138-BA8C-43BC-B663-9AAB609B5DE1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0BE7-55F7-44C2-A77D-924D5A0E587E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4EF5-6458-4767-818E-F64CF321E7A1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arissa Englis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nthony Rodriguez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ike Wolf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Juan Carlos Hernandez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4000"/>
          </a:bodyPr>
          <a:p>
            <a:pPr marL="3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*When two or more simple substances combine to form a more complex substance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8156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e0ec"/>
                </a:solidFill>
                <a:latin typeface="Consolas"/>
              </a:rPr>
              <a:t>   </a:t>
            </a:r>
            <a:r>
              <a:rPr b="0" lang="en-US" sz="3800" spc="-1" strike="noStrike">
                <a:solidFill>
                  <a:srgbClr val="fae0ec"/>
                </a:solidFill>
                <a:latin typeface="Consolas"/>
              </a:rPr>
              <a:t>What is a synthesis reaction?</a:t>
            </a:r>
            <a:endParaRPr b="0" lang="en-US" sz="3800" spc="-1" strike="noStrike">
              <a:solidFill>
                <a:srgbClr val="fae0ec"/>
              </a:solidFill>
              <a:latin typeface="Consolas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441000"/>
            <a:ext cx="6858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e0ec"/>
                </a:solidFill>
                <a:latin typeface="Consolas"/>
              </a:rPr>
              <a:t>   </a:t>
            </a:r>
            <a:r>
              <a:rPr b="0" lang="en-US" sz="1900" spc="-1" strike="noStrike">
                <a:solidFill>
                  <a:srgbClr val="fae0ec"/>
                </a:solidFill>
                <a:latin typeface="Consolas"/>
              </a:rPr>
              <a:t>Some real life  examples of synthesis reactions.</a:t>
            </a:r>
            <a:endParaRPr b="0" lang="en-US" sz="19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509" name="Picture Placeholder 6" descr="SYNTHES.gif"/>
          <p:cNvPicPr/>
          <p:nvPr/>
        </p:nvPicPr>
        <p:blipFill>
          <a:blip r:embed="rId1"/>
          <a:srcRect l="13798" t="0" r="13798" b="0"/>
          <a:stretch/>
        </p:blipFill>
        <p:spPr>
          <a:xfrm>
            <a:off x="1447920" y="3200400"/>
            <a:ext cx="5797440" cy="32767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040" y="1150560"/>
            <a:ext cx="7086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520"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 skinny bird + Worm= fat bir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0520"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 + B = AB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0520"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 H2 + O2 = 2 H20    (The burning of hydrogen to form water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254400" cy="12193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Ex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504960" y="22824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ilk + Chocolate = chocolate milk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glish + Spanish= spanglish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ot + Cold= war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d + White= pink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ater + Soap= soapy wat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14" name="Picture 4" descr="chocolatemilk.jpg"/>
          <p:cNvPicPr/>
          <p:nvPr/>
        </p:nvPicPr>
        <p:blipFill>
          <a:blip r:embed="rId2"/>
          <a:stretch/>
        </p:blipFill>
        <p:spPr>
          <a:xfrm>
            <a:off x="990720" y="1447920"/>
            <a:ext cx="2133360" cy="4689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             </a:t>
            </a: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Synthesi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ynthesis is one thing (substance) plus another thing (substance) to make a more complex thing (substance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10:27Z</dcterms:created>
  <dc:creator>cl12englishl</dc:creator>
  <dc:description/>
  <dc:language>en-US</dc:language>
  <cp:lastModifiedBy>cl12englishl</cp:lastModifiedBy>
  <dcterms:modified xsi:type="dcterms:W3CDTF">2009-02-18T13:23:13Z</dcterms:modified>
  <cp:revision>12</cp:revision>
  <dc:subject/>
  <dc:title>Synthesis</dc:title>
</cp:coreProperties>
</file>