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5D0-3F7A-4733-AB73-B6A732B9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AE1-68E3-4CA9-A513-0674EAA3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0657D-8E82-4205-9765-593BD45D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DE75F-895A-420D-8706-4D9FF388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9BCB2-19FC-4FEE-90DD-69EE26E1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F90B6-D7B6-4108-B596-9556F7C3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C6BBB-5B8B-40D2-B76D-74C3D7AE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2B29F-4BD4-40BB-AF67-65B13367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0B5BA-4782-4BCA-BEC9-14EF4F88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0C35D-B45B-4FFE-B76F-48882B05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5FAC0-A5D6-4E13-81C5-D4EE50EE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F4505-E384-4A78-980A-69E2FC65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527-2120-4C58-9F8C-BF8EFADD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58994-4024-43CB-B0B5-9733C965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22D33-3F2E-4195-A364-6DF2EA1A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2F006-0594-4F3F-9CD5-6599BA91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52F1D-AE96-4863-A4DA-6F8A0F9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926D5-EDD1-4B44-9523-2A604628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C25B3-E836-48CB-BC51-ABD303CA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A30C9-C4A4-4EFD-842D-07A55993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5A210-FFCE-4E81-B49E-2CA6D6E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293A2-62AE-4128-AE85-FE6171A3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D3489-122D-44A4-A5E2-5CEAE047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FE2-7C68-4C7D-92FC-4EB3BBBD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23F47-017F-414B-8741-27111B59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2056-F43B-44CC-9932-CFC8BFDE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FA97-8E7E-4FAE-9EDA-57905F9E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7A23-4D2B-46B1-ADD3-B5A0E6EB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0FAD-1DE5-45F7-9938-BAF72EE1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3D5B-E59D-4F55-A632-46057EDC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172E-57AA-4C8F-B581-1559739D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D99D-C1E8-43A8-A36B-AD201421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21F-226E-435E-9DE9-A8F5C393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6A7B-8378-4E05-9E9D-B6D832D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C4E6-A7F2-40A7-8C44-69D1D180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2C63-6318-4C3C-A5C2-E2F3CBB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435C-4DD1-48A2-92C5-928A392B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F53D-71CB-44C6-A047-00133631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CF4A6-9C69-4CAA-927B-4C87FF63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DE95-D6DD-4596-8D5C-92D08148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1675-91CE-4B02-9CD4-DAC8A813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34C0-E334-49EF-A567-FB7441B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8B48-816A-4AC5-99E3-AABFC7EC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05E-E6F0-4A02-A61F-41C97CC2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F673-C31F-442A-B0AD-4F2F116F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FA67-0E44-4DE3-BE25-AEF9CA46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BBB6-01A6-4411-9044-B415029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F3BD-2EA1-4CB9-BE5F-8E9EFC46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B651-A453-4F1F-BF39-B3E5DFCC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992A5-19CC-4E39-8B7F-0E612BC1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84ED7-8EAF-43C3-861D-5362783C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E7DD-A4B3-4DBC-B64F-21ADBA66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F6178-D9CA-4BDC-A117-D1678D97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AC8CE-CDEF-45E5-AFEC-A21FC31C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DA4-1C6F-4B74-9026-3B65D7A1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38DE5-E2B7-4378-9239-809323DF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44D4-E116-4596-935D-C45CBE46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1E00F-1C63-4234-8514-02A64384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44D5E-FC7B-493C-9B01-B6FDD48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4D90-9EFE-42E6-BEDD-9BFAAF06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5A10-3701-46FA-A470-D8BD975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4FEE-843D-42BB-B329-82D3A952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6619-027A-4713-93B1-D0E54304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26C1-9847-4BA5-A9CF-1646A788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EE15E-140E-450A-BB4C-0056A6E2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68F-65CF-4272-941E-655A31E5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6AFD-01A7-4F09-8694-22189214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79DD2-4055-4BF6-B226-F5DC9981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3537-3345-4F33-98B2-18EC81D5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147FC-83DA-4E20-A301-9DECD1B9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C402-A066-4EB7-BC73-EE31FA3D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9C0DA-9630-4EE2-8FBC-98C4F989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3FA8-F296-4609-A23D-0EBD7106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06CE2-0FE3-491A-9740-B607BFDF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DE59-4DAA-4531-ACE0-DB416A9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D8C34-F32E-469A-9907-8493BB85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711-CCD3-4A8B-8515-A4F85CDE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1C2ED-9380-4A79-8458-B2C9E7BB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74619-3340-464B-B88D-A6931F04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34298-9CBC-437C-B510-62E9D448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66D4-6809-4D8C-A95D-356370E3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A986F-CC0D-4EA9-BFD3-2AF55E8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6EC13-D9D8-4810-AB55-6A7466F3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BB5F-300E-4723-939C-CEBDCD71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FE2D6-4599-4D1A-B017-0EB6DF6E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6BAAA-60CF-4040-81FF-1F59EC0D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7CF4-D8CD-4F22-8E8A-ECE0BEA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ECB-5969-4720-8797-FD82005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FC1E-B866-4CC3-A0FA-14BC6130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3C834-C9A3-4C77-827F-16314BAC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B4840-702E-4DB5-A2D5-A18E2B99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7AAED-DA5A-496F-A0A4-AFC21B65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351B-14D5-473F-AC3F-605FEB78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6C5C-76B5-4FED-868D-F06C6BD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E3D2-DBE4-453F-B6A5-1759F3A5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24656-21C7-418C-A66F-FCC83249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CFE82-CAAF-4014-83EC-50CC1A5D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7A79C-D6CA-4DBC-A519-E42972D8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AA2-4580-4639-B2CA-83B5A292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D4B7D-6C73-4B2E-A274-2408CE5C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A79FB-372C-498D-8373-656269C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CDBB9-F269-450F-A089-98B7C457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47ACD-0D1F-436D-AFB8-2B7EA705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DEF41-8737-4CB3-A05E-67BC8091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94EB0-7DBE-4E8C-80AA-0B479937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AA102-093A-4E42-A1A3-BB262B5B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24546-3DD7-4EC5-99FD-57796CEB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4B67-2EE0-4811-9EEE-C1CF6CF2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D4569-F1DA-4F30-A8DC-4EBE63D5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49C-9B23-4016-8A17-CC959023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D79CA-6F00-419F-ADBA-7C103EA3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4F354-1D28-470B-A9FC-04CAF32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96707-4D0A-4AB2-8301-27A39AEB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73206-3CB1-4DD6-AF90-1FB19F76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259D4-9B7D-4B1E-A787-9C1DC982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C0DC9-4B9B-4BDF-96CA-AA8A35BE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6D9A6-0C29-4BFD-A503-3BD407F0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A1FFB-39D8-438A-981F-5B704FD7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FA7CD-E3AA-4A69-8086-1F43EC74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98F6C-0DB1-409A-B214-0AA5FF74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0C19-F315-4705-A9D3-66BA763B849F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452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6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460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D993-7C9A-4299-9342-CE8686C40B20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504C-1F10-4E77-B6A3-2B96455A2275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BFFB-0633-431C-9F85-CBB62CA44156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FC7C-D609-4293-802E-3C1AC8EAB251}" type="slidenum">
              <a:rPr b="0" lang="en-US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319F-E229-4E60-AA8E-71089BEB1C1F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E1D1-33FC-42C9-9A3E-EEF56D0F7790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87FE-F9AA-46B2-B7EA-446E845FEA2B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67BB-6DFF-4E17-BAD0-1161E53BC216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221E-7E18-4D77-AB66-5C5F80BABEAB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arissa Englis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thony Rodriguez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ike Wolf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Juan Carlos Hernandez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4000"/>
          </a:bodyPr>
          <a:p>
            <a:pPr marL="3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*When two or more simple substances combine to form a more complex substanc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6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e0ec"/>
                </a:solidFill>
                <a:latin typeface="Consolas"/>
              </a:rPr>
              <a:t>   </a:t>
            </a:r>
            <a:r>
              <a:rPr b="0" lang="en-US" sz="3800" spc="-1" strike="noStrike">
                <a:solidFill>
                  <a:srgbClr val="fae0ec"/>
                </a:solidFill>
                <a:latin typeface="Consolas"/>
              </a:rPr>
              <a:t>What is a synthesis reaction?</a:t>
            </a:r>
            <a:endParaRPr b="0" lang="en-US" sz="3800" spc="-1" strike="noStrike">
              <a:solidFill>
                <a:srgbClr val="fae0ec"/>
              </a:solidFill>
              <a:latin typeface="Consolas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41000"/>
            <a:ext cx="6858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e0ec"/>
                </a:solidFill>
                <a:latin typeface="Consolas"/>
              </a:rPr>
              <a:t>   </a:t>
            </a:r>
            <a:r>
              <a:rPr b="0" lang="en-US" sz="1900" spc="-1" strike="noStrike">
                <a:solidFill>
                  <a:srgbClr val="fae0ec"/>
                </a:solidFill>
                <a:latin typeface="Consolas"/>
              </a:rPr>
              <a:t>Some real life  examples of synthesis reactions.</a:t>
            </a:r>
            <a:endParaRPr b="0" lang="en-US" sz="19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509" name="Picture Placeholder 6" descr="SYNTHES.gif"/>
          <p:cNvPicPr/>
          <p:nvPr/>
        </p:nvPicPr>
        <p:blipFill>
          <a:blip r:embed="rId1"/>
          <a:srcRect l="13798" t="0" r="13798" b="0"/>
          <a:stretch/>
        </p:blipFill>
        <p:spPr>
          <a:xfrm>
            <a:off x="1447920" y="3200400"/>
            <a:ext cx="5797440" cy="32767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040" y="1150560"/>
            <a:ext cx="7086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skinny bird + Worm= fat bir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+ B = AB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0520"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 H2 + O2 = 2 H20    (The burning of hydrogen to form water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254400" cy="12193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x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504960" y="22824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lk + Chocolate = chocolate mil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lish + Spanish= spanglish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t + Cold= war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d + White= pin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ter + Soap= soapy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4" name="Picture 4" descr="chocolatemilk.jpg"/>
          <p:cNvPicPr/>
          <p:nvPr/>
        </p:nvPicPr>
        <p:blipFill>
          <a:blip r:embed="rId2"/>
          <a:stretch/>
        </p:blipFill>
        <p:spPr>
          <a:xfrm>
            <a:off x="990720" y="1447920"/>
            <a:ext cx="2133360" cy="468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Synthesi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ynthesis is one thing (substance) plus another thing (substance) to make a more complex thing (substance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10:27Z</dcterms:created>
  <dc:creator>cl12englishl</dc:creator>
  <dc:description/>
  <dc:language>en-US</dc:language>
  <cp:lastModifiedBy>cl12englishl</cp:lastModifiedBy>
  <dcterms:modified xsi:type="dcterms:W3CDTF">2009-02-18T13:23:13Z</dcterms:modified>
  <cp:revision>12</cp:revision>
  <dc:subject/>
  <dc:title>Synthesis</dc:title>
</cp:coreProperties>
</file>