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E1C-89BD-467D-8BD0-4C6EE619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A76-B18E-4664-90BF-03A6B5E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C3C20-F0A2-412B-9F7C-981565A3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FD1FB-EDE8-4A6A-8F0C-BB51124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14E0D-08A7-4BB6-9274-7A3E943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22AE1-43E8-44A4-98C9-A72B898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7C1C4-1E75-409E-8BF6-0E1C788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E5C4D-A2DC-4F56-96FD-FE84C792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6C1A0-A44D-4A50-90F0-532285F6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3CD74-1BD6-415A-8C75-2CD8CBA2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36E7B-5711-430B-A7CB-82B40239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896C1-803E-41B1-A946-01A06784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8DE-973B-431F-A7C1-D40F3F0D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257B4-FB06-4375-B5DD-A5A51036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835D9-A560-43D2-9305-2940227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35160-4FAC-4C13-8493-957A0C4D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8B19E-0927-4812-B526-B60A1DE3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3CE30-7B96-4C01-8AD5-1B3659C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1562B-F90C-4784-BE2C-2D05814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74A42-8159-472D-864D-0FD5905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A1E0A-1E65-44CD-BD6B-0B77542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13000-E9EE-4F5B-A8E8-10F2FFF0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ED355-3021-4E39-9601-3067D7E2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B57-29D7-482A-BDFA-5926D603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25EFD-5D06-42FB-B9B8-267C30C5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D73A-1464-40D5-B0A2-3BEBA202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B430-2C57-4D9D-ADAE-5F04BF2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339-0888-4F5B-A5FF-4D48288C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C604-8324-46CC-A757-AAFE0136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7234-D50D-448F-A15D-F062ACB2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2106-EA75-4FFA-9D68-0E2D22D8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7862-CC8D-44FD-B05D-C23C58F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126-9B3E-4304-9086-E8DA533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697-776E-4C29-80BD-90396BC8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1907-E12F-4212-B039-417B8A31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51C0-97BD-4C48-957E-02F82A0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EE75-427D-4FB5-8FB8-5A187614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3C1C-11E9-4248-BDDF-0DADC963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1737-2026-412F-95C5-7FDA4A90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ED17-D3A0-425B-9213-34D47094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AACE-A7CD-4AE3-9B5A-717A8678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8FEF-7EB9-43A7-A9FE-CF5A0928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298A-72FA-4527-95AD-D60F3D3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18D-3541-4BB4-9A97-B29C015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925D-58F2-4A03-B6A1-1858EFC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8F90-367D-44CB-945B-EC42FCA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A44C-FB2D-48E1-8E6F-14B84F7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8709-CD6B-4038-A1E5-E4CFF6E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EE46-4D1C-473A-B08A-88AD996B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1B4B-7E78-43FB-8A19-3B423CF1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770B-8A9F-4F3E-B323-2B0FC367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6275-B8B5-4DAD-BCF4-1922F810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4F26-EEF5-415A-B24B-1D06935D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9A40-C833-4069-874E-B223611C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118-60AE-4F85-A4D6-F0F4CBD6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D217-47D0-4E48-BC31-491E27B9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1F13-3AB1-4A85-9DCA-79B96CE0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E08A-49AF-47A9-A4F2-F862C952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6AD4-CEF7-4652-8E79-A0F3652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918DF-CD36-41FC-B188-4A719F3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985D-66A6-4B81-86DE-FCEA393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3419-CC48-4C11-8C23-311C49D0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DB08-4E74-4E80-8576-079257F3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B422-30CA-4B11-B613-F5EFB8B1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06ED-762B-49C9-B526-A4B48998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BAF-3AC9-4E83-B17A-00120A9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F8F1-4970-4CAF-B1C7-16C378B3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0E7F-3469-4CEC-A472-5E16E39A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2B420-1F12-49A1-ACEC-5610158C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C3FD-940D-4948-847F-C6DEA44E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9757-473B-4ACD-8FD1-720A1AE1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8D98-B848-4266-9AC8-80C7EE77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2776A-D835-4FDC-ADE1-6B05039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1EED-7D83-48FD-8FA5-87420CB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139AD-96BC-4B73-BD5A-1D050A39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A390-1C35-4D06-B10A-5400C7D2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FD0-7CED-4B5E-9EAD-46ADEB7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0B7ED-2091-4495-A191-83C373DE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899EC-1C64-43E5-9AED-555493F2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2F00-E4CC-49A1-AD77-8F91D20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E200-D071-4B60-9EDB-EF4AD1C8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D945-D85C-40AF-80B7-5CF21371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3AC03-8D7E-4683-B6D4-2D84A046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8E862-CF0D-4F28-9CAF-C1B275F7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1B50-4078-40B5-B557-C0DBC39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7A5E-915A-4301-BDF3-ADC5829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D2C5-C309-40D9-82E1-A0342FB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8D3-F81E-404E-8B32-840CBC9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4B8F-5DFC-4543-9577-92A9EBA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235C-1A74-48F6-91E7-697C8441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E5C2-465D-42FE-9C70-140543BB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9AA7F-5A94-45BF-B0EE-78FC9D62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57238-0768-461D-A89E-3409C1A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C29D3-F359-400D-909E-9D5D5C73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5DC38-6C0D-4D1A-8ED2-099A60FC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C86C-2CAD-4126-BE10-2162C9DA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116F-F7E5-412B-8F04-7B7FDAE9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93B6-3F97-46D2-B3A3-1926C3ED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B1D-66AB-41E3-AE0E-C902351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5742F-040E-49E2-932B-DAB0857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E9FBF-E2D0-4A72-9CE2-E983E270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A6D7-1666-4408-B8A5-3284A650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E0E6-0A7A-40A4-90B0-4DF044EC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3052-5C5C-4214-B355-256D20A8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51646-2376-4782-AC27-4EF9F61D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DCADD-294C-4EBF-AD7C-7032816C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642E-3957-4133-9993-C2AC633F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F3136-962E-4B94-8EB8-F724426F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7B1B-C559-4B57-875A-FFD3471F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D5C-B4FD-4442-8AAB-FA653B1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60949-81CE-4DE2-B956-5234B6FE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AACCE-32C0-496B-A3DF-D6D34E91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64863-22A1-4802-AABF-C65D4F0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D2675-6126-4CD1-B78B-4A70D15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AAE3-0AC4-42C4-B804-BA9157A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FE680-69FE-4120-B05C-2A744194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1DCCB-4238-43E5-BA74-13159F54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A10F8-3A82-45D4-AF1B-14378BC5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FB658-3F5A-4937-A1F1-8DB121BA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8E23F-A4B9-486F-B34E-38EF10EC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5CCD-B0A0-46C0-9EF0-5BB91FA78C51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452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6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460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7C85-984D-4AEF-9D8F-AA6345F401C3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53F8-9109-402A-9375-8BBEFC8F762A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06AB-E631-4F21-B9C6-2ABDFCA86F08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8472-E9AB-42F9-A934-6ED318B1A26D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A7C2-9DAD-451E-A18E-B224A70094FE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8131-FF8D-495A-BFF4-AFB92A37907A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56F-BA76-4652-9CBB-3E61172B647D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9FE-35F1-4BD3-AD8F-E025074FB1A2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BBD1-10AC-40AE-A25C-D0B71345423C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arissa Engli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thony Rodriguez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ike Wol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an Carlos Hernandez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4000"/>
          </a:bodyPr>
          <a:p>
            <a:pPr marL="3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*When two or more simple substances combine to form a more complex substanc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What is a synthesis reaction?</a:t>
            </a:r>
            <a:endParaRPr b="0" lang="en-US" sz="38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41000"/>
            <a:ext cx="6858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Some real life  examples of synthesis reactions.</a:t>
            </a:r>
            <a:endParaRPr b="0" lang="en-US" sz="19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509" name="Picture Placeholder 6" descr="SYNTHES.gif"/>
          <p:cNvPicPr/>
          <p:nvPr/>
        </p:nvPicPr>
        <p:blipFill>
          <a:blip r:embed="rId1"/>
          <a:srcRect l="13798" t="0" r="13798" b="0"/>
          <a:stretch/>
        </p:blipFill>
        <p:spPr>
          <a:xfrm>
            <a:off x="1447920" y="3200400"/>
            <a:ext cx="5797440" cy="32767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040" y="1150560"/>
            <a:ext cx="7086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skinny bird + Worm= fat bir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+ B = AB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 H2 + O2 = 2 H20    (The burning of hydrogen to form water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254400" cy="12193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x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504960" y="2282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lk + Chocolate = chocolate mil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+ Spanish= spanglish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t + Cold= war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d + White= pin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+ Soap= soapy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4" name="Picture 4" descr="chocolatemilk.jpg"/>
          <p:cNvPicPr/>
          <p:nvPr/>
        </p:nvPicPr>
        <p:blipFill>
          <a:blip r:embed="rId2"/>
          <a:stretch/>
        </p:blipFill>
        <p:spPr>
          <a:xfrm>
            <a:off x="990720" y="1447920"/>
            <a:ext cx="2133360" cy="468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Synthesi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nthesis is one thing (substance) plus another thing (substance) to make a more complex thing (substance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10:27Z</dcterms:created>
  <dc:creator>cl12englishl</dc:creator>
  <dc:description/>
  <dc:language>en-US</dc:language>
  <cp:lastModifiedBy>cl12englishl</cp:lastModifiedBy>
  <dcterms:modified xsi:type="dcterms:W3CDTF">2009-02-18T13:23:13Z</dcterms:modified>
  <cp:revision>12</cp:revision>
  <dc:subject/>
  <dc:title>Synthesis</dc:title>
</cp:coreProperties>
</file>