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54C-6BA1-4C77-A63E-2D273D79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128-3D14-433E-BF39-5544FDE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8C61A-D185-4211-90F6-42ABD5E7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573E7-7C5E-4252-8EC0-598EA506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A4D84-E7C8-452A-BD60-743E7424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81A48-DF10-4884-AAA7-814EF67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D580F-C74A-43B8-8596-F6F9AC9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488F3-7044-41C8-A79B-DD0CC09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B86C0-B708-47DE-B03F-5AADD71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D2EE5-C1DE-4827-9ED1-309D28DC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CE50E-76F2-49A0-BC7D-07340EE8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CE8DD-0AFC-4F79-B616-EED5EAD8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FDA-D744-4678-AABD-31BF8F4F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0B38-C69F-43B3-A3A8-F439E6A2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15FCB-857D-430A-83A5-05D50B7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FC793-DD67-4268-9D3E-05E227F4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D6FD2-53CC-4E23-8560-A38064F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D0D9B-3636-4429-A035-AB91A5D7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C1CF4-1FEA-49A2-9200-11850810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D963C-637D-4EAF-BCD5-685D889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805F0-5EF4-4642-8CD3-59EA764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FD745-9EA8-4508-8C0D-2B1C9F21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85CD7-7407-4124-BC91-E0B8E778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7A9-093C-4FE9-B124-4309D22D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A16F5-E23B-45C6-8F09-1D7EFEA6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A2DA-2A9D-4D27-B768-4E7796DB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551-EDDC-4420-9A21-BA083E7C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9AB-A805-4F60-BA8C-22234174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69E8-99C8-4531-AFDF-B4DE7D76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6D74-E084-4ADD-BFE6-AAD5816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37C-1E89-4C1B-90F9-9D01A402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F2F2-3DD9-40B5-B98D-3CA3622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E87-013F-4FE3-A4FA-7CED7FCF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0238-3AE1-4BBF-9516-0EA78C2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005B-5A30-4FCB-A762-AD437A11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83B-DEC8-4FC4-A353-2179AC3C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CC74-1CD5-4B60-9095-86095C12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C80A-4FB8-4118-BCA5-025C0096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B54A-7BF9-4495-9841-C4D5D850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41E4-1070-4300-9736-8A0F4BE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557E-AF7D-4AD6-B28C-B8A34C3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07B9-5409-44D6-B159-5CD4CB11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C512-C151-43EB-8F7F-1909149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CC4-C8D4-43C6-9492-A32D157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3034-2FBF-4FEC-A7A4-3B98EEE0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E0A2-BE91-4667-BF89-FA60F9E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3EE9-65A7-48BB-B9BF-F3715D25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3CAD-6C21-4223-A76C-662FB28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A2F9-AECC-47D2-A2B3-F90DBD7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1189-778C-47C4-AB70-D9BCDAA4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E308-53C5-4633-ACDA-9F43AED2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5906-2978-4818-9E02-AFAE687B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231D-869A-4BC1-BD14-D6DBBE9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D3AB-D4C5-4DC9-8596-0844D68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37A-F9FB-4233-8278-1838F37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7DA0-E2D3-4C8E-8597-9B396DAF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56B2-EE6A-4C5F-BA6C-FAEE20C7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B299-1ECC-4D9A-9E7D-6C8D572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DE09-8FBC-47CF-8B59-88A035E8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FE33-C2A4-4898-9BBF-04923837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401D-C2FF-476B-A6C3-BC046DC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643C-B7B0-4BA7-BFF3-80E2AF5D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569D-6BB5-4D21-B027-7C726D6E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ADCB-F66C-45B2-BB9D-1CFE62D6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C865-7C8C-454A-938D-54F30AFD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FDB-2EA7-4F2A-8DD3-75D50028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086E-0929-4BAD-991E-7C984602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D0B5-A18E-4F8B-B390-4B5C1E48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16D5-CAF4-4339-ADD9-BA6D836D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D7C3-65B5-4B8A-87A8-975CFEE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22CB-5348-4372-AA78-E96A602D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4655-6927-4AED-AC32-606B762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24DB8-DB23-4E50-9401-D9C8C0F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AFE83-2CDE-44F6-B6B8-89842E98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3C24E-1616-482F-BB5D-A5C1698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DBF9-572A-4B12-B2B7-3DCA7DF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CB5-11A2-4EC6-92C9-8E540BA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4C65-5B75-4894-A77C-874C7155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87A4-CFF4-498C-B905-ABE48F6F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8F7C-96DE-4DCE-97CB-5AFD806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F28F-CB52-4171-A5DE-B1AFACA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1BBBD-1880-463E-B216-68DB4DEC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2D5AD-BDD6-4C13-B75F-E0B5E05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D1C9-6816-442D-83F5-E1F1E24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104BE-A82E-49A3-8DAF-68B0FE1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6F7A-8D4C-4849-BFC5-F1EB959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7C7E-29A4-4E4C-8DE4-1326BEB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B5D-EE38-425D-9F48-22383CB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EEAC2-E2AF-487F-A235-0AA051EF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BF61-8D1C-476C-AEFB-883D691D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BE19-02D5-4DDD-A394-A5AB5CB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6ED5-1953-4F81-A4B1-A62422B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EB4A-D07D-4F62-8E30-0C2C0F6E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87671-D11C-47B3-AFE4-5DFA0AD8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24BB8-4567-4DEA-A15D-DC4B2B4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6DD8-9FC2-4134-9279-29ADCAA8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8DEB4-331A-4168-A4AC-CA21EFB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E2A12-ED78-4D98-83FD-979C0F93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3C3-B489-4902-B108-FF432FB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D5BE-5720-44B7-966F-0E93F7B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27732-ECA5-4E82-883E-247C807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D2147-88F0-45D2-96C4-EB8B377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D708-FD38-4B3F-8BCE-9A8B68CD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6A88E-8FD5-47A7-B73B-80F47746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7E8B3-5BE8-424B-B4F0-9A3ACBDB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0844D-9A91-4081-BBE8-FD9FD789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A097-55EB-45B4-9855-9069684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57495-033A-4CF8-A068-B5A9F93A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020F-D3AD-4BC4-865C-7D67A88C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13F-E6D8-4218-B146-0C29347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6AA8-0B93-4375-89E4-5DDCCAD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0AEB-4622-43A4-BEE9-DDBC91C6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365E-4E16-4213-B289-CF345FE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343C-0839-4D0F-B51E-59BBEB4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C4B7-D216-4920-8CF0-B9979AA2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FCEC-2DBB-47B7-8DBA-7B014D24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4959-31E0-4D44-A177-6DBD59BC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C7582-6047-4AEE-8D10-3C7FF5D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6C14-C4F3-4DAC-908D-D6C69C6C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D05D8-AF7A-4178-B5B0-DBF59FA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5476-40C2-40D5-ADD4-D0CB66AA51EA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452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6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460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69DE-9C21-4C99-981C-8461E08301A4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6C1-7060-4793-AB4A-BE3A055D4A5D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58F-9954-4AD3-B8CD-AF79AE171892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1AA9-D772-4BD0-AC0C-3786EEE00886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DFB-B208-442A-8DF9-4808DA9007EB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3ED0-2C68-4BF9-BC73-B4E02911B20A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00E-D973-4065-A212-79F5A3D8D03E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F78-6BE1-471B-B683-E99A8B3845C8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2A47-DB47-49F2-8925-CCBF9024FDBB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arissa Engli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thony Rodriguez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ke Wol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an Carlos Hernandez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4000"/>
          </a:bodyPr>
          <a:p>
            <a:pPr marL="3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*When two or more simple substances combine to form a more complex substanc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What is a synthesis reaction?</a:t>
            </a:r>
            <a:endParaRPr b="0" lang="en-US" sz="3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41000"/>
            <a:ext cx="6858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Some real life  examples of synthesis reactions.</a:t>
            </a:r>
            <a:endParaRPr b="0" lang="en-US" sz="19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509" name="Picture Placeholder 6" descr="SYNTHES.gif"/>
          <p:cNvPicPr/>
          <p:nvPr/>
        </p:nvPicPr>
        <p:blipFill>
          <a:blip r:embed="rId1"/>
          <a:srcRect l="13798" t="0" r="13798" b="0"/>
          <a:stretch/>
        </p:blipFill>
        <p:spPr>
          <a:xfrm>
            <a:off x="1447920" y="3200400"/>
            <a:ext cx="5797440" cy="32767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040" y="1150560"/>
            <a:ext cx="7086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skinny bird + Worm= fat bir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+ B = AB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 H2 + O2 = 2 H20    (The burning of hydrogen to form water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254400" cy="12193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04960" y="2282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lk + Chocolate = chocolate mil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+ Spanish= spanglish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t + Cold= war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d + White= pin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+ Soap= soapy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4" name="Picture 4" descr="chocolatemilk.jpg"/>
          <p:cNvPicPr/>
          <p:nvPr/>
        </p:nvPicPr>
        <p:blipFill>
          <a:blip r:embed="rId2"/>
          <a:stretch/>
        </p:blipFill>
        <p:spPr>
          <a:xfrm>
            <a:off x="990720" y="1447920"/>
            <a:ext cx="2133360" cy="468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Synthesi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nthesis is one thing (substance) plus another thing (substance) to make a more complex thing (substanc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10:27Z</dcterms:created>
  <dc:creator>cl12englishl</dc:creator>
  <dc:description/>
  <dc:language>en-US</dc:language>
  <cp:lastModifiedBy>cl12englishl</cp:lastModifiedBy>
  <dcterms:modified xsi:type="dcterms:W3CDTF">2009-02-18T13:23:13Z</dcterms:modified>
  <cp:revision>12</cp:revision>
  <dc:subject/>
  <dc:title>Synthesis</dc:title>
</cp:coreProperties>
</file>