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F1ED-044F-45B1-B556-CD7C44681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CEF0-4984-405C-BA27-126623E1E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6BF7-3CA1-4278-A550-4AC75CC90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EE66-5CD2-4ECB-91EC-60B56BC38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4D17C-DD6C-48BB-9B59-8582A8805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5A856-E1C1-4F1A-92E7-9F7C79902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987EF-CB12-440C-9FCE-AB70685BE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A3AE0-CDF5-4CA1-A766-38D42DCC5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12966-6FD8-40BD-97A7-B8A4C24A0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3DBBC-2BEE-4730-B76E-F71ED1D1A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A443C-C608-433D-9B59-6720A385F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F58F-4BF4-4223-AAFC-645667D2B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14180-FB30-4F7C-907D-99030B3E9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CD747-D3A1-4346-9019-10369FF37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4F92B-AC97-485E-BEAD-BFC041ACD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3B69A-E270-4074-8456-011C3923B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C8656-CFD3-4E72-8BEC-09F872CFC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44F8-6D9D-4112-9924-EA674328C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2523-01C8-47C1-BC3B-DEC03A353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6288-3A87-47B1-ACF3-13EF6E201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F312-0B56-410E-A0AB-9F3D93EED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5C9A-0529-4350-BD25-FD3EF90E6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A396-57F0-4C7E-AFAA-131E89ED7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576F-CE98-416E-A9A5-24EB2B309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9E237-A3A9-4F09-90F5-F854E1A20AFF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C6A88-D5B1-4C74-A4F0-BC6127BF52E8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8680" cy="20545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Brittany, Mark, and Kathry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itle 1" descr=""/>
          <p:cNvPicPr/>
          <p:nvPr/>
        </p:nvPicPr>
        <p:blipFill>
          <a:blip r:embed="rId1"/>
          <a:stretch/>
        </p:blipFill>
        <p:spPr>
          <a:xfrm>
            <a:off x="274680" y="268200"/>
            <a:ext cx="8693280" cy="1158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 synthesis reaction is when two or more substances react to form a single substance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+B=AB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* The result of a synthesis reaction will always be a compound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Title 1" descr=""/>
          <p:cNvPicPr/>
          <p:nvPr/>
        </p:nvPicPr>
        <p:blipFill>
          <a:blip r:embed="rId1"/>
          <a:stretch/>
        </p:blipFill>
        <p:spPr>
          <a:xfrm>
            <a:off x="311040" y="268200"/>
            <a:ext cx="861372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ydrogen and Oxygen combining to form Wat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en carbon is burned it forms Carbon Dioxid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alcium oxide and Water forms to make Calcium Hydroxid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ulfur trioxide and Water forms to make Sulfuric Aci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http://www.filterforge.com/filters/2212.jpg"/>
          <p:cNvPicPr/>
          <p:nvPr/>
        </p:nvPicPr>
        <p:blipFill>
          <a:blip r:embed="rId1"/>
          <a:stretch/>
        </p:blipFill>
        <p:spPr>
          <a:xfrm>
            <a:off x="457200" y="167652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89" name="TextBox 2"/>
          <p:cNvSpPr/>
          <p:nvPr/>
        </p:nvSpPr>
        <p:spPr>
          <a:xfrm>
            <a:off x="609480" y="53352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Pictures of Synthesis Reactions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457200" y="533412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Rusty piece of metal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ynthesis Reactions are used in several ways in real life situation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Generate electricit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Spacecraft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Satellites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reate new elements or substanc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Hydrogen and Oxygen creates Water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When one substance (A) reacts with another substance (B) to form one whole substance (AB) a synthesis reaction has occurred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5" name="Picture 2" descr="http://www.usoe.k12.ut.us/CURR/Science/sciber00/8th/matter/images/SYNTHES.GIF"/>
          <p:cNvPicPr/>
          <p:nvPr/>
        </p:nvPicPr>
        <p:blipFill>
          <a:blip r:embed="rId2"/>
          <a:stretch/>
        </p:blipFill>
        <p:spPr>
          <a:xfrm>
            <a:off x="5029200" y="2971800"/>
            <a:ext cx="33526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book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ww.sci.brooklyn.co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ww.chemtutor.co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ww.stevespanglerscience.co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ttp://videos.howstuffworks.com/hsw/16964-physical-science-four-types-of-chemical-reactions-video.htm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14:50:26Z</dcterms:created>
  <dc:creator>cl12millerb</dc:creator>
  <dc:description/>
  <dc:language>en-US</dc:language>
  <cp:lastModifiedBy>cl12millerb</cp:lastModifiedBy>
  <dcterms:modified xsi:type="dcterms:W3CDTF">2009-02-18T14:57:22Z</dcterms:modified>
  <cp:revision>10</cp:revision>
  <dc:subject/>
  <dc:title>Synthesis Reactions </dc:title>
</cp:coreProperties>
</file>