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D43-13DA-4F83-8803-0EE20011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F94-BCAA-4D39-9113-2ACFABD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E06-B74C-4E0E-8386-B1C1EE4E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5EC-59C1-4E95-9424-1941C025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F649-768F-4510-98AE-C1ADEFDE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0F23-8857-4467-8119-F4C2173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44C3-2656-4AC7-A1BC-3E256556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0EB-8DCF-4B4D-A0E4-54AEE229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EB6C-121A-48F8-8EF6-A6C2591C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6EA2-108B-47F9-ABC0-598F07DD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1CA7-3BE1-4C0E-8F03-CD98939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55D-982E-41B3-AF1F-3D012609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B4E7-956C-4BCE-966D-F92AE0B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E388-5274-4054-B9ED-1538DE3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81A1-CF70-45B5-B0A6-7D3056D5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469-965C-4CDC-8ACF-8CB0CCD9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3C34-817C-4F24-A057-D87887ED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56F-310E-4D8A-9FC9-03918DD9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D62-388F-40F6-BC9B-BFFFC4DA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3EF-0520-46D9-B363-070BFF1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0D4-AE8E-425D-9CBB-53B585A7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517-CF0F-427D-BDAC-4440C8F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577-0932-4F36-ADAB-4735C6A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B1D-A7A5-492B-BD49-F3E9275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6EEF-46A8-40FB-816D-843F5634EAD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CA5-4C13-43D4-BAE2-E901361CD53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tany, Mark, and Kathry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74680" y="268200"/>
            <a:ext cx="869328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ynthesis reaction is when two or more substances react to form a single substan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+B=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The result of a synthesis reaction will always be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drogen and Oxygen combining to form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carbon is burned it forms Carbon Di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oxide and Water forms to make Calcium Hydrox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lfur trioxide and Water forms to make Sulfuric Ac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filterforge.com/filters/2212.jpg"/>
          <p:cNvPicPr/>
          <p:nvPr/>
        </p:nvPicPr>
        <p:blipFill>
          <a:blip r:embed="rId1"/>
          <a:stretch/>
        </p:blipFill>
        <p:spPr>
          <a:xfrm>
            <a:off x="45720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ictures of Synthesis Reaction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7200" y="5334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usty piece of me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thesis Reactions are used in several ways in real life situ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nerate electric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acecraf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ate new elements or substan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ydrogen and Oxygen creates Wate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hen one substance (A) reacts with another substance (B) to form one whole substance (AB) a synthesis reaction has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http://www.usoe.k12.ut.us/CURR/Science/sciber00/8th/matter/images/SYNTHES.GIF"/>
          <p:cNvPicPr/>
          <p:nvPr/>
        </p:nvPicPr>
        <p:blipFill>
          <a:blip r:embed="rId2"/>
          <a:stretch/>
        </p:blipFill>
        <p:spPr>
          <a:xfrm>
            <a:off x="5029200" y="2971800"/>
            <a:ext cx="335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ci.brooklyn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chemtuto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tevespanglerscienc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videos.howstuffworks.com/hsw/16964-physical-science-four-types-of-chemical-reactions-video.ht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50:26Z</dcterms:created>
  <dc:creator>cl12millerb</dc:creator>
  <dc:description/>
  <dc:language>en-US</dc:language>
  <cp:lastModifiedBy>cl12millerb</cp:lastModifiedBy>
  <dcterms:modified xsi:type="dcterms:W3CDTF">2009-02-18T14:57:22Z</dcterms:modified>
  <cp:revision>10</cp:revision>
  <dc:subject/>
  <dc:title>Synthesis Reactions </dc:title>
</cp:coreProperties>
</file>