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DD9-F353-4698-A324-A583E972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6E6-D993-4308-9D10-9A102D5D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11A-DEB3-4C88-BAE0-3533D1C8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BAB-1DA2-49C4-B8E9-43942FEB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80B5-20B5-4346-9B97-4537C991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77FF-43A4-439D-8FD7-5AB82FBD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6B24-2BA3-4F7D-A449-261015DC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4743-63CC-487B-979E-2C89938E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0897-43A3-4728-A7DB-6C06B181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EED5-3E68-4EA8-8AC0-78A65FC1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487E-E64A-4924-A779-4D88AEF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E75-383A-4EED-9A5A-448C9897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0C00-4551-4F86-8CF3-262558E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AC54-890D-4F6F-B2DF-A8CB5E9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0AB0-5E58-4957-929E-66BD94C6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5AF9-DE7C-4C91-B657-4D95E6B0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248D-7DCE-4377-9290-FC32E255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54F-D004-417B-8E1C-62C56122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3A6-C9B2-43F0-A8F1-DB7C4C71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21E-AECB-4347-AC60-70F93F3B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249-A73D-4B58-AD05-9C85C381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209-81C1-4E00-B221-95935407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BC5-C6B0-43C7-918B-19EF03C1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077-D273-49AD-BA3E-E095C135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3F2F-CB75-4CE8-8F70-7DB08401E68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2629-656F-477B-8A4C-9F03F7D589D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86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tany, Mark, and Kathry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74680" y="268200"/>
            <a:ext cx="8693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ynthesis reaction is when two or more substances react to form a single substan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+B=A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The result of a synthesis reaction will always be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1372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ydrogen and Oxygen combining to form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carbon is burned it forms Carbon Diox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oxide and Water forms to make Calcium Hydrox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lfur trioxide and Water forms to make Sulfuric Ac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filterforge.com/filters/2212.jpg"/>
          <p:cNvPicPr/>
          <p:nvPr/>
        </p:nvPicPr>
        <p:blipFill>
          <a:blip r:embed="rId1"/>
          <a:stretch/>
        </p:blipFill>
        <p:spPr>
          <a:xfrm>
            <a:off x="45720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09480" y="533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ictures of Synthesis Reaction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5334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usty piece of meta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thesis Reactions are used in several ways in real life situ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enerate electric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pacecraf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eate new elements or substan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ydrogen and Oxygen creates Wate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hen one substance (A) reacts with another substance (B) to form one whole substance (AB) a synthesis reaction has occurred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http://www.usoe.k12.ut.us/CURR/Science/sciber00/8th/matter/images/SYNTHES.GIF"/>
          <p:cNvPicPr/>
          <p:nvPr/>
        </p:nvPicPr>
        <p:blipFill>
          <a:blip r:embed="rId2"/>
          <a:stretch/>
        </p:blipFill>
        <p:spPr>
          <a:xfrm>
            <a:off x="5029200" y="2971800"/>
            <a:ext cx="3352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oo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ci.brooklyn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chemtuto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tevespanglerscience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videos.howstuffworks.com/hsw/16964-physical-science-four-types-of-chemical-reactions-video.ht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50:26Z</dcterms:created>
  <dc:creator>cl12millerb</dc:creator>
  <dc:description/>
  <dc:language>en-US</dc:language>
  <cp:lastModifiedBy>cl12millerb</cp:lastModifiedBy>
  <dcterms:modified xsi:type="dcterms:W3CDTF">2009-02-18T14:57:22Z</dcterms:modified>
  <cp:revision>10</cp:revision>
  <dc:subject/>
  <dc:title>Synthesis Reactions </dc:title>
</cp:coreProperties>
</file>