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CC2-8DCB-4225-8A43-9237B92C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0BB-310B-4E81-9342-A69EB7C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0C8-5CB2-493D-AE75-E6C22E85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AFD-2903-49B7-86D3-2BB3729E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8DB-7931-4CD5-BE9E-1C1EFBCB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6B87-395A-454B-828B-505B953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38A-7F74-4D1C-8667-70A43FE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A57D-52AB-4692-90B6-8E5C1A50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F0E5-6392-4E17-877D-16F4BB9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38B-661F-432C-912B-3369DA6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A9E-E587-4E0F-B379-95A5A58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997-A654-4516-9B8B-47B80BC8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A54-F7BF-40C0-B18B-9AFB929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6D53-49A6-4205-98A7-31E223F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6C9-7A46-41C8-9EE8-32F5B07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59A-44AE-4065-891E-A9B5F43D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F484-BF51-4CD0-889C-D9B7C4F0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B70-3958-4152-9A52-67D7A97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D21-F718-499E-992F-BC042C0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50B-A52B-43B2-8CED-A3FFEA3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F24-682E-4DE6-A2AE-E0DAE1F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F4F-5E8A-4AC5-B82C-A3389F0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A72-BB52-4467-A669-096C53F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53A-F8AB-4368-A2AE-498F72A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6F7D-1869-4B27-9E6E-6D9A7746AD0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66A-75C7-4434-80D0-4770577BC41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tany, Mark, and Kathr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68200"/>
            <a:ext cx="8693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ynthesis reaction is when two or more substances react to form a single substan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+B=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The result of a synthesis reaction will always be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drogen and Oxygen combining to form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carbon is burned it forms Carbon Di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ide and Water forms to make Calcium Hydr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lfur trioxide and Water forms to make Sulfuric Ac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filterforge.com/filters/2212.jpg"/>
          <p:cNvPicPr/>
          <p:nvPr/>
        </p:nvPicPr>
        <p:blipFill>
          <a:blip r:embed="rId1"/>
          <a:stretch/>
        </p:blipFill>
        <p:spPr>
          <a:xfrm>
            <a:off x="4572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ictures of Synthesis React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5334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sty piece of me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thesis Reactions are used in several ways in real life situ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nerate electric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acecraf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new elements or substa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ydrogen and Oxygen creates Wate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hen one substance (A) reacts with another substance (B) to form one whole substance (AB) a synthesis reaction has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www.usoe.k12.ut.us/CURR/Science/sciber00/8th/matter/images/SYNTHES.GIF"/>
          <p:cNvPicPr/>
          <p:nvPr/>
        </p:nvPicPr>
        <p:blipFill>
          <a:blip r:embed="rId2"/>
          <a:stretch/>
        </p:blipFill>
        <p:spPr>
          <a:xfrm>
            <a:off x="5029200" y="2971800"/>
            <a:ext cx="335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ci.brooklyn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chemtuto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tevespanglerscienc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videos.howstuffworks.com/hsw/16964-physical-science-four-types-of-chemical-reactions-video.ht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50:26Z</dcterms:created>
  <dc:creator>cl12millerb</dc:creator>
  <dc:description/>
  <dc:language>en-US</dc:language>
  <cp:lastModifiedBy>cl12millerb</cp:lastModifiedBy>
  <dcterms:modified xsi:type="dcterms:W3CDTF">2009-02-18T14:57:22Z</dcterms:modified>
  <cp:revision>10</cp:revision>
  <dc:subject/>
  <dc:title>Synthesis Reactions </dc:title>
</cp:coreProperties>
</file>