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explode.wav" ContentType="audio/x-wav"/>
  <Override PartName="/ppt/media/image1.jpeg" ContentType="image/jpeg"/>
  <Override PartName="/ppt/media/image2.jpeg" ContentType="image/jpeg"/>
  <Override PartName="/ppt/media/image3.wmf" ContentType="image/x-wmf"/>
  <Override PartName="/ppt/media/voltage.wav" ContentType="audio/x-wav"/>
  <Override PartName="/ppt/media/drumroll.wav" ContentType="audio/x-wav"/>
  <Override PartName="/ppt/media/image5.wmf" ContentType="image/x-wmf"/>
  <Override PartName="/ppt/media/applause.wav" ContentType="audio/x-wav"/>
  <Override PartName="/ppt/media/whoosh.wav" ContentType="audio/x-wav"/>
  <Override PartName="/ppt/media/image6.wmf" ContentType="image/x-wmf"/>
  <Override PartName="/ppt/media/image4.png" ContentType="image/png"/>
  <Override PartName="/ppt/media/laser.wav" ContentType="audio/x-wav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A91-3702-4862-B8AD-4B9574C7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F63-A54A-4465-99F8-A45711A4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396-7D5C-4955-8231-8CCC5D1E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B05-05A3-481E-9322-613F02F9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F8F1-43F6-478E-B07C-295B3C6F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81EB-8AF8-43D2-A015-865625B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F12-2C1C-46A0-AEED-C779063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8E9-7EBE-4F65-A482-79D3EAE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23A5-209D-49A4-9C84-CD77DB6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177A-2980-4549-BC12-27160D47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CE02-A6E5-4C14-931E-6814410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DFF-568F-4FB9-9A26-CEBB684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CFF8-80A6-434D-8C68-F66C61F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AF5-1C35-48E4-82C7-512CADCE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207C-1251-4D7B-990C-AD6E465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D188-DE59-42E4-BAF6-04341E4A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F687-2394-4D8A-9517-E348006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1BB46-6C82-4391-AAA0-9A4E19B6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DD428-6088-4D4B-B19E-2B702E0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C2A2D-8077-4027-8428-2160C2BE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06818-CC05-4A07-BBE2-FF19F5A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41751-0B1F-4549-84DF-7836D09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8EB-C876-4C87-B0C7-7EBFEDFE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3A564-E070-44B0-8F8C-8A232907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42ACD-DAD0-4430-A440-ACE6F8E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25C6D-948F-46FD-A1DF-AD51AF9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88B38-A80E-4B16-BF8B-895883A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4AF3B-8A5A-4580-B759-B2BD352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B73F6-90C0-4DE0-8E82-F32201B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C9B3A-1763-40B8-B636-B7D737C7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36764-8A36-4A81-8E4B-2E576F62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7B90B-B9E5-4D98-8885-CFA17A8C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6CA0F-E6B3-420E-9B4E-3EC6CC40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10E-0800-4B68-9E17-75E1F5E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C0FE2-95C3-4C9C-985C-1224110D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75932-B689-4259-A988-B341C52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56C75-C474-49CA-9002-847BB11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7624F-301F-4ECB-907F-1974CAD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BD0CC-850B-4150-AAC6-F620BF0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8ED66-A99F-4E30-B420-A3077313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F9178-F587-4125-86FB-3A717C82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C309C-25A1-4647-9820-22C071E2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2891B-7598-4DE1-A400-B085C36B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A7CEF-76F6-413C-93CE-0116EEF2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AFE-103D-4DCC-A9DE-1523B7A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D0419-5060-446F-AA90-6836FA5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7FC26-27F8-4A84-A2C2-A49673DC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BA64D-C653-4A9D-8D59-467C2BC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F62DE-7EBA-44C0-A5A0-02F39C31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A386A-1B9D-4A42-B0ED-C09523E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D0850-B53A-4F16-AEA2-3648B6F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53FB9-E6CA-4156-AC30-C17AE570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9D98F-8DDC-42FF-B369-F5138AF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2987E-179D-458C-88A2-3BEAA42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90A57-BC9E-4746-8EFB-6E8766BC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0CB-CE01-4DC6-ABB0-484D6E5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7E8A4-8358-4CD8-BD9B-1981B2B8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6373-1BEB-4CAE-84B0-E3A0CD63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D15B9-34C4-4C6B-948B-66FF51F3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DD90-21B2-4C5A-86D0-2AB69DC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5E34-CF00-4813-849F-4F9BB1F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5D96-5A94-4E8F-9C61-369109E6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FAAD-BFD5-4E03-AA7B-0DE992D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3F5A-1632-4A71-923F-A55C3E3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B0A82-7A6F-483F-9905-29CB19F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CECC4-A559-4261-8BC7-B714E1A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3BD-3AE5-4D27-B56C-12FC8C5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B628-653C-40B7-9558-4119BD0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ED9D-3B8B-4E42-B61D-02423EDA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2326B-5A85-45DB-9889-B0329E26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1BAFE-C93B-49F9-AEFD-A2333EBE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44D52-815F-4C7F-9BD5-2169CB0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4B100-615E-415B-ABCD-2E0DE62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B85D9-C749-43AB-94C3-36FD12C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D5CC6-8190-44D9-BD35-29C0FAD9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38912-E489-48D2-8DB6-8B5E0FD5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1EBE7-3C9C-4AF0-9F57-759C9B2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E6B-0510-4E33-9120-8BA9235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72363-55C1-4653-B89A-824F560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C791E-CEF2-47B0-9DBA-2131B227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6D490-030B-4C3D-BFF3-437FF5B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A0823-5CB9-4CC4-8315-5687595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1035F-641B-46C3-BE2D-08D78AA1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1B5D0-EF1A-4E0C-B6EA-859BB3BA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54FF-E61D-4D42-B1D0-0143FB35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A917-8FC6-4D02-9F0D-A5BA60B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A3AA-88B4-455A-8CFA-0203F4A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EFC4-7AD0-474F-9B54-B1A62C86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EAD-7BF0-40D3-878A-4C2A661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8309-3F8E-443F-9DD2-F898AEBE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290E-0089-4FF7-B72B-F186210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3520-4619-4414-9857-853FE98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12B7-94EF-4A58-9825-B6BA117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8B4E-EB83-4D7C-B9EA-4E85599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47C1-B00D-46A1-839D-B1E3CF4C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C004-3B19-42D8-85E5-85A8EE7B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8E40-BEA4-4031-BD3A-BE15D732B11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78F-2B93-4C1E-9FD6-CB43E18A73F1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873-9035-4271-995F-F1CFF39A1CD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A1F6-B4BC-4F1B-8026-13C3E063D40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37B-7051-4232-B65B-0E0446886F8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78F-7CAF-4D06-B141-A70EAFE08BFF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2ED-F52C-4027-9CA0-0D57D422E08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8728-86F4-4BAB-9F41-3CFA7A26E38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voltage.wav" TargetMode="External"/><Relationship Id="rId2" Type="http://schemas.microsoft.com/office/2007/relationships/media" Target="file:///tmp/home/.config/libreoffice/4/user/gallery/voltage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SINGLE REPLACEMENT REACTION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 Courtney Garloff, Jessica Hain, Amanda Perry, and Garrett Leveng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4" descr="C:\Documents and Settings\cl12perrya\Local Settings\Temporary Internet Files\Content.IE5\84J2OIQR\MCj03970480000[1].wmf"/>
          <p:cNvPicPr/>
          <p:nvPr/>
        </p:nvPicPr>
        <p:blipFill>
          <a:blip r:embed="rId1"/>
          <a:stretch/>
        </p:blipFill>
        <p:spPr>
          <a:xfrm>
            <a:off x="2743200" y="304920"/>
            <a:ext cx="371160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Video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76520" y="16765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Generic Equa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360" y="1599840"/>
            <a:ext cx="3730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A+ BC           B+ AC 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sp>
        <p:nvSpPr>
          <p:cNvPr id="357" name="Right Arrow 3"/>
          <p:cNvSpPr/>
          <p:nvPr/>
        </p:nvSpPr>
        <p:spPr>
          <a:xfrm>
            <a:off x="2133720" y="1676520"/>
            <a:ext cx="9144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fd13b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8" name="Picture 5" descr="C:\Documents and Settings\cl12perrya\Local Settings\Temporary Internet Files\Content.IE5\6G601VPN\MCj03108800000[1].wmf"/>
          <p:cNvPicPr/>
          <p:nvPr/>
        </p:nvPicPr>
        <p:blipFill>
          <a:blip r:embed="rId1"/>
          <a:stretch/>
        </p:blipFill>
        <p:spPr>
          <a:xfrm>
            <a:off x="4572000" y="2895480"/>
            <a:ext cx="3583080" cy="341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hoosh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al-life Exampl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1600200"/>
            <a:ext cx="815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are taking a pictur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  <a:p>
            <a:pPr marL="117720" indent="-117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you film or import a movie.</a:t>
            </a:r>
            <a:endParaRPr b="0" lang="en-US" sz="2900" spc="-1" strike="noStrike">
              <a:solidFill>
                <a:srgbClr val="ffc000"/>
              </a:solidFill>
              <a:latin typeface="Tw Cen MT"/>
            </a:endParaRPr>
          </a:p>
        </p:txBody>
      </p:sp>
      <p:pic>
        <p:nvPicPr>
          <p:cNvPr id="361" name="Picture 4" descr="C:\Documents and Settings\cl12perrya\Local Settings\Temporary Internet Files\Content.IE5\FYXW0WML\MCj03974780000[1].wmf"/>
          <p:cNvPicPr/>
          <p:nvPr/>
        </p:nvPicPr>
        <p:blipFill>
          <a:blip r:embed="rId1"/>
          <a:stretch/>
        </p:blipFill>
        <p:spPr>
          <a:xfrm>
            <a:off x="5562720" y="3200400"/>
            <a:ext cx="30463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304920" y="1981080"/>
            <a:ext cx="86104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hen a reaction involves an element which displaces another in a compound, it is called a single substitution or single replacement reaction.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64" name="Picture 3" descr="C:\Documents and Settings\cl12perrya\Local Settings\Temporary Internet Files\Content.IE5\6G601VPN\MCj02931980000[1].wmf"/>
          <p:cNvPicPr/>
          <p:nvPr/>
        </p:nvPicPr>
        <p:blipFill>
          <a:blip r:embed="rId1"/>
          <a:stretch/>
        </p:blipFill>
        <p:spPr>
          <a:xfrm>
            <a:off x="6248520" y="3657600"/>
            <a:ext cx="274320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80880" y="190512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owstuffwork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2819520"/>
            <a:ext cx="6477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Discovering Streaming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28600" y="3886200"/>
            <a:ext cx="4952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Hyperphysics.com 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480060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Chemical Concepts.com</a:t>
            </a:r>
            <a:endParaRPr b="0" lang="en-US" sz="29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70" name="Picture 3" descr="C:\Documents and Settings\cl12perrya\Local Settings\Temporary Internet Files\Content.IE5\FYXW0WML\MCj04348650000[1].png"/>
          <p:cNvPicPr/>
          <p:nvPr/>
        </p:nvPicPr>
        <p:blipFill>
          <a:blip r:embed="rId1"/>
          <a:stretch/>
        </p:blipFill>
        <p:spPr>
          <a:xfrm>
            <a:off x="4114800" y="14479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explode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22:45Z</dcterms:created>
  <dc:creator>cl12perrya</dc:creator>
  <dc:description/>
  <dc:language>en-US</dc:language>
  <cp:lastModifiedBy>cl12perrya</cp:lastModifiedBy>
  <dcterms:modified xsi:type="dcterms:W3CDTF">2009-02-18T15:58:34Z</dcterms:modified>
  <cp:revision>14</cp:revision>
  <dc:subject/>
  <dc:title>Single Replacement Reaction</dc:title>
</cp:coreProperties>
</file>