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8.png" ContentType="image/png"/>
  <Override PartName="/ppt/media/explode.wav" ContentType="audio/x-wav"/>
  <Override PartName="/ppt/media/image1.jpeg" ContentType="image/jpeg"/>
  <Override PartName="/ppt/media/image2.jpeg" ContentType="image/jpeg"/>
  <Override PartName="/ppt/media/image3.wmf" ContentType="image/x-wmf"/>
  <Override PartName="/ppt/media/voltage.wav" ContentType="audio/x-wav"/>
  <Override PartName="/ppt/media/drumroll.wav" ContentType="audio/x-wav"/>
  <Override PartName="/ppt/media/image5.wmf" ContentType="image/x-wmf"/>
  <Override PartName="/ppt/media/applause.wav" ContentType="audio/x-wav"/>
  <Override PartName="/ppt/media/whoosh.wav" ContentType="audio/x-wav"/>
  <Override PartName="/ppt/media/image6.wmf" ContentType="image/x-wmf"/>
  <Override PartName="/ppt/media/image4.png" ContentType="image/png"/>
  <Override PartName="/ppt/media/laser.wav" ContentType="audio/x-wav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4D55-B1B1-4307-A0F1-02BBF77E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2390-6FC6-4AFE-BED0-8BED6661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25A8-F60E-4585-8A1C-6BAD2547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B049-F153-41BD-B7C9-0F7E5229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03DA-8A51-410C-B7C5-8BF63DF2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150C-5DD1-4F85-B46C-0F154E12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54A4-7138-4C12-B901-DE0E7766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CB6F-D5F7-4EF1-BA47-3D493574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7DD0-42AA-49AE-AD8A-3A41CA18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55EE-D24F-4B5E-903F-B5291171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DFA0-C142-47FA-91E9-65C369AC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A732-19DB-42E6-A2AF-2C5D0A27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AE50-7563-469D-AE43-7BC39552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A90A-EA73-4741-A84D-25790370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372B-FDF3-4732-BB69-06EDF68F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486A-DB6E-44EB-AEA3-FCB97586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C75E-D2E5-4063-9F90-D97763DF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FE7946-BC79-4C1C-A665-F977A7D4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BD951D-32A1-4B62-8700-CCE42603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ADCB52-BC90-470F-8C1B-4B933F90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4DCD2-6E4B-4DED-8F58-38B3336F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02A637-C79D-4BBB-93E4-DA33856C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17FF-093A-4E26-8A4C-7477AE21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C01BF-5551-44F8-A8D8-16DB6438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B9FEE-3428-4611-BC83-03944CD8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2EE5A-C75E-4592-96CF-20F938EB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3B8BBC-3864-435B-BAC1-ED291DC6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E350F1-E0D3-4D56-956A-FEB0F968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93BA6B-F058-497C-8E99-967F97B1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4693E-4E14-495F-8437-B2584850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F67B59-76BC-4133-9359-645ABE58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BDFBC3-9B27-44E3-9F77-7D033426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970AF4-461D-4761-A91B-C95D0AA0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58DE-F852-4A60-A88F-03EAFD23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BAC1BE-DE55-478F-B3D8-1C8D14B0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27DC33-EA78-45A8-96AE-2E8527A7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4AF605-F437-405A-ABCE-18EDD64B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07553F-D014-486B-A4EA-D0922707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A416B1-8335-48B1-8244-855C8818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24BD33-CB4A-465B-8204-EB717C4C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7A9080-0C74-445E-B209-F5C9E218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399CD5-EA88-4F0D-BC66-C355B747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5D702A-34E5-4306-A5AD-D3353E14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59C7F7-40B7-42A6-81DA-E5641E69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3078-3790-4E5A-B844-F0CA6221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1D78E9-17B3-4610-A2EE-01A95C39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836E97-B7E6-428E-8BE7-C482A954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B846CA-D715-4E95-B424-175B46DE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C70084-F4ED-4ED0-82FD-6A8DBE03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693A33-CF54-4A7A-8ABE-6590B25D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272BDD-8E5E-4E4F-B3C8-846070B3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2E0208-9D12-41F1-8834-F2E679CD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D518DD-3952-4CC4-8EF3-EF80AC80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7647D3-4B17-411B-9E97-39E17E68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22040-2083-4B9A-872B-4A46E56B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3AF2-B0A5-4B04-9A5B-BCE68206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541C89-CB5C-4139-B047-2E52B4CC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DD242-02A7-46E5-B93F-5C41BC45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4EE8E-144F-4D5E-A409-1BC9E209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EE5AA-1A72-4A20-B871-E42F0211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2AEB7-BB45-4F81-A882-51AB2D06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7C7B5-F773-4E05-A7BB-211C6282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55FE6-A5DA-4718-8BE2-FFEE85D1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977D1-19A3-4EB4-9289-8B301899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14C5B-2CFE-4D3D-979A-112976D7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761C4-BD35-45AD-A2E8-1DC16C00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A630-1874-49C0-8094-279C1E4E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74A8A-09A3-4B2D-A32C-90701C7E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BBA7E-1BFC-4CE3-8636-25E113C3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F48E5-A6E1-40CD-86FA-4468C64F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03975C-5319-42C2-A385-ED621211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95D8F8-8605-4D10-AAF0-3C7223B0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F0FECA-655F-423D-8280-10626B90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AA9945-CD46-4E9F-BC99-DE5AC733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C3F9D1-6B1A-4391-8BDC-02323FB7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78E0F9-AF27-4386-A3EE-C1B6EBBB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AA1ADE-88BD-4D0F-8358-CF03236F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FD64-E0B2-488E-9B06-37A4B27A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A7E1E1-18A1-41D5-8862-EBC8147A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8D9EAF-B395-47A0-8248-EB31AB3A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3CF0C1-C5BB-41BF-8711-317CA1FE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9C51B0-5C78-41A6-99D4-181D5915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2E86A5-C253-42A8-B4CD-944B8B8C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8E2EF-7C9F-42F5-B368-A33FA4EB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25D60-6B41-4CA4-A875-52BD73D1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F49BD-BF51-4571-B499-6437F373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31989-FC2A-4A32-A7B0-50254E55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6488D-4F36-4520-9B35-51AC7489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A972-7B73-4B1C-B29E-ADA54535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18668-B94C-4D50-8E92-F6110A45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88096-B45D-417C-A348-FFB93C17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BE6D7-E3D3-4725-A6CB-D2AA2CC8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CD1FB-5ED2-4AB3-8A26-2ED12373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BAEB1-9C1B-4EBB-93A1-EAF27E18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48A10-CA7A-4674-BC5C-10F64AAE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40EB0-2898-48AC-B083-997820DF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9252-CC75-4E73-BCEF-F61BAE4C6EF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6ec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6ec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6DB3-A09B-4DF3-BA78-81E90EBD81C3}" type="slidenum">
              <a:rPr b="1" lang="en-US" sz="1400" spc="-1" strike="noStrike">
                <a:solidFill>
                  <a:srgbClr val="d6ec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3897-ADB2-4087-8382-7361242BE81E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B27F-9585-461C-9413-A6A50E17882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88D4-80F1-4F09-BEC6-7828DA5E5E8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4D23-BF31-44B5-9D91-C69363E1C8E9}" type="slidenum">
              <a:rPr b="1" lang="en-US" sz="1400" spc="-1" strike="noStrike">
                <a:solidFill>
                  <a:srgbClr val="4e5b6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6D7F-3E24-415A-A221-704671D97340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58DC-2E22-44A8-839C-C58073239CB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voltage.wav" TargetMode="External"/><Relationship Id="rId2" Type="http://schemas.microsoft.com/office/2007/relationships/media" Target="file:///tmp/home/.config/libreoffice/4/user/gallery/voltage.wav" TargetMode="External"/><Relationship Id="rId3" Type="http://schemas.openxmlformats.org/officeDocument/2006/relationships/image" Target="../media/image4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Tw Cen MT"/>
              </a:rPr>
              <a:t>SINGLE REPLACEMENT REACTION</a:t>
            </a:r>
            <a:endParaRPr b="0" lang="en-US" sz="4400" spc="-1" strike="noStrike">
              <a:solidFill>
                <a:srgbClr val="d6ecff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By  Courtney Garloff, Jessica Hain, Amanda Perry, and Garrett Levengood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4" descr="C:\Documents and Settings\cl12perrya\Local Settings\Temporary Internet Files\Content.IE5\84J2OIQR\MCj03970480000[1].wmf"/>
          <p:cNvPicPr/>
          <p:nvPr/>
        </p:nvPicPr>
        <p:blipFill>
          <a:blip r:embed="rId1"/>
          <a:stretch/>
        </p:blipFill>
        <p:spPr>
          <a:xfrm>
            <a:off x="2743200" y="304920"/>
            <a:ext cx="3711600" cy="37051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Video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pic>
        <p:nvPicPr>
          <p:cNvPr id="35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676520" y="16765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4" name="voltag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54"/>
                </p:tgtEl>
              </p:cMediaNode>
            </p:audio>
            <p:seq>
              <p:cTn id="7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Generic Equation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360" y="1599840"/>
            <a:ext cx="37306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A+ BC           B+ AC 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57" name="Right Arrow 3"/>
          <p:cNvSpPr/>
          <p:nvPr/>
        </p:nvSpPr>
        <p:spPr>
          <a:xfrm>
            <a:off x="2133720" y="1676520"/>
            <a:ext cx="914400" cy="38088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7fd13b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58" name="Picture 5" descr="C:\Documents and Settings\cl12perrya\Local Settings\Temporary Internet Files\Content.IE5\6G601VPN\MCj03108800000[1].wmf"/>
          <p:cNvPicPr/>
          <p:nvPr/>
        </p:nvPicPr>
        <p:blipFill>
          <a:blip r:embed="rId1"/>
          <a:stretch/>
        </p:blipFill>
        <p:spPr>
          <a:xfrm>
            <a:off x="4572000" y="2895480"/>
            <a:ext cx="3583080" cy="3411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2" name="whoosh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Real-life Examples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09120" y="1600200"/>
            <a:ext cx="815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17720" indent="-11772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When you are taking a picture.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marL="117720" indent="-11772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When you film or import a movie.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pic>
        <p:nvPicPr>
          <p:cNvPr id="361" name="Picture 4" descr="C:\Documents and Settings\cl12perrya\Local Settings\Temporary Internet Files\Content.IE5\FYXW0WML\MCj03974780000[1].wmf"/>
          <p:cNvPicPr/>
          <p:nvPr/>
        </p:nvPicPr>
        <p:blipFill>
          <a:blip r:embed="rId1"/>
          <a:stretch/>
        </p:blipFill>
        <p:spPr>
          <a:xfrm>
            <a:off x="5562720" y="3200400"/>
            <a:ext cx="3046320" cy="3086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laser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Review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63" name="TextBox 2"/>
          <p:cNvSpPr/>
          <p:nvPr/>
        </p:nvSpPr>
        <p:spPr>
          <a:xfrm>
            <a:off x="304920" y="1981080"/>
            <a:ext cx="86104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When a reaction involves an element which displaces another in a compound, it is called a single substitution or single replacement reaction. </a:t>
            </a:r>
            <a:endParaRPr b="0" lang="en-US" sz="29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64" name="Picture 3" descr="C:\Documents and Settings\cl12perrya\Local Settings\Temporary Internet Files\Content.IE5\6G601VPN\MCj02931980000[1].wmf"/>
          <p:cNvPicPr/>
          <p:nvPr/>
        </p:nvPicPr>
        <p:blipFill>
          <a:blip r:embed="rId1"/>
          <a:stretch/>
        </p:blipFill>
        <p:spPr>
          <a:xfrm>
            <a:off x="6248520" y="3657600"/>
            <a:ext cx="2743200" cy="2728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drumroll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Sources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66" name="TextBox 2"/>
          <p:cNvSpPr/>
          <p:nvPr/>
        </p:nvSpPr>
        <p:spPr>
          <a:xfrm>
            <a:off x="380880" y="1905120"/>
            <a:ext cx="8458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Howstuffworks.com</a:t>
            </a:r>
            <a:endParaRPr b="0" lang="en-US" sz="29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228600" y="2819520"/>
            <a:ext cx="6477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Discovering Streaming.com </a:t>
            </a:r>
            <a:endParaRPr b="0" lang="en-US" sz="29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228600" y="3886200"/>
            <a:ext cx="49528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Hyperphysics.com </a:t>
            </a:r>
            <a:endParaRPr b="0" lang="en-US" sz="29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304920" y="4800600"/>
            <a:ext cx="4495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hemical Concepts.com</a:t>
            </a:r>
            <a:endParaRPr b="0" lang="en-US" sz="29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70" name="Picture 3" descr="C:\Documents and Settings\cl12perrya\Local Settings\Temporary Internet Files\Content.IE5\FYXW0WML\MCj04348650000[1].png"/>
          <p:cNvPicPr/>
          <p:nvPr/>
        </p:nvPicPr>
        <p:blipFill>
          <a:blip r:embed="rId1"/>
          <a:stretch/>
        </p:blipFill>
        <p:spPr>
          <a:xfrm>
            <a:off x="4114800" y="14479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explode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6:22:45Z</dcterms:created>
  <dc:creator>cl12perrya</dc:creator>
  <dc:description/>
  <dc:language>en-US</dc:language>
  <cp:lastModifiedBy>cl12perrya</cp:lastModifiedBy>
  <dcterms:modified xsi:type="dcterms:W3CDTF">2009-02-18T15:58:34Z</dcterms:modified>
  <cp:revision>14</cp:revision>
  <dc:subject/>
  <dc:title>Single Replacement Reaction</dc:title>
</cp:coreProperties>
</file>