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8.png" ContentType="image/png"/>
  <Override PartName="/ppt/media/explode.wav" ContentType="audio/x-wav"/>
  <Override PartName="/ppt/media/image1.jpeg" ContentType="image/jpeg"/>
  <Override PartName="/ppt/media/image2.jpeg" ContentType="image/jpeg"/>
  <Override PartName="/ppt/media/image3.wmf" ContentType="image/x-wmf"/>
  <Override PartName="/ppt/media/voltage.wav" ContentType="audio/x-wav"/>
  <Override PartName="/ppt/media/drumroll.wav" ContentType="audio/x-wav"/>
  <Override PartName="/ppt/media/image5.wmf" ContentType="image/x-wmf"/>
  <Override PartName="/ppt/media/applause.wav" ContentType="audio/x-wav"/>
  <Override PartName="/ppt/media/whoosh.wav" ContentType="audio/x-wav"/>
  <Override PartName="/ppt/media/image6.wmf" ContentType="image/x-wmf"/>
  <Override PartName="/ppt/media/image4.png" ContentType="image/png"/>
  <Override PartName="/ppt/media/laser.wav" ContentType="audio/x-wav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40B7-22A1-4612-ADCB-F0E99707B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77A1-6D96-4A83-B5ED-3B79B448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ED7C-C2BF-40DD-A83F-46CBA05C0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EB6C-0015-4C87-871F-B3F8635E7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FE7D-9987-49A1-89ED-DEBCE0FC1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0B61-9A2A-4BBD-A17D-CB30155B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503B-5DEB-47F5-9869-9D988FDF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D831-1730-4AC1-B4AC-5F4E7ED7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00A1-1113-4943-BC54-0065C3BF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6733-4347-4E50-9BB9-1A0BA9FC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3026-C2C5-4B9E-B2C6-7CB81159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4E97-759B-4949-98E8-083084DC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BA75-A90F-4537-A83E-990E7DA5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C105-A89F-4C8D-A4FC-06F4B577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1B63-4F62-487C-B897-AB448D63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7357-E87C-4029-AA77-E28CF11BB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F625-BB10-41A1-B4E8-A1A0B68F6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9148F5-1B8A-4437-B1EC-CD8233DB3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0BA6EE-3816-40A9-8DDD-329ACDAE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FFB61C-82F5-4A1B-837C-C1B8BB96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E00AC7-7969-4EC0-94F5-2BA1F6D7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784BB5-6550-4728-B744-35F78F0E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B8A4-E778-459E-B86A-ED71F228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E65EF7-65DE-4009-859E-54A2CA43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1CD517-D3AF-45F3-8052-380F8B69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080D62-45CB-4EE3-B4C4-4E9EBDDE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472DB4-695D-4893-8D37-3BCCE5B4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B3BD8C-86C1-4F17-884B-08EA2571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7A9686-31BE-40F2-8385-6D6D56E41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0736E8-82E9-4EFB-A7C8-BD42443B9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C31E83-255D-4D0A-AF6D-AED7A3A37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E4CC0F-2DC7-4B09-A151-25BE9389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6AD516-D77F-4461-82D9-D3D86D9C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1A2E-2B0E-4F86-A7AF-E1C1CF07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13A0B5-856F-4E67-998E-3086D531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D04E60-4D4B-4B22-B99C-A87C4043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FF99D6-F2C4-450E-BD95-DCDDBD2C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A2E72A-A006-4C8C-B78D-43CEE4C9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6B9BE8-2640-4272-895E-C54B6ADA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16F9EB-D4BB-4369-8A16-7B4F438E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0143EF-DEB6-4F90-B088-2DB4E971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B801F2-C4E9-4454-95FF-D0DF90F35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887653-8BBC-44B0-A4C7-8722EB964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C983DD-6E27-4BE5-B69C-EA8B17CBB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EF30-04AC-445C-93F1-CB1637B7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BDD511-240D-4599-A3C2-AE62E581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EF959F-AD09-4DE5-AB54-EF998874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15C525-44B5-45B1-BB58-FE1183E7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4619C7-F03F-4B8E-909A-02FD0B91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47D6FE-50F1-46EB-A0C0-4F2232DD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960A41-E133-4866-9A57-60BCB0B1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F95031-66C4-4FDB-8200-613F37D9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72D922-78B8-49C9-9D3A-DD635065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843528-322E-4C7A-9747-47A5414D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E236A6-3A78-4313-BD31-09709C915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38EF-D850-4A5B-A0AE-503D1B2B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D14D9D-F534-415C-A691-11C6113F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102E0-8F28-44E0-B4F3-A98AE6F60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3601F-85D2-4026-AAE2-07DEE982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44051-8F96-4D6E-BFA6-AF783432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E1139-F1C5-401B-A63C-21765725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4C959-069C-41B7-A35D-0C6F54A8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2BF3F-D6D9-4913-B1E9-450957DB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DECC5-DFBB-438E-B68C-C9503729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414FB-AAF9-4CDB-94B6-285C849B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6FF97-5539-466D-8B41-2F00EED9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52F2-E0D1-4E81-AD3C-95E761D5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3FDB2-8264-43C4-93FF-DFA15199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C6F54-0524-4FF7-A365-FEA63A3F6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64177-F8E9-4D81-AE5C-4AE810809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25DBB6-20D4-4AE2-A889-B30FE43D9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28FD1A-C70C-4687-BE68-5E7216E6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9D2647-B66C-4431-B35B-FF210D2A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38FAB5-318C-4403-9C35-C116EE86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3FDCB6-9D4D-46BA-B8C3-574766B2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5EC38D-584E-4053-8965-B52FEE1B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6F0AED-2C1E-4997-BD49-F8CF1BC4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3585-AB52-4C0A-B01D-FE70FB71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4167AB-ED1D-47B3-8D2B-8CCE0578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8F8148-D0BB-4052-80B5-340458F2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8F3496-F17F-4980-821C-CED0B78D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7D6105-7E85-47C1-B12A-D5C296622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37ECEF-8F52-41A8-A433-61402F905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D901E-614F-4874-9301-F9E898A55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0D4C5-7FF8-4C1A-8896-84BEEEAD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468E2-E1AB-4004-A875-493269EE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50BC8-DA47-46B7-AC0E-5838167E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6622D-683B-4924-AEAE-76F60AC1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13DF-FF59-489E-B8C5-AB298D9C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9F938-024B-4B40-96B0-85D749C2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0C95A-7CF1-446D-904C-BCBFD373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4F523-87D4-40A0-85EB-E7129EE0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8EA65-4593-4959-9FDF-F22A9F1E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AB219-F8F3-4898-89B2-F5F13571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CDFE7-0FEA-493E-AAED-3BC43CEBC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AACD8-C750-4ED1-B795-5702E2FB7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6722-BF7B-42B1-AB36-91FF218F740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ecf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6ecff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6ec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1D75-95B2-43EC-AD19-2FD5146ADC49}" type="slidenum">
              <a:rPr b="1" lang="en-US" sz="1400" spc="-1" strike="noStrike">
                <a:solidFill>
                  <a:srgbClr val="d6ec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8E1B-9369-42EE-9122-AE26DE4BB2BF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28BB-AE57-435F-B71D-6A9FAF1FC632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4FB4-0CC7-4447-8C45-C86A2474FA7A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6E85-04E7-4570-B964-157379FFD99F}" type="slidenum">
              <a:rPr b="1" lang="en-US" sz="1400" spc="-1" strike="noStrike">
                <a:solidFill>
                  <a:srgbClr val="4e5b6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B328-44B5-44FB-88BD-6BB9CC5D66BC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FFB6-B4D7-4898-9FFF-7A4072964B2C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voltage.wav" TargetMode="External"/><Relationship Id="rId2" Type="http://schemas.microsoft.com/office/2007/relationships/media" Target="file:///tmp/home/.config/libreoffice/4/user/gallery/voltage.wav" TargetMode="External"/><Relationship Id="rId3" Type="http://schemas.openxmlformats.org/officeDocument/2006/relationships/image" Target="../media/image4.pn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ecff"/>
                </a:solidFill>
                <a:latin typeface="Tw Cen MT"/>
              </a:rPr>
              <a:t>SINGLE REPLACEMENT REACTION</a:t>
            </a:r>
            <a:endParaRPr b="0" lang="en-US" sz="4400" spc="-1" strike="noStrike">
              <a:solidFill>
                <a:srgbClr val="d6ecff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By  Courtney Garloff, Jessica Hain, Amanda Perry, and Garrett Levengood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2" name="Picture 4" descr="C:\Documents and Settings\cl12perrya\Local Settings\Temporary Internet Files\Content.IE5\84J2OIQR\MCj03970480000[1].wmf"/>
          <p:cNvPicPr/>
          <p:nvPr/>
        </p:nvPicPr>
        <p:blipFill>
          <a:blip r:embed="rId1"/>
          <a:stretch/>
        </p:blipFill>
        <p:spPr>
          <a:xfrm>
            <a:off x="2743200" y="304920"/>
            <a:ext cx="3711600" cy="370512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Video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pic>
        <p:nvPicPr>
          <p:cNvPr id="35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676520" y="16765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4" name="voltag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54"/>
                </p:tgtEl>
              </p:cMediaNode>
            </p:audio>
            <p:seq>
              <p:cTn id="7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Generic Equation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12360" y="1599840"/>
            <a:ext cx="37306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A+ BC           B+ AC 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57" name="Right Arrow 3"/>
          <p:cNvSpPr/>
          <p:nvPr/>
        </p:nvSpPr>
        <p:spPr>
          <a:xfrm>
            <a:off x="2133720" y="1676520"/>
            <a:ext cx="914400" cy="38088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7fd13b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358" name="Picture 5" descr="C:\Documents and Settings\cl12perrya\Local Settings\Temporary Internet Files\Content.IE5\6G601VPN\MCj03108800000[1].wmf"/>
          <p:cNvPicPr/>
          <p:nvPr/>
        </p:nvPicPr>
        <p:blipFill>
          <a:blip r:embed="rId1"/>
          <a:stretch/>
        </p:blipFill>
        <p:spPr>
          <a:xfrm>
            <a:off x="4572000" y="2895480"/>
            <a:ext cx="3583080" cy="3411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2" name="whoosh.wav"/>
      </p:stSnd>
    </p:sndAc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Real-life Examples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09120" y="1600200"/>
            <a:ext cx="815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17720" indent="-11772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When you are taking a picture.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marL="117720" indent="-11772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When you film or import a movie.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pic>
        <p:nvPicPr>
          <p:cNvPr id="361" name="Picture 4" descr="C:\Documents and Settings\cl12perrya\Local Settings\Temporary Internet Files\Content.IE5\FYXW0WML\MCj03974780000[1].wmf"/>
          <p:cNvPicPr/>
          <p:nvPr/>
        </p:nvPicPr>
        <p:blipFill>
          <a:blip r:embed="rId1"/>
          <a:stretch/>
        </p:blipFill>
        <p:spPr>
          <a:xfrm>
            <a:off x="5562720" y="3200400"/>
            <a:ext cx="3046320" cy="3086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2" name="laser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1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Review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63" name="TextBox 2"/>
          <p:cNvSpPr/>
          <p:nvPr/>
        </p:nvSpPr>
        <p:spPr>
          <a:xfrm>
            <a:off x="304920" y="1981080"/>
            <a:ext cx="86104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When a reaction involves an element which displaces another in a compound, it is called a single substitution or single replacement reaction. </a:t>
            </a:r>
            <a:endParaRPr b="0" lang="en-US" sz="29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364" name="Picture 3" descr="C:\Documents and Settings\cl12perrya\Local Settings\Temporary Internet Files\Content.IE5\6G601VPN\MCj02931980000[1].wmf"/>
          <p:cNvPicPr/>
          <p:nvPr/>
        </p:nvPicPr>
        <p:blipFill>
          <a:blip r:embed="rId1"/>
          <a:stretch/>
        </p:blipFill>
        <p:spPr>
          <a:xfrm>
            <a:off x="6248520" y="3657600"/>
            <a:ext cx="2743200" cy="2728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drumroll.wav"/>
      </p:stSnd>
    </p:sndAc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Sources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66" name="TextBox 2"/>
          <p:cNvSpPr/>
          <p:nvPr/>
        </p:nvSpPr>
        <p:spPr>
          <a:xfrm>
            <a:off x="380880" y="1905120"/>
            <a:ext cx="84582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Howstuffworks.com</a:t>
            </a:r>
            <a:endParaRPr b="0" lang="en-US" sz="29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67" name="TextBox 3"/>
          <p:cNvSpPr/>
          <p:nvPr/>
        </p:nvSpPr>
        <p:spPr>
          <a:xfrm>
            <a:off x="228600" y="2819520"/>
            <a:ext cx="6477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Discovering Streaming.com </a:t>
            </a:r>
            <a:endParaRPr b="0" lang="en-US" sz="29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68" name="TextBox 4"/>
          <p:cNvSpPr/>
          <p:nvPr/>
        </p:nvSpPr>
        <p:spPr>
          <a:xfrm>
            <a:off x="228600" y="3886200"/>
            <a:ext cx="49528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Hyperphysics.com </a:t>
            </a:r>
            <a:endParaRPr b="0" lang="en-US" sz="29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69" name="TextBox 5"/>
          <p:cNvSpPr/>
          <p:nvPr/>
        </p:nvSpPr>
        <p:spPr>
          <a:xfrm>
            <a:off x="304920" y="4800600"/>
            <a:ext cx="4495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Chemical Concepts.com</a:t>
            </a:r>
            <a:endParaRPr b="0" lang="en-US" sz="29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370" name="Picture 3" descr="C:\Documents and Settings\cl12perrya\Local Settings\Temporary Internet Files\Content.IE5\FYXW0WML\MCj04348650000[1].png"/>
          <p:cNvPicPr/>
          <p:nvPr/>
        </p:nvPicPr>
        <p:blipFill>
          <a:blip r:embed="rId1"/>
          <a:stretch/>
        </p:blipFill>
        <p:spPr>
          <a:xfrm>
            <a:off x="4114800" y="14479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2" name="explode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6:22:45Z</dcterms:created>
  <dc:creator>cl12perrya</dc:creator>
  <dc:description/>
  <dc:language>en-US</dc:language>
  <cp:lastModifiedBy>cl12perrya</cp:lastModifiedBy>
  <dcterms:modified xsi:type="dcterms:W3CDTF">2009-02-18T15:58:34Z</dcterms:modified>
  <cp:revision>14</cp:revision>
  <dc:subject/>
  <dc:title>Single Replacement Reaction</dc:title>
</cp:coreProperties>
</file>