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png" ContentType="image/png"/>
  <Override PartName="/ppt/media/explode.wav" ContentType="audio/x-wav"/>
  <Override PartName="/ppt/media/image1.jpeg" ContentType="image/jpeg"/>
  <Override PartName="/ppt/media/image2.jpeg" ContentType="image/jpeg"/>
  <Override PartName="/ppt/media/image3.wmf" ContentType="image/x-wmf"/>
  <Override PartName="/ppt/media/voltage.wav" ContentType="audio/x-wav"/>
  <Override PartName="/ppt/media/drumroll.wav" ContentType="audio/x-wav"/>
  <Override PartName="/ppt/media/image5.wmf" ContentType="image/x-wmf"/>
  <Override PartName="/ppt/media/applause.wav" ContentType="audio/x-wav"/>
  <Override PartName="/ppt/media/whoosh.wav" ContentType="audio/x-wav"/>
  <Override PartName="/ppt/media/image6.wmf" ContentType="image/x-wmf"/>
  <Override PartName="/ppt/media/image4.png" ContentType="image/png"/>
  <Override PartName="/ppt/media/laser.wav" ContentType="audio/x-wav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790-60CD-4DCA-BB7A-FF6F8D00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2FF-EBFE-4530-BF42-32D53C8F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E65-72A8-4AF0-AEAE-3C518184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613-CA23-417D-A8BD-9EB270F3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1F05-C513-4D86-8870-36852101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4297-675B-4DC5-9FF6-BFD1D8A9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FD65-4165-43F7-B9A0-6EB4F8E1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F332-D2D0-47A9-A3AA-C3322153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2A7B-4F28-49BE-AE9B-BC8091A8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A6E7-519F-4076-BB10-7BD40BF1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6CDA-841C-4699-9FAF-525964F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567-5C8B-4D5D-9211-D4533173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E60B-D808-47BD-BAAE-08A476D6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B096-AFB3-4336-B24D-E37AC70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6FA1-2E96-468C-AB91-C03B3F5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A6CB-CDC5-4788-9CD7-76E9B9C8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3C4A-DEEE-46AE-880E-EC3B15E4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45DCD-87DC-4049-82B3-5BC66DB9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C51EA-7259-407B-A734-2003A567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036FD-AE35-4FAA-9A16-676C8A09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83CF4-AAD9-4253-90BE-720F61D1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8AE8D-4DA4-42CB-A5B5-E385CB24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B41-E0FD-4A1D-876A-FF5B85D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26EFB-BCCB-4E3F-959D-3029C7B1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606B1-B1A9-41F1-ABE0-6B53306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00B09-283E-468E-8CF3-0D4EB38C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C677B-4CF5-44EC-9421-40D06ABD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AEBD2-678C-413A-BA3D-806F68C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909EB-6559-45CA-BA03-0632621D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185B1-DCC6-4B50-9404-766431D9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94427-DF29-409D-959B-3C6A449C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35E24-0CEB-42BF-9067-6BB0FDDD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B2C2D-C757-459F-B106-39E832B9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F62-4AAD-4AE8-A40C-E30F6D6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E4EB8-64E4-47FD-B512-83B6CD3C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EB5DB-CFE8-4ADA-A84C-360F75A4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BAD32-4B0F-4677-B5F9-08F70997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32689-CE83-49DD-8DC3-6FEBB2CF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C3934-A9FC-4448-9D7E-0980F257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163E7-C650-4B03-A2FD-34DA788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1B183-F012-454C-BBF1-3EF3A114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D258F-6B5E-4EF2-9D07-37EDC9CB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E855B-CE0C-4A1F-BE47-925E9F15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805D8-454C-40FD-8465-80D6E51E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1BA-3675-456C-83C6-E8BEE748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75694-9F82-4D3D-8148-CFC25764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BFD06-7A86-47B4-8185-2D1EF160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53429-0E3D-4774-A737-BD91A38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79064-6995-4AF9-997D-6E68579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899B9-B9BC-48D8-811F-13688345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89AAC-AE53-4414-857D-2A3E78E5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238ED-6664-4496-9EA9-37371FD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DBCAE-B03C-450D-8A57-FBD830C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03FEB-D687-4991-AACC-595C5494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3EBFC-818B-4587-A410-B618ABB1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B49-09C4-4407-925C-8D867899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7AE07-EAA4-4FEB-8C5B-9788F6FC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04B62-9CA4-4C73-A418-A824A3FB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9C8B-2ACD-4FE2-97F6-4C821E5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486CC-CCE8-4410-94EC-75A8DED8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7A9A1-D267-4C29-BE61-5639F35D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A9A8-EEA4-47CC-AA73-FA59AEF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1B211-947A-4F63-81BF-95434CD2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87C2-D83F-47B4-AC40-977FB4B5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6C561-6DFA-48DC-B28C-C93DF322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00B48-3CC0-4D98-B281-ABFAF8DD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769-B30E-46CE-A869-0545071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92E5F-1FDE-4E0C-97FC-0A5F7F3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2359E-7540-4007-809C-4343ABE4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F875B-C382-4644-BEC4-C2C174B7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3FB53-668D-45AA-8B19-1A6C92D2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B87A56-6065-4A26-9773-84292DA7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D5974-4862-464D-B070-BF167097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5E986-94CF-4DB9-8445-E0973AD4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07350-7C20-4564-A5DF-223588B9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79B0F-45B7-42F8-B15B-3B4B20BC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CDC8E-2CD2-400D-9CD3-851C5346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2E4-810C-43A9-B839-899D6745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579FA-6762-4378-9D48-5873DFBF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02957-55DB-498C-9384-3A2A91B1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97A73-8C71-4A2E-9990-A02F049D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7D385-16C7-4593-999B-BBB8FE1D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986F5-B7D5-4AE0-ABD0-66DC8125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BB027-7DB3-45A0-A16D-75209EE8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BDC3B-C7DB-4667-9396-99AAC9C1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49723-D5C4-4BAA-85E7-3F05C28D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99F69-EBEF-4224-B78A-C29EDABB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1C705-49DC-44AD-B8B5-3810C07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6C9-0670-4DB3-A2B0-954D5BB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FF71E-6BCC-4195-BBCE-A9A967F4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707D-764E-4CAE-91CF-973A9F16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6490D-0EF7-446A-AD1F-A7903B6C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9CEFF-69D5-4D16-B4A4-9FC0FE51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D8E4-37A7-4B3E-A616-22DEF86A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11D29-16DC-40AD-926E-4663B400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0D60B-7EC2-43C5-B79B-CBD4BAAA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C63F-1787-413B-BB20-29611A51C90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519F-7C7E-416A-B9B5-3F11CDD104C2}" type="slidenum">
              <a:rPr b="1" lang="en-US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37D5-E3AF-418C-9160-F8B1FF87F7AC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92F8-DCA0-443D-B3B8-0A50006E032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2B50-0560-4E00-A1A3-B2F1BD4924C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9DBA-03FF-48C6-930B-CE36487BB011}" type="slidenum">
              <a:rPr b="1" lang="en-US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8468-2C67-4779-9AE8-94EDB2B2AC2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BF0D-9EBC-4698-80EF-3EB3B7B35CC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voltage.wav" TargetMode="External"/><Relationship Id="rId2" Type="http://schemas.microsoft.com/office/2007/relationships/media" Target="file:///tmp/home/.config/libreoffice/4/user/gallery/voltage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SINGLE REPLACEMENT REACTION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y  Courtney Garloff, Jessica Hain, Amanda Perry, and Garrett Leveng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4" descr="C:\Documents and Settings\cl12perrya\Local Settings\Temporary Internet Files\Content.IE5\84J2OIQR\MCj03970480000[1].wmf"/>
          <p:cNvPicPr/>
          <p:nvPr/>
        </p:nvPicPr>
        <p:blipFill>
          <a:blip r:embed="rId1"/>
          <a:stretch/>
        </p:blipFill>
        <p:spPr>
          <a:xfrm>
            <a:off x="2743200" y="304920"/>
            <a:ext cx="371160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Video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3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76520" y="16765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4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Generic Equa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360" y="1599840"/>
            <a:ext cx="3730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A+ BC           B+ AC 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7" name="Right Arrow 3"/>
          <p:cNvSpPr/>
          <p:nvPr/>
        </p:nvSpPr>
        <p:spPr>
          <a:xfrm>
            <a:off x="2133720" y="1676520"/>
            <a:ext cx="9144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7fd13b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58" name="Picture 5" descr="C:\Documents and Settings\cl12perrya\Local Settings\Temporary Internet Files\Content.IE5\6G601VPN\MCj03108800000[1].wmf"/>
          <p:cNvPicPr/>
          <p:nvPr/>
        </p:nvPicPr>
        <p:blipFill>
          <a:blip r:embed="rId1"/>
          <a:stretch/>
        </p:blipFill>
        <p:spPr>
          <a:xfrm>
            <a:off x="4572000" y="2895480"/>
            <a:ext cx="3583080" cy="341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hoosh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al-life Exampl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1600200"/>
            <a:ext cx="815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are taking a pictur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film or import a movi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pic>
        <p:nvPicPr>
          <p:cNvPr id="361" name="Picture 4" descr="C:\Documents and Settings\cl12perrya\Local Settings\Temporary Internet Files\Content.IE5\FYXW0WML\MCj03974780000[1].wmf"/>
          <p:cNvPicPr/>
          <p:nvPr/>
        </p:nvPicPr>
        <p:blipFill>
          <a:blip r:embed="rId1"/>
          <a:stretch/>
        </p:blipFill>
        <p:spPr>
          <a:xfrm>
            <a:off x="5562720" y="3200400"/>
            <a:ext cx="30463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304920" y="1981080"/>
            <a:ext cx="86104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a reaction involves an element which displaces another in a compound, it is called a single substitution or single replacement reaction.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64" name="Picture 3" descr="C:\Documents and Settings\cl12perrya\Local Settings\Temporary Internet Files\Content.IE5\6G601VPN\MCj02931980000[1].wmf"/>
          <p:cNvPicPr/>
          <p:nvPr/>
        </p:nvPicPr>
        <p:blipFill>
          <a:blip r:embed="rId1"/>
          <a:stretch/>
        </p:blipFill>
        <p:spPr>
          <a:xfrm>
            <a:off x="6248520" y="3657600"/>
            <a:ext cx="274320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drumroll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Sourc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80880" y="190512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owstuffwork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28600" y="2819520"/>
            <a:ext cx="6477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Discovering Streaming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28600" y="3886200"/>
            <a:ext cx="4952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yperphysics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04920" y="480060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hemical Concept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0" name="Picture 3" descr="C:\Documents and Settings\cl12perrya\Local Settings\Temporary Internet Files\Content.IE5\FYXW0WML\MCj04348650000[1].png"/>
          <p:cNvPicPr/>
          <p:nvPr/>
        </p:nvPicPr>
        <p:blipFill>
          <a:blip r:embed="rId1"/>
          <a:stretch/>
        </p:blipFill>
        <p:spPr>
          <a:xfrm>
            <a:off x="4114800" y="14479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explod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22:45Z</dcterms:created>
  <dc:creator>cl12perrya</dc:creator>
  <dc:description/>
  <dc:language>en-US</dc:language>
  <cp:lastModifiedBy>cl12perrya</cp:lastModifiedBy>
  <dcterms:modified xsi:type="dcterms:W3CDTF">2009-02-18T15:58:34Z</dcterms:modified>
  <cp:revision>14</cp:revision>
  <dc:subject/>
  <dc:title>Single Replacement Reaction</dc:title>
</cp:coreProperties>
</file>