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BAC8-9685-45FD-8180-73575BD5D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C89F-0B0E-4D53-8910-C1E0877CF9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0EA6-619F-4DDE-B321-BD7ABCE283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019F-2FAF-4AB2-8912-3ABB734141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DD21-0282-420D-B8F9-9AD91BBD6E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5D83-F362-44CA-AAE9-3188396424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1146-2F34-4002-8139-D266010A10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E245-4129-40AA-A026-397FA31C1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98D2-2E81-4A48-9154-D7996CF6A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2A27-5867-47B8-82E9-8C6F3DCF79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871-A5DE-455C-8BF6-C9BFF056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125-35E0-4E37-82B8-6DDDC141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B58-CFAC-4107-BCB5-C1204556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955-D25A-4362-981E-969F6083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2A40-5423-47AE-93CA-32D4926A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7624-C6B1-4E32-94AE-79622C5B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345D-19FC-4403-B381-B4414E56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9E83-EB00-422B-84F0-EC865BE3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6069-A994-48B5-AB5F-AB62D694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C513-5451-4A27-A24C-E1D035A5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ADE4-0E16-42BD-BECB-5CE8E2A7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5BA-BF6F-400E-998A-348BC5D7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1E7F-B6BF-4CB8-A80F-A751E9CE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67C1-1A92-4CBC-9285-AAE9709E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3DC7-4989-4EBC-8926-31C2E150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0764-E960-47C3-848C-67E47545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82920"/>
            <a:ext cx="264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E494-CCA9-4806-9421-C5FC4118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1A7-8CEC-42E6-8762-253A54C5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309-18F3-417F-94BC-D50E69BC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EF7-8E9B-4962-98D2-99BC4B96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7E0-DB34-4091-95D2-D2FC79E6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CCC-B164-4DA1-8BB6-5B2FEC79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8292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35D-3CC0-4529-AFAE-BE76E31F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82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4EB-62F9-4AE3-A3F2-63EC2AE9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21C9-F87B-47CF-8093-671A75C68B4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3B1B-4D58-4335-897D-BE7D2F13363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255600" y="-500040"/>
            <a:ext cx="101124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507960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By: Richard, Logan, Josh, Eri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2705040"/>
            <a:ext cx="975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→ </a:t>
            </a:r>
            <a:r>
              <a:rPr b="1" lang="en-US" sz="90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1" lang="en-US" sz="90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1" lang="en-US" sz="9000" spc="-1" strike="noStrike">
                <a:solidFill>
                  <a:srgbClr val="7e4e99"/>
                </a:solidFill>
                <a:latin typeface="Book Antiqua"/>
              </a:rPr>
              <a:t>A</a:t>
            </a:r>
            <a:r>
              <a:rPr b="1" lang="en-US" sz="9000" spc="-1" strike="noStrike">
                <a:solidFill>
                  <a:srgbClr val="00b050"/>
                </a:solidFill>
                <a:latin typeface="Book Antiqua"/>
              </a:rPr>
              <a:t>C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urved Up Arrow 4"/>
          <p:cNvSpPr/>
          <p:nvPr/>
        </p:nvSpPr>
        <p:spPr>
          <a:xfrm>
            <a:off x="380880" y="4076640"/>
            <a:ext cx="7543800" cy="952560"/>
          </a:xfrm>
          <a:custGeom>
            <a:avLst/>
            <a:gdLst>
              <a:gd name="textAreaLeft" fmla="*/ 1796400 w 7543800"/>
              <a:gd name="textAreaRight" fmla="*/ 5628240 w 754380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-3692350"/>
                <a:lnTo>
                  <a:pt x="21273" y="5400"/>
                </a:lnTo>
                <a:lnTo>
                  <a:pt x="20918" y="0"/>
                </a:lnTo>
                <a:lnTo>
                  <a:pt x="19909" y="5400"/>
                </a:lnTo>
                <a:lnTo>
                  <a:pt x="20250" y="5400"/>
                </a:lnTo>
                <a:arcTo wR="10289" hR="21600" stAng="1707650" swAng="3638053"/>
                <a:lnTo>
                  <a:pt x="10630" y="21588"/>
                </a:lnTo>
                <a:arcTo wR="10289" hR="21600" stAng="5454297" swAng="5345703"/>
                <a:close/>
              </a:path>
              <a:path fill="darkenLess" w="21600" h="21600">
                <a:moveTo>
                  <a:pt x="0" y="0"/>
                </a:moveTo>
                <a:arcTo wR="10289" hR="21600" stAng="10800000" swAng="-5400000"/>
                <a:lnTo>
                  <a:pt x="10971" y="21600"/>
                </a:lnTo>
                <a:arcTo wR="10289" hR="21600" stAng="5400000" swAng="54297"/>
                <a:lnTo>
                  <a:pt x="10630" y="21588"/>
                </a:lnTo>
                <a:arcTo wR="10289" hR="21600" stAng="5454297" swAng="5345703"/>
                <a:close/>
              </a:path>
            </a:pathLst>
          </a:custGeom>
          <a:solidFill>
            <a:srgbClr val="7e4e99"/>
          </a:solidFill>
          <a:ln w="25560">
            <a:solidFill>
              <a:srgbClr val="7e4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Curved Down Arrow 5"/>
          <p:cNvSpPr/>
          <p:nvPr/>
        </p:nvSpPr>
        <p:spPr>
          <a:xfrm>
            <a:off x="2666880" y="2476440"/>
            <a:ext cx="3353040" cy="507960"/>
          </a:xfrm>
          <a:custGeom>
            <a:avLst/>
            <a:gdLst>
              <a:gd name="textAreaLeft" fmla="*/ 790560 w 3353040"/>
              <a:gd name="textAreaRight" fmla="*/ 2499120 w 33530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87" hR="21600" stAng="10800000" swAng="5400000"/>
                <a:lnTo>
                  <a:pt x="11005" y="0"/>
                </a:lnTo>
                <a:arcTo wR="10187" hR="21600" stAng="-5400000" swAng="3677961"/>
                <a:lnTo>
                  <a:pt x="21277" y="16200"/>
                </a:lnTo>
                <a:lnTo>
                  <a:pt x="20782" y="21600"/>
                </a:lnTo>
                <a:lnTo>
                  <a:pt x="19641" y="16200"/>
                </a:lnTo>
                <a:lnTo>
                  <a:pt x="20050" y="16200"/>
                </a:lnTo>
                <a:arcTo wR="10187" hR="21600" stAng="-1722039" swAng="-3612822"/>
                <a:lnTo>
                  <a:pt x="10596" y="17"/>
                </a:lnTo>
                <a:arcTo wR="10187" hR="21600" stAng="-5465139" swAng="-5334861"/>
                <a:close/>
              </a:path>
              <a:path fill="darkenLess" w="21600" h="21600">
                <a:moveTo>
                  <a:pt x="0" y="21600"/>
                </a:moveTo>
                <a:arcTo wR="10187" hR="21600" stAng="10800000" swAng="5400000"/>
                <a:lnTo>
                  <a:pt x="10187" y="0"/>
                </a:lnTo>
                <a:arcTo wR="10187" hR="21600" stAng="-5400000" swAng="65139"/>
                <a:lnTo>
                  <a:pt x="10596" y="17"/>
                </a:lnTo>
                <a:arcTo wR="10187" hR="21600" stAng="-5465139" swAng="-5334861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Al+CuCl2=AlCl3+Cu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 Antiqua"/>
              </a:rPr>
              <a:t>What will Happen?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 a single-replacement reaction, atoms of an element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replace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e atoms of a second element in a comp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C:\Documents and Settings\cl12echardl\Local Settings\Temporary Internet Files\Content.IE5\6G601VPN\MCj04398510000[1].wmf"/>
          <p:cNvPicPr/>
          <p:nvPr/>
        </p:nvPicPr>
        <p:blipFill>
          <a:blip r:embed="rId2"/>
          <a:stretch/>
        </p:blipFill>
        <p:spPr>
          <a:xfrm>
            <a:off x="2895480" y="279396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334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1 element from the left side swaps places with another group on the other side to form the right sides e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0" y="190440"/>
            <a:ext cx="8839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he Simple Definition of a Single Replacement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6212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59092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sosceles Triangle 7"/>
          <p:cNvSpPr/>
          <p:nvPr/>
        </p:nvSpPr>
        <p:spPr>
          <a:xfrm>
            <a:off x="2895480" y="3746520"/>
            <a:ext cx="106704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us 9"/>
          <p:cNvSpPr/>
          <p:nvPr/>
        </p:nvSpPr>
        <p:spPr>
          <a:xfrm>
            <a:off x="2133720" y="4000680"/>
            <a:ext cx="457200" cy="44424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238880" y="3746520"/>
            <a:ext cx="1371600" cy="1079640"/>
          </a:xfrm>
          <a:prstGeom prst="rect">
            <a:avLst/>
          </a:prstGeom>
          <a:solidFill>
            <a:srgbClr val="9cb08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sosceles Triangle 11"/>
          <p:cNvSpPr/>
          <p:nvPr/>
        </p:nvSpPr>
        <p:spPr>
          <a:xfrm>
            <a:off x="7391520" y="3809880"/>
            <a:ext cx="1066680" cy="95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4800600" y="3619440"/>
            <a:ext cx="1600200" cy="133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us 13"/>
          <p:cNvSpPr/>
          <p:nvPr/>
        </p:nvSpPr>
        <p:spPr>
          <a:xfrm>
            <a:off x="6553080" y="4064040"/>
            <a:ext cx="457200" cy="444600"/>
          </a:xfrm>
          <a:prstGeom prst="pi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ight Arrow 14"/>
          <p:cNvSpPr/>
          <p:nvPr/>
        </p:nvSpPr>
        <p:spPr>
          <a:xfrm>
            <a:off x="4267080" y="41529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12" name="Oval 6"/>
          <p:cNvSpPr/>
          <p:nvPr/>
        </p:nvSpPr>
        <p:spPr>
          <a:xfrm>
            <a:off x="91440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us 7"/>
          <p:cNvSpPr/>
          <p:nvPr/>
        </p:nvSpPr>
        <p:spPr>
          <a:xfrm>
            <a:off x="236232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9718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429000" y="1790640"/>
            <a:ext cx="380880" cy="30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ight Arrow 10"/>
          <p:cNvSpPr/>
          <p:nvPr/>
        </p:nvSpPr>
        <p:spPr>
          <a:xfrm>
            <a:off x="4038480" y="217188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Block Arc 11"/>
          <p:cNvSpPr/>
          <p:nvPr/>
        </p:nvSpPr>
        <p:spPr>
          <a:xfrm>
            <a:off x="304812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6248520" y="1486080"/>
            <a:ext cx="12952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us 13"/>
          <p:cNvSpPr/>
          <p:nvPr/>
        </p:nvSpPr>
        <p:spPr>
          <a:xfrm>
            <a:off x="5715000" y="2019240"/>
            <a:ext cx="457200" cy="3812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8"/>
          <p:cNvGrpSpPr/>
          <p:nvPr/>
        </p:nvGrpSpPr>
        <p:grpSpPr>
          <a:xfrm>
            <a:off x="4572000" y="1866960"/>
            <a:ext cx="838080" cy="304920"/>
            <a:chOff x="4572000" y="1866960"/>
            <a:chExt cx="838080" cy="304920"/>
          </a:xfrm>
        </p:grpSpPr>
        <p:sp>
          <p:nvSpPr>
            <p:cNvPr id="121" name="Oval 15"/>
            <p:cNvSpPr/>
            <p:nvPr/>
          </p:nvSpPr>
          <p:spPr>
            <a:xfrm>
              <a:off x="45720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5029200" y="1866960"/>
              <a:ext cx="38088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Block Arc 17"/>
          <p:cNvSpPr/>
          <p:nvPr/>
        </p:nvSpPr>
        <p:spPr>
          <a:xfrm>
            <a:off x="6553080" y="2247840"/>
            <a:ext cx="685800" cy="5335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4191120" y="3467160"/>
            <a:ext cx="4343400" cy="1952640"/>
            <a:chOff x="4191120" y="3467160"/>
            <a:chExt cx="4343400" cy="1952640"/>
          </a:xfrm>
        </p:grpSpPr>
        <p:pic>
          <p:nvPicPr>
            <p:cNvPr id="125" name="Picture 6" descr="1REPLACE.gif"/>
            <p:cNvPicPr/>
            <p:nvPr/>
          </p:nvPicPr>
          <p:blipFill>
            <a:blip r:embed="rId2"/>
            <a:srcRect l="52383" t="0" r="30163" b="0"/>
            <a:stretch/>
          </p:blipFill>
          <p:spPr>
            <a:xfrm>
              <a:off x="7696440" y="3467160"/>
              <a:ext cx="8380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1REPLACE.gif"/>
            <p:cNvPicPr/>
            <p:nvPr/>
          </p:nvPicPr>
          <p:blipFill>
            <a:blip r:embed="rId3"/>
            <a:srcRect l="0" t="0" r="49216" b="0"/>
            <a:stretch/>
          </p:blipFill>
          <p:spPr>
            <a:xfrm>
              <a:off x="4191120" y="3467160"/>
              <a:ext cx="243828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1REPLACE.gif"/>
            <p:cNvPicPr/>
            <p:nvPr/>
          </p:nvPicPr>
          <p:blipFill>
            <a:blip r:embed="rId4"/>
            <a:srcRect l="77790" t="0" r="0" b="0"/>
            <a:stretch/>
          </p:blipFill>
          <p:spPr>
            <a:xfrm>
              <a:off x="6629400" y="3467160"/>
              <a:ext cx="106668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ight Arrow 20"/>
            <p:cNvSpPr/>
            <p:nvPr/>
          </p:nvSpPr>
          <p:spPr>
            <a:xfrm>
              <a:off x="6477120" y="4533840"/>
              <a:ext cx="304560" cy="228600"/>
            </a:xfrm>
            <a:prstGeom prst="rightArrow">
              <a:avLst>
                <a:gd name="adj1" fmla="val 50000"/>
                <a:gd name="adj2" fmla="val 4996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Plus 21"/>
            <p:cNvSpPr/>
            <p:nvPr/>
          </p:nvSpPr>
          <p:spPr>
            <a:xfrm>
              <a:off x="502920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Plus 22"/>
            <p:cNvSpPr/>
            <p:nvPr/>
          </p:nvSpPr>
          <p:spPr>
            <a:xfrm>
              <a:off x="7544160" y="4457880"/>
              <a:ext cx="304560" cy="304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8382240" y="4457880"/>
              <a:ext cx="1522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ntacid (calcium hydroxide) neutralizes stomach acid (hydrochloric acid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(OH)2 + 2 HCl CaCl2 + 2 H2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ron bar rusts. The iron reacts with oxygen in the air to make rus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Fe + 3 O2 2 Fe2O3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3" descr="vines.jpg"/>
          <p:cNvPicPr/>
          <p:nvPr/>
        </p:nvPicPr>
        <p:blipFill>
          <a:blip r:embed="rId2"/>
          <a:stretch/>
        </p:blipFill>
        <p:spPr>
          <a:xfrm>
            <a:off x="5105520" y="3772080"/>
            <a:ext cx="243828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Book Antiqua"/>
              </a:rPr>
              <a:t>Thermite Reaction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Fe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Al(s) Al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t-BR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(s) + 2 Fe(l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In the end this creates molten ga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5" descr="http://blog.wired.com/geekdad/thermite%20reaction.jpg"/>
          <p:cNvPicPr/>
          <p:nvPr/>
        </p:nvPicPr>
        <p:blipFill>
          <a:blip r:embed="rId2"/>
          <a:stretch/>
        </p:blipFill>
        <p:spPr>
          <a:xfrm>
            <a:off x="2816280" y="2919240"/>
            <a:ext cx="3822480" cy="28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9" name="Single_Replacement_Reactions.asf" descr=""/>
          <p:cNvPicPr/>
          <p:nvPr/>
        </p:nvPicPr>
        <p:blipFill>
          <a:blip r:embed="rId1"/>
          <a:stretch/>
        </p:blipFill>
        <p:spPr>
          <a:xfrm>
            <a:off x="306360" y="0"/>
            <a:ext cx="853128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33308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www.rockwood.k12.mo.us/rvalley/8...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s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/1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.../01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Single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-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placement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Reaction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_Lab.doc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(Demonstration)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ttp://www.marymount.k12.ny.us/marynet/stwbwk05/05flashchem/avreaction/avreaction.html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Multimedia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://dl.clackamas.edu/ch104-04/single.htm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ttps://lawrencenorth.ltschools.org/teachers/amyroutt/pdfdocuments/Lab%2010.1.pdf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Information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2971"/>
                </a:solidFill>
                <a:latin typeface="Book Antiqua"/>
              </a:rPr>
              <a:t>Discovery United Streaming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(Vide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8:06:26Z</dcterms:created>
  <dc:creator>cl12echardl</dc:creator>
  <dc:description/>
  <dc:language>en-US</dc:language>
  <cp:lastModifiedBy>cl12echardl</cp:lastModifiedBy>
  <dcterms:modified xsi:type="dcterms:W3CDTF">2009-02-18T16:24:28Z</dcterms:modified>
  <cp:revision>23</cp:revision>
  <dc:subject/>
  <dc:title>Single Replacement Reaction</dc:title>
</cp:coreProperties>
</file>