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A38D-E3D1-45D8-8D48-352CF592A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7D17-BAE6-4CB5-AEEB-D40D6A1E34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7D9C-48C9-4290-9250-9FB6FD394E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2DE8-2119-4147-A789-D06DF75C78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2A11-CBA4-4156-9054-C91F415FC9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3495-2759-4D5F-8C18-09ECFBC214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7A3E-AF66-4986-BEF3-817A98AA51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7F72-CB5F-4287-BF71-D74DBFA0A2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CFA5-30CA-4A87-9916-1349AC24E1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D23B-94B2-40F7-8F72-F14E72A3DD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4F8-5A3D-4F14-9239-4E5425B1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6958-A161-48FA-B389-CF9EA082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F06-EB09-4786-BB8F-0386FBD8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E53F-92A7-4C38-A12C-4E767B52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67ED-652D-496A-8F50-C0288375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851E-C933-43EB-B7F0-F40146A8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63F6-2CCD-4692-B700-7077865A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2D7A-A6F8-4FAB-AE73-7EFDD7ED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5E6B-7FB3-413B-85B0-2DF2FAA2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E311-6DE4-423F-A606-CFB75A8C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989B-D8B7-436A-801D-C1053D39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62A3-B654-4935-833D-C76D07C8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D49C-4186-4D58-978D-870A723F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9BA1-1531-4103-AC38-3414E346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7A07-F8B3-4BD5-AEBB-A4A2A812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4F74-E4E4-4D6A-8372-76D921A1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DDA9-B476-438A-B128-AEAF5826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56A-A7FE-436D-9678-EE6E31A4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D71-091C-4294-BE1C-D6ABB2F5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E33-3998-4E27-958A-F75E2F8A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A670-A9CA-4343-B00F-6EC36D6D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CE9-0369-4EBA-AF9A-3050A3B4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3A1-11FE-4F2A-AF70-FFEBA57B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FDE-1C7C-49AC-A31A-5DB8A2BC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34636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34636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534636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A56B-C87B-4145-813C-96C12675FF51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34636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34636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534636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3725-E3E1-405F-88BA-E2592E6C731C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-255600" y="-500040"/>
            <a:ext cx="10112400" cy="2743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507960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By: Richard, Logan, Josh, Erin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2705040"/>
            <a:ext cx="975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7e4e99"/>
                </a:solidFill>
                <a:latin typeface="Book Antiqua"/>
              </a:rPr>
              <a:t>A</a:t>
            </a:r>
            <a:r>
              <a:rPr b="1" lang="en-US" sz="90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1" lang="en-US" sz="9000" spc="-1" strike="noStrike">
                <a:solidFill>
                  <a:srgbClr val="ff0000"/>
                </a:solidFill>
                <a:latin typeface="Book Antiqua"/>
              </a:rPr>
              <a:t>B</a:t>
            </a:r>
            <a:r>
              <a:rPr b="1" lang="en-US" sz="9000" spc="-1" strike="noStrike">
                <a:solidFill>
                  <a:srgbClr val="00b050"/>
                </a:solidFill>
                <a:latin typeface="Book Antiqua"/>
              </a:rPr>
              <a:t>C</a:t>
            </a:r>
            <a:r>
              <a:rPr b="1" lang="en-US" sz="9000" spc="-1" strike="noStrike">
                <a:solidFill>
                  <a:srgbClr val="ffffff"/>
                </a:solidFill>
                <a:latin typeface="Book Antiqua"/>
              </a:rPr>
              <a:t> → </a:t>
            </a:r>
            <a:r>
              <a:rPr b="1" lang="en-US" sz="9000" spc="-1" strike="noStrike">
                <a:solidFill>
                  <a:srgbClr val="ff0000"/>
                </a:solidFill>
                <a:latin typeface="Book Antiqua"/>
              </a:rPr>
              <a:t>B</a:t>
            </a:r>
            <a:r>
              <a:rPr b="1" lang="en-US" sz="9000" spc="-1" strike="noStrike">
                <a:solidFill>
                  <a:srgbClr val="ffffff"/>
                </a:solidFill>
                <a:latin typeface="Book Antiqua"/>
              </a:rPr>
              <a:t> +</a:t>
            </a:r>
            <a:r>
              <a:rPr b="1" lang="en-US" sz="9000" spc="-1" strike="noStrike">
                <a:solidFill>
                  <a:srgbClr val="7e4e99"/>
                </a:solidFill>
                <a:latin typeface="Book Antiqua"/>
              </a:rPr>
              <a:t>A</a:t>
            </a:r>
            <a:r>
              <a:rPr b="1" lang="en-US" sz="9000" spc="-1" strike="noStrike">
                <a:solidFill>
                  <a:srgbClr val="00b050"/>
                </a:solidFill>
                <a:latin typeface="Book Antiqua"/>
              </a:rPr>
              <a:t>C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Curved Up Arrow 4"/>
          <p:cNvSpPr/>
          <p:nvPr/>
        </p:nvSpPr>
        <p:spPr>
          <a:xfrm>
            <a:off x="380880" y="4076640"/>
            <a:ext cx="7543800" cy="952560"/>
          </a:xfrm>
          <a:custGeom>
            <a:avLst/>
            <a:gdLst>
              <a:gd name="textAreaLeft" fmla="*/ 1796400 w 7543800"/>
              <a:gd name="textAreaRight" fmla="*/ 5628240 w 7543800"/>
              <a:gd name="textAreaTop" fmla="*/ 127440 h 952560"/>
              <a:gd name="textAreaBottom" fmla="*/ 825120 h 95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89" hR="21600" stAng="10800000" swAng="-5400000"/>
                <a:lnTo>
                  <a:pt x="10971" y="21600"/>
                </a:lnTo>
                <a:arcTo wR="10289" hR="21600" stAng="5400000" swAng="-3692350"/>
                <a:lnTo>
                  <a:pt x="21273" y="5400"/>
                </a:lnTo>
                <a:lnTo>
                  <a:pt x="20918" y="0"/>
                </a:lnTo>
                <a:lnTo>
                  <a:pt x="19909" y="5400"/>
                </a:lnTo>
                <a:lnTo>
                  <a:pt x="20250" y="5400"/>
                </a:lnTo>
                <a:arcTo wR="10289" hR="21600" stAng="1707650" swAng="3638053"/>
                <a:lnTo>
                  <a:pt x="10630" y="21588"/>
                </a:lnTo>
                <a:arcTo wR="10289" hR="21600" stAng="5454297" swAng="5345703"/>
                <a:close/>
              </a:path>
              <a:path fill="darkenLess" w="21600" h="21600">
                <a:moveTo>
                  <a:pt x="0" y="0"/>
                </a:moveTo>
                <a:arcTo wR="10289" hR="21600" stAng="10800000" swAng="-5400000"/>
                <a:lnTo>
                  <a:pt x="10971" y="21600"/>
                </a:lnTo>
                <a:arcTo wR="10289" hR="21600" stAng="5400000" swAng="54297"/>
                <a:lnTo>
                  <a:pt x="10630" y="21588"/>
                </a:lnTo>
                <a:arcTo wR="10289" hR="21600" stAng="5454297" swAng="5345703"/>
                <a:close/>
              </a:path>
            </a:pathLst>
          </a:custGeom>
          <a:solidFill>
            <a:srgbClr val="7e4e99"/>
          </a:solidFill>
          <a:ln w="25560">
            <a:solidFill>
              <a:srgbClr val="7e4e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Curved Down Arrow 5"/>
          <p:cNvSpPr/>
          <p:nvPr/>
        </p:nvSpPr>
        <p:spPr>
          <a:xfrm>
            <a:off x="2666880" y="2476440"/>
            <a:ext cx="3353040" cy="507960"/>
          </a:xfrm>
          <a:custGeom>
            <a:avLst/>
            <a:gdLst>
              <a:gd name="textAreaLeft" fmla="*/ 790560 w 3353040"/>
              <a:gd name="textAreaRight" fmla="*/ 2499120 w 3353040"/>
              <a:gd name="textAreaTop" fmla="*/ 68040 h 507960"/>
              <a:gd name="textAreaBottom" fmla="*/ 4399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87" hR="21600" stAng="10800000" swAng="5400000"/>
                <a:lnTo>
                  <a:pt x="11005" y="0"/>
                </a:lnTo>
                <a:arcTo wR="10187" hR="21600" stAng="-5400000" swAng="3677961"/>
                <a:lnTo>
                  <a:pt x="21277" y="16200"/>
                </a:lnTo>
                <a:lnTo>
                  <a:pt x="20782" y="21600"/>
                </a:lnTo>
                <a:lnTo>
                  <a:pt x="19641" y="16200"/>
                </a:lnTo>
                <a:lnTo>
                  <a:pt x="20050" y="16200"/>
                </a:lnTo>
                <a:arcTo wR="10187" hR="21600" stAng="-1722039" swAng="-3612822"/>
                <a:lnTo>
                  <a:pt x="10596" y="17"/>
                </a:lnTo>
                <a:arcTo wR="10187" hR="21600" stAng="-5465139" swAng="-5334861"/>
                <a:close/>
              </a:path>
              <a:path fill="darkenLess" w="21600" h="21600">
                <a:moveTo>
                  <a:pt x="0" y="21600"/>
                </a:moveTo>
                <a:arcTo wR="10187" hR="21600" stAng="10800000" swAng="5400000"/>
                <a:lnTo>
                  <a:pt x="10187" y="0"/>
                </a:lnTo>
                <a:arcTo wR="10187" hR="21600" stAng="-5400000" swAng="65139"/>
                <a:lnTo>
                  <a:pt x="10596" y="17"/>
                </a:lnTo>
                <a:arcTo wR="10187" hR="21600" stAng="-5465139" swAng="-5334861"/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976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 Antiqua"/>
              </a:rPr>
              <a:t>Al+CuCl2=AlCl3+Cu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 Antiqua"/>
              </a:rPr>
              <a:t>What will Happen?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438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In a single-replacement reaction, atoms of an element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replace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the atoms of a second element in a compoun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2" descr="C:\Documents and Settings\cl12echardl\Local Settings\Temporary Internet Files\Content.IE5\6G601VPN\MCj04398510000[1].wmf"/>
          <p:cNvPicPr/>
          <p:nvPr/>
        </p:nvPicPr>
        <p:blipFill>
          <a:blip r:embed="rId2"/>
          <a:stretch/>
        </p:blipFill>
        <p:spPr>
          <a:xfrm>
            <a:off x="2895480" y="2793960"/>
            <a:ext cx="3581640" cy="2384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33344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1 element from the left side swaps places with another group on the other side to form the right sides elemen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0" y="190440"/>
            <a:ext cx="88390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The Simple Definition of a Single Replacement Re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762120" y="3746520"/>
            <a:ext cx="1371600" cy="1079640"/>
          </a:xfrm>
          <a:prstGeom prst="rect">
            <a:avLst/>
          </a:prstGeom>
          <a:solidFill>
            <a:srgbClr val="9cb084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2590920" y="3619440"/>
            <a:ext cx="1600200" cy="133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sosceles Triangle 7"/>
          <p:cNvSpPr/>
          <p:nvPr/>
        </p:nvSpPr>
        <p:spPr>
          <a:xfrm>
            <a:off x="2895480" y="3746520"/>
            <a:ext cx="1067040" cy="95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us 9"/>
          <p:cNvSpPr/>
          <p:nvPr/>
        </p:nvSpPr>
        <p:spPr>
          <a:xfrm>
            <a:off x="2133720" y="4000680"/>
            <a:ext cx="457200" cy="444240"/>
          </a:xfrm>
          <a:prstGeom prst="pi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7238880" y="3746520"/>
            <a:ext cx="1371600" cy="1079640"/>
          </a:xfrm>
          <a:prstGeom prst="rect">
            <a:avLst/>
          </a:prstGeom>
          <a:solidFill>
            <a:srgbClr val="9cb084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sosceles Triangle 11"/>
          <p:cNvSpPr/>
          <p:nvPr/>
        </p:nvSpPr>
        <p:spPr>
          <a:xfrm>
            <a:off x="7391520" y="3809880"/>
            <a:ext cx="1066680" cy="95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4800600" y="3619440"/>
            <a:ext cx="1600200" cy="133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us 13"/>
          <p:cNvSpPr/>
          <p:nvPr/>
        </p:nvSpPr>
        <p:spPr>
          <a:xfrm>
            <a:off x="6553080" y="4064040"/>
            <a:ext cx="457200" cy="444600"/>
          </a:xfrm>
          <a:prstGeom prst="pi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ight Arrow 14"/>
          <p:cNvSpPr/>
          <p:nvPr/>
        </p:nvSpPr>
        <p:spPr>
          <a:xfrm>
            <a:off x="4267080" y="4152960"/>
            <a:ext cx="381240" cy="3049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12" name="Oval 6"/>
          <p:cNvSpPr/>
          <p:nvPr/>
        </p:nvSpPr>
        <p:spPr>
          <a:xfrm>
            <a:off x="914400" y="1486080"/>
            <a:ext cx="1295280" cy="1295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us 7"/>
          <p:cNvSpPr/>
          <p:nvPr/>
        </p:nvSpPr>
        <p:spPr>
          <a:xfrm>
            <a:off x="2362320" y="2019240"/>
            <a:ext cx="457200" cy="38124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2971800" y="1790640"/>
            <a:ext cx="380880" cy="30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3429000" y="1790640"/>
            <a:ext cx="380880" cy="30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ight Arrow 10"/>
          <p:cNvSpPr/>
          <p:nvPr/>
        </p:nvSpPr>
        <p:spPr>
          <a:xfrm>
            <a:off x="4038480" y="2171880"/>
            <a:ext cx="381240" cy="152280"/>
          </a:xfrm>
          <a:prstGeom prst="rightArrow">
            <a:avLst>
              <a:gd name="adj1" fmla="val 50000"/>
              <a:gd name="adj2" fmla="val 5007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Block Arc 11"/>
          <p:cNvSpPr/>
          <p:nvPr/>
        </p:nvSpPr>
        <p:spPr>
          <a:xfrm>
            <a:off x="3048120" y="2247840"/>
            <a:ext cx="685800" cy="5335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6248520" y="1486080"/>
            <a:ext cx="1295280" cy="1295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us 13"/>
          <p:cNvSpPr/>
          <p:nvPr/>
        </p:nvSpPr>
        <p:spPr>
          <a:xfrm>
            <a:off x="5715000" y="2019240"/>
            <a:ext cx="457200" cy="38124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28"/>
          <p:cNvGrpSpPr/>
          <p:nvPr/>
        </p:nvGrpSpPr>
        <p:grpSpPr>
          <a:xfrm>
            <a:off x="4572000" y="1866960"/>
            <a:ext cx="838080" cy="304920"/>
            <a:chOff x="4572000" y="1866960"/>
            <a:chExt cx="838080" cy="304920"/>
          </a:xfrm>
        </p:grpSpPr>
        <p:sp>
          <p:nvSpPr>
            <p:cNvPr id="121" name="Oval 15"/>
            <p:cNvSpPr/>
            <p:nvPr/>
          </p:nvSpPr>
          <p:spPr>
            <a:xfrm>
              <a:off x="4572000" y="1866960"/>
              <a:ext cx="38088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978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5029200" y="1866960"/>
              <a:ext cx="38088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978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Block Arc 17"/>
          <p:cNvSpPr/>
          <p:nvPr/>
        </p:nvSpPr>
        <p:spPr>
          <a:xfrm>
            <a:off x="6553080" y="2247840"/>
            <a:ext cx="685800" cy="5335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29"/>
          <p:cNvGrpSpPr/>
          <p:nvPr/>
        </p:nvGrpSpPr>
        <p:grpSpPr>
          <a:xfrm>
            <a:off x="4191120" y="3467160"/>
            <a:ext cx="4343400" cy="1952640"/>
            <a:chOff x="4191120" y="3467160"/>
            <a:chExt cx="4343400" cy="1952640"/>
          </a:xfrm>
        </p:grpSpPr>
        <p:pic>
          <p:nvPicPr>
            <p:cNvPr id="125" name="Picture 6" descr="1REPLACE.gif"/>
            <p:cNvPicPr/>
            <p:nvPr/>
          </p:nvPicPr>
          <p:blipFill>
            <a:blip r:embed="rId2"/>
            <a:srcRect l="52383" t="0" r="30163" b="0"/>
            <a:stretch/>
          </p:blipFill>
          <p:spPr>
            <a:xfrm>
              <a:off x="7696440" y="3467160"/>
              <a:ext cx="838080" cy="19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6" descr="1REPLACE.gif"/>
            <p:cNvPicPr/>
            <p:nvPr/>
          </p:nvPicPr>
          <p:blipFill>
            <a:blip r:embed="rId3"/>
            <a:srcRect l="0" t="0" r="49216" b="0"/>
            <a:stretch/>
          </p:blipFill>
          <p:spPr>
            <a:xfrm>
              <a:off x="4191120" y="3467160"/>
              <a:ext cx="2438280" cy="19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1REPLACE.gif"/>
            <p:cNvPicPr/>
            <p:nvPr/>
          </p:nvPicPr>
          <p:blipFill>
            <a:blip r:embed="rId4"/>
            <a:srcRect l="77790" t="0" r="0" b="0"/>
            <a:stretch/>
          </p:blipFill>
          <p:spPr>
            <a:xfrm>
              <a:off x="6629400" y="3467160"/>
              <a:ext cx="106668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Right Arrow 20"/>
            <p:cNvSpPr/>
            <p:nvPr/>
          </p:nvSpPr>
          <p:spPr>
            <a:xfrm>
              <a:off x="6477120" y="4533840"/>
              <a:ext cx="304560" cy="228600"/>
            </a:xfrm>
            <a:prstGeom prst="rightArrow">
              <a:avLst>
                <a:gd name="adj1" fmla="val 50000"/>
                <a:gd name="adj2" fmla="val 49961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Plus 21"/>
            <p:cNvSpPr/>
            <p:nvPr/>
          </p:nvSpPr>
          <p:spPr>
            <a:xfrm>
              <a:off x="5029200" y="4457880"/>
              <a:ext cx="304560" cy="304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Plus 22"/>
            <p:cNvSpPr/>
            <p:nvPr/>
          </p:nvSpPr>
          <p:spPr>
            <a:xfrm>
              <a:off x="7544160" y="4457880"/>
              <a:ext cx="304560" cy="304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8382240" y="4457880"/>
              <a:ext cx="1522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antacid (calcium hydroxide) neutralizes stomach acid (hydrochloric acid)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(OH)2 + 2 HCl CaCl2 + 2 H2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iron bar rusts. The iron reacts with oxygen in the air to make rus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4 Fe + 3 O2 2 Fe2O3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4" name="Picture 3" descr="vines.jpg"/>
          <p:cNvPicPr/>
          <p:nvPr/>
        </p:nvPicPr>
        <p:blipFill>
          <a:blip r:embed="rId2"/>
          <a:stretch/>
        </p:blipFill>
        <p:spPr>
          <a:xfrm>
            <a:off x="5105520" y="3772080"/>
            <a:ext cx="2438280" cy="1614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Book Antiqua"/>
              </a:rPr>
              <a:t>Thermite Reaction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Fe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(s) + 2 Al(s) Al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(s) + 2 Fe(l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In the end this creates molten ga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7" name="Picture 5" descr="http://blog.wired.com/geekdad/thermite%20reaction.jpg"/>
          <p:cNvPicPr/>
          <p:nvPr/>
        </p:nvPicPr>
        <p:blipFill>
          <a:blip r:embed="rId2"/>
          <a:stretch/>
        </p:blipFill>
        <p:spPr>
          <a:xfrm>
            <a:off x="2816280" y="2919240"/>
            <a:ext cx="3822480" cy="2805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9" name="Single_Replacement_Reactions.asf" descr=""/>
          <p:cNvPicPr/>
          <p:nvPr/>
        </p:nvPicPr>
        <p:blipFill>
          <a:blip r:embed="rId1"/>
          <a:stretch/>
        </p:blipFill>
        <p:spPr>
          <a:xfrm>
            <a:off x="306360" y="0"/>
            <a:ext cx="8531280" cy="5816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8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www.rockwood.k12.mo.us/rvalley/8...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actions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/11-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Single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placement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_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action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.../01-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Single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-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placement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_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action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_Lab.doc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   (Demonstration)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http://www.marymount.k12.ny.us/marynet/stwbwk05/05flashchem/avreaction/avreaction.html 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Multimedia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http://dl.clackamas.edu/ch104-04/single.htm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Information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https://lawrencenorth.ltschools.org/teachers/amyroutt/pdfdocuments/Lab%2010.1.pdf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Information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2971"/>
                </a:solidFill>
                <a:latin typeface="Book Antiqua"/>
              </a:rPr>
              <a:t>Discovery United Streaming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Video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8:06:26Z</dcterms:created>
  <dc:creator>cl12echardl</dc:creator>
  <dc:description/>
  <dc:language>en-US</dc:language>
  <cp:lastModifiedBy>cl12echardl</cp:lastModifiedBy>
  <dcterms:modified xsi:type="dcterms:W3CDTF">2009-02-18T16:24:28Z</dcterms:modified>
  <cp:revision>23</cp:revision>
  <dc:subject/>
  <dc:title>Single Replacement Reaction</dc:title>
</cp:coreProperties>
</file>