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2511-EFDA-4326-91CD-7D669908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8BA0-BE90-472B-8637-1D4B2277EC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ECD-DFC1-4581-B3B2-55C2C7A03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E587-7FD7-4C36-B2C5-8EE3219240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9E7F-00EF-4D24-A990-CD431CBD5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B238-57AC-4002-B22B-EE615C13F2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194B-AF61-4052-835B-E94C9BC739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4271-7603-4F0A-A87B-3DA29A9C9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B3CB-DF91-4F5B-9A47-B66BDFA2A7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A6F2-3922-4294-83E7-E729CE9CB0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88F-563C-42D6-90CC-9A4FDC95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F86-CC4B-4E20-8253-983C5E7E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A0F-5DA1-4C77-85D6-492C2BC5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854-7209-4428-822E-9F4506B0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7E34-45E7-4BF3-86E8-191C8AC0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A1E7-5383-4F15-9073-755F3CCC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A594-D91D-4832-B056-2D282624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7180-B450-4FCE-817B-BCE9DD4D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5BFA-DCCA-4BC0-9373-BFB35720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0B43-D665-4C8E-A468-E56726EE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75F8-8540-42C8-A029-09F20E59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AB3-D370-4D0C-A5E5-DAC479C2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6813-FFFB-4221-A768-B1E5661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85DD-ADAA-43A6-B9DC-58E9A292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715B-5E66-468B-94FC-52AAD3E4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2D04-B73D-4C81-BD71-08D12611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061-8A64-4935-B1F1-F7AC381C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84F-B083-45F9-BB5A-E251727B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F9A-982A-410E-96D7-359B7BD8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033-1FA8-47D5-BC31-047527EF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862-490E-455E-B774-E1D82D1E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906-6ACD-456D-90F4-A19E113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9AC-553C-4A98-9D81-FF1A450E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F27-F6C8-4CA5-8F25-33E96A8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1A12-6C23-4AAF-A114-A0B2DE56532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0D03-F5F9-4C6F-AC9C-02847FD26C9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255600" y="-500040"/>
            <a:ext cx="101124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507960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By: Richard, Logan, Josh, Eri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2705040"/>
            <a:ext cx="975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→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urved Up Arrow 4"/>
          <p:cNvSpPr/>
          <p:nvPr/>
        </p:nvSpPr>
        <p:spPr>
          <a:xfrm>
            <a:off x="380880" y="4076640"/>
            <a:ext cx="7543800" cy="952560"/>
          </a:xfrm>
          <a:custGeom>
            <a:avLst/>
            <a:gdLst>
              <a:gd name="textAreaLeft" fmla="*/ 1796400 w 7543800"/>
              <a:gd name="textAreaRight" fmla="*/ 5628240 w 754380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-3692350"/>
                <a:lnTo>
                  <a:pt x="21273" y="5400"/>
                </a:lnTo>
                <a:lnTo>
                  <a:pt x="20918" y="0"/>
                </a:lnTo>
                <a:lnTo>
                  <a:pt x="19909" y="5400"/>
                </a:lnTo>
                <a:lnTo>
                  <a:pt x="20250" y="5400"/>
                </a:lnTo>
                <a:arcTo wR="10289" hR="21600" stAng="1707650" swAng="3638053"/>
                <a:lnTo>
                  <a:pt x="10630" y="21588"/>
                </a:lnTo>
                <a:arcTo wR="10289" hR="21600" stAng="5454297" swAng="5345703"/>
                <a:close/>
              </a:path>
              <a:path fill="darkenLess"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54297"/>
                <a:lnTo>
                  <a:pt x="10630" y="21588"/>
                </a:lnTo>
                <a:arcTo wR="10289" hR="21600" stAng="5454297" swAng="5345703"/>
                <a:close/>
              </a:path>
            </a:pathLst>
          </a:custGeom>
          <a:solidFill>
            <a:srgbClr val="7e4e99"/>
          </a:solidFill>
          <a:ln w="25560">
            <a:solidFill>
              <a:srgbClr val="7e4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Curved Down Arrow 5"/>
          <p:cNvSpPr/>
          <p:nvPr/>
        </p:nvSpPr>
        <p:spPr>
          <a:xfrm>
            <a:off x="2666880" y="2476440"/>
            <a:ext cx="3353040" cy="507960"/>
          </a:xfrm>
          <a:custGeom>
            <a:avLst/>
            <a:gdLst>
              <a:gd name="textAreaLeft" fmla="*/ 790560 w 3353040"/>
              <a:gd name="textAreaRight" fmla="*/ 2499120 w 33530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87" hR="21600" stAng="10800000" swAng="5400000"/>
                <a:lnTo>
                  <a:pt x="11005" y="0"/>
                </a:lnTo>
                <a:arcTo wR="10187" hR="21600" stAng="-5400000" swAng="3677961"/>
                <a:lnTo>
                  <a:pt x="21277" y="16200"/>
                </a:lnTo>
                <a:lnTo>
                  <a:pt x="20782" y="21600"/>
                </a:lnTo>
                <a:lnTo>
                  <a:pt x="19641" y="16200"/>
                </a:lnTo>
                <a:lnTo>
                  <a:pt x="20050" y="16200"/>
                </a:lnTo>
                <a:arcTo wR="10187" hR="21600" stAng="-1722039" swAng="-3612822"/>
                <a:lnTo>
                  <a:pt x="10596" y="17"/>
                </a:lnTo>
                <a:arcTo wR="10187" hR="21600" stAng="-5465139" swAng="-5334861"/>
                <a:close/>
              </a:path>
              <a:path fill="darkenLess" w="21600" h="21600">
                <a:moveTo>
                  <a:pt x="0" y="21600"/>
                </a:moveTo>
                <a:arcTo wR="10187" hR="21600" stAng="10800000" swAng="5400000"/>
                <a:lnTo>
                  <a:pt x="10187" y="0"/>
                </a:lnTo>
                <a:arcTo wR="10187" hR="21600" stAng="-5400000" swAng="65139"/>
                <a:lnTo>
                  <a:pt x="10596" y="17"/>
                </a:lnTo>
                <a:arcTo wR="10187" hR="21600" stAng="-5465139" swAng="-5334861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Al+CuCl2=AlCl3+Cu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What will Happen?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 a single-replacement reaction, atoms of an elemen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replac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e atoms of a second element in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C:\Documents and Settings\cl12echardl\Local Settings\Temporary Internet Files\Content.IE5\6G601VPN\MCj04398510000[1].wmf"/>
          <p:cNvPicPr/>
          <p:nvPr/>
        </p:nvPicPr>
        <p:blipFill>
          <a:blip r:embed="rId2"/>
          <a:stretch/>
        </p:blipFill>
        <p:spPr>
          <a:xfrm>
            <a:off x="2895480" y="279396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334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1 element from the left side swaps places with another group on the other side to form the right sides e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0" y="190440"/>
            <a:ext cx="8839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he Simple Definition of a Single Replacement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6212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59092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sosceles Triangle 7"/>
          <p:cNvSpPr/>
          <p:nvPr/>
        </p:nvSpPr>
        <p:spPr>
          <a:xfrm>
            <a:off x="2895480" y="3746520"/>
            <a:ext cx="106704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us 9"/>
          <p:cNvSpPr/>
          <p:nvPr/>
        </p:nvSpPr>
        <p:spPr>
          <a:xfrm>
            <a:off x="2133720" y="4000680"/>
            <a:ext cx="457200" cy="44424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23888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sosceles Triangle 11"/>
          <p:cNvSpPr/>
          <p:nvPr/>
        </p:nvSpPr>
        <p:spPr>
          <a:xfrm>
            <a:off x="7391520" y="3809880"/>
            <a:ext cx="106668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480060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us 13"/>
          <p:cNvSpPr/>
          <p:nvPr/>
        </p:nvSpPr>
        <p:spPr>
          <a:xfrm>
            <a:off x="6553080" y="4064040"/>
            <a:ext cx="457200" cy="44460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ight Arrow 14"/>
          <p:cNvSpPr/>
          <p:nvPr/>
        </p:nvSpPr>
        <p:spPr>
          <a:xfrm>
            <a:off x="4267080" y="41529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12" name="Oval 6"/>
          <p:cNvSpPr/>
          <p:nvPr/>
        </p:nvSpPr>
        <p:spPr>
          <a:xfrm>
            <a:off x="91440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us 7"/>
          <p:cNvSpPr/>
          <p:nvPr/>
        </p:nvSpPr>
        <p:spPr>
          <a:xfrm>
            <a:off x="236232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9718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4290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ight Arrow 10"/>
          <p:cNvSpPr/>
          <p:nvPr/>
        </p:nvSpPr>
        <p:spPr>
          <a:xfrm>
            <a:off x="4038480" y="217188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Block Arc 11"/>
          <p:cNvSpPr/>
          <p:nvPr/>
        </p:nvSpPr>
        <p:spPr>
          <a:xfrm>
            <a:off x="304812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624852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us 13"/>
          <p:cNvSpPr/>
          <p:nvPr/>
        </p:nvSpPr>
        <p:spPr>
          <a:xfrm>
            <a:off x="571500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8"/>
          <p:cNvGrpSpPr/>
          <p:nvPr/>
        </p:nvGrpSpPr>
        <p:grpSpPr>
          <a:xfrm>
            <a:off x="4572000" y="1866960"/>
            <a:ext cx="838080" cy="304920"/>
            <a:chOff x="4572000" y="1866960"/>
            <a:chExt cx="838080" cy="304920"/>
          </a:xfrm>
        </p:grpSpPr>
        <p:sp>
          <p:nvSpPr>
            <p:cNvPr id="121" name="Oval 15"/>
            <p:cNvSpPr/>
            <p:nvPr/>
          </p:nvSpPr>
          <p:spPr>
            <a:xfrm>
              <a:off x="45720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50292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Block Arc 17"/>
          <p:cNvSpPr/>
          <p:nvPr/>
        </p:nvSpPr>
        <p:spPr>
          <a:xfrm>
            <a:off x="655308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4191120" y="3467160"/>
            <a:ext cx="4343400" cy="1952640"/>
            <a:chOff x="4191120" y="3467160"/>
            <a:chExt cx="4343400" cy="1952640"/>
          </a:xfrm>
        </p:grpSpPr>
        <p:pic>
          <p:nvPicPr>
            <p:cNvPr id="125" name="Picture 6" descr="1REPLACE.gif"/>
            <p:cNvPicPr/>
            <p:nvPr/>
          </p:nvPicPr>
          <p:blipFill>
            <a:blip r:embed="rId2"/>
            <a:srcRect l="52383" t="0" r="30163" b="0"/>
            <a:stretch/>
          </p:blipFill>
          <p:spPr>
            <a:xfrm>
              <a:off x="7696440" y="3467160"/>
              <a:ext cx="8380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1REPLACE.gif"/>
            <p:cNvPicPr/>
            <p:nvPr/>
          </p:nvPicPr>
          <p:blipFill>
            <a:blip r:embed="rId3"/>
            <a:srcRect l="0" t="0" r="49216" b="0"/>
            <a:stretch/>
          </p:blipFill>
          <p:spPr>
            <a:xfrm>
              <a:off x="4191120" y="3467160"/>
              <a:ext cx="24382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1REPLACE.gif"/>
            <p:cNvPicPr/>
            <p:nvPr/>
          </p:nvPicPr>
          <p:blipFill>
            <a:blip r:embed="rId4"/>
            <a:srcRect l="77790" t="0" r="0" b="0"/>
            <a:stretch/>
          </p:blipFill>
          <p:spPr>
            <a:xfrm>
              <a:off x="6629400" y="3467160"/>
              <a:ext cx="10666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ight Arrow 20"/>
            <p:cNvSpPr/>
            <p:nvPr/>
          </p:nvSpPr>
          <p:spPr>
            <a:xfrm>
              <a:off x="6477120" y="4533840"/>
              <a:ext cx="304560" cy="228600"/>
            </a:xfrm>
            <a:prstGeom prst="rightArrow">
              <a:avLst>
                <a:gd name="adj1" fmla="val 50000"/>
                <a:gd name="adj2" fmla="val 4996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Plus 21"/>
            <p:cNvSpPr/>
            <p:nvPr/>
          </p:nvSpPr>
          <p:spPr>
            <a:xfrm>
              <a:off x="502920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Plus 22"/>
            <p:cNvSpPr/>
            <p:nvPr/>
          </p:nvSpPr>
          <p:spPr>
            <a:xfrm>
              <a:off x="754416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8382240" y="4457880"/>
              <a:ext cx="1522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ntacid (calcium hydroxide) neutralizes stomach acid (hydrochloric acid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(OH)2 + 2 HCl CaCl2 + 2 H2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ron bar rusts. The iron reacts with oxygen in the air to make rus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Fe + 3 O2 2 Fe2O3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3" descr="vines.jpg"/>
          <p:cNvPicPr/>
          <p:nvPr/>
        </p:nvPicPr>
        <p:blipFill>
          <a:blip r:embed="rId2"/>
          <a:stretch/>
        </p:blipFill>
        <p:spPr>
          <a:xfrm>
            <a:off x="5105520" y="3772080"/>
            <a:ext cx="243828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Book Antiqua"/>
              </a:rPr>
              <a:t>Thermite Reaction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Fe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Al(s) A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Fe(l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In the end this creates molten ga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5" descr="http://blog.wired.com/geekdad/thermite%20reaction.jpg"/>
          <p:cNvPicPr/>
          <p:nvPr/>
        </p:nvPicPr>
        <p:blipFill>
          <a:blip r:embed="rId2"/>
          <a:stretch/>
        </p:blipFill>
        <p:spPr>
          <a:xfrm>
            <a:off x="2816280" y="2919240"/>
            <a:ext cx="3822480" cy="28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9" name="Single_Replacement_Reactions.asf" descr=""/>
          <p:cNvPicPr/>
          <p:nvPr/>
        </p:nvPicPr>
        <p:blipFill>
          <a:blip r:embed="rId1"/>
          <a:stretch/>
        </p:blipFill>
        <p:spPr>
          <a:xfrm>
            <a:off x="306360" y="0"/>
            <a:ext cx="853128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www.rockwood.k12.mo.us/rvalley/8...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s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/1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.../0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Lab.doc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(Demonstration)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ttp://www.marymount.k12.ny.us/marynet/stwbwk05/05flashchem/avreaction/avreaction.html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Multimedia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://dl.clackamas.edu/ch104-04/single.htm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s://lawrencenorth.ltschools.org/teachers/amyroutt/pdfdocuments/Lab%2010.1.pdf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2971"/>
                </a:solidFill>
                <a:latin typeface="Book Antiqua"/>
              </a:rPr>
              <a:t>Discovery United Streaming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Vide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8:06:26Z</dcterms:created>
  <dc:creator>cl12echardl</dc:creator>
  <dc:description/>
  <dc:language>en-US</dc:language>
  <cp:lastModifiedBy>cl12echardl</cp:lastModifiedBy>
  <dcterms:modified xsi:type="dcterms:W3CDTF">2009-02-18T16:24:28Z</dcterms:modified>
  <cp:revision>23</cp:revision>
  <dc:subject/>
  <dc:title>Single Replacement Reaction</dc:title>
</cp:coreProperties>
</file>