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8.png" ContentType="image/png"/>
  <Override PartName="/ppt/media/explode.wav" ContentType="audio/x-wav"/>
  <Override PartName="/ppt/media/image1.jpeg" ContentType="image/jpeg"/>
  <Override PartName="/ppt/media/image2.jpeg" ContentType="image/jpeg"/>
  <Override PartName="/ppt/media/image3.wmf" ContentType="image/x-wmf"/>
  <Override PartName="/ppt/media/voltage.wav" ContentType="audio/x-wav"/>
  <Override PartName="/ppt/media/drumroll.wav" ContentType="audio/x-wav"/>
  <Override PartName="/ppt/media/image5.wmf" ContentType="image/x-wmf"/>
  <Override PartName="/ppt/media/applause.wav" ContentType="audio/x-wav"/>
  <Override PartName="/ppt/media/whoosh.wav" ContentType="audio/x-wav"/>
  <Override PartName="/ppt/media/image6.wmf" ContentType="image/x-wmf"/>
  <Override PartName="/ppt/media/image4.png" ContentType="image/png"/>
  <Override PartName="/ppt/media/laser.wav" ContentType="audio/x-wav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4D3-9FC0-4308-B6C1-21DFD604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9BD-2BD9-4F5A-8D73-492E4D35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E66-A028-43E1-A923-7A6D4039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94F-1A9F-492C-B06C-9F5C82DD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F767-16F2-4EC7-A94A-BF47C240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9090-A020-4A05-8602-AF3E6EB1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ED43-E94E-4F4B-B379-4F824D2A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6CC4-E494-45D9-9CF9-15BADFCF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6540-3664-45AF-BB89-F534B101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0AF2-120B-4E27-96E9-8D1D4AC3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360F-8A9F-4D6C-9EE7-7889513A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A09-11B4-4B35-8286-EFA57CF5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77A0-D678-4FA7-957F-44D34FF0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1D20-7488-43BA-8ED2-30DE5604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490F-232E-4061-B1DC-5A236E67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0A3C-056E-42F2-A314-0B28D410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0321-E4BD-4F4A-BD67-4C1892B5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84062-5574-4944-B227-21D57213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6D1AB-A606-482E-8560-A3B0D8BB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B278E-9D66-462D-982A-90C86C28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E0863-2FF9-4419-98C4-B8D4C808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59B0E-5782-493F-BD00-DDAD4F21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12F-9197-450A-A306-D651AB61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F5CDD-04E0-4D12-A636-77255AD5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AEB29-67C8-4BC4-8BA7-D367117D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41B2E-6FC2-4BD0-9280-645FD502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53185-8986-4C14-893A-FBC4642C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85AE2-1264-41ED-A3CC-6C6C7824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EFD55-B5B9-48DB-98B7-0E57B19F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5A480-D0A7-4B7A-B435-FC710BA4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88F4E-0413-41AA-88B4-B3A8AAC8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35C7F8-B5AC-4340-93DA-22342191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37BD9E-49B1-4BD6-BB81-004A1EE6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055-7FCD-42B4-837C-A44C90E5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A6D1A1-A7A6-434A-B45D-656BEC9D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10A93-24BC-4286-AE57-30C83C0D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372A60-2121-48B9-9BBF-05D49FB4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8255FF-DB5F-4617-B82F-74EEF302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05911-CB30-46D0-894D-B23BBFFB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1F7A92-B36C-4FA0-A1EA-141A54D8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ACFC15-0277-4DE7-AEBF-E4123E40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9F7FF6-504C-4D5C-9BE5-C86559A3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3FA7DF-658E-48D2-8BD9-6783FD2E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09CD7-D8B5-49CB-8A1F-0ACFD9BC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730-BA31-4BA4-B671-4E7D3286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D2793-8AD5-4764-BAC5-3367EBB8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C541F2-C9B7-4CF6-B678-560E4108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19AE4-2E96-4264-A5A0-BD1C36CC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654AF-3841-4EB3-B609-FA688B56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64DCE-8393-4BF1-B424-022E6DD1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90C0E-0EDB-4117-896A-C646604C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F9B04D-66FD-4CF5-BD05-F0F7AB9C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FE54B-9B4C-4322-A744-09AFE991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64DDB-DCCD-4447-8E97-251847E3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BEBFC-3B2A-461B-AB6C-D1DFBFEF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E71-CA6E-4FF1-BB4D-478AE15C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BB500-7ACF-40F4-9E34-80F5782C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56947-C3C4-4AEE-A3EC-9F7A79A1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ED520-D34D-44A1-BAE2-8FC876AE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58F2B-C9A7-49E7-AE99-2AE9BCAC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18C47-95F5-47A8-AB78-7E7CFF1A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9FC41-EB50-4602-8868-CE8E61CD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36CCB-77AD-40B7-99AF-1FD003A9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E4B11-B78D-4C6B-89D7-EF058E4D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3FD3D-A3D5-4234-8740-D740CD52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84668-9556-4CA4-B7A2-FD873DAD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80CC-956B-4E93-924A-1208AB7D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60124-7989-4756-A84F-F18DC080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CAD7D-1FF1-40A8-95A4-A5C6128D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AAB53-2E52-4B6D-B51E-0233ED8F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124C3A-FD53-45CC-BF2D-F3AB9128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1CF31F-6A40-43FA-AF59-84505DEB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EB5BF-3E8A-46CF-B4AE-A1A9DF65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97829E-12F2-4915-87BB-74531B0F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3D9C0-2CB3-4F36-840B-8B8B8559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8C8DA-DC9C-4189-B7D0-01377534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44549-E936-433E-BB04-38AC0DEA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6D6-89CC-4362-A3B6-34377BDC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102DBF-FDFF-421A-8ED7-5B053CEB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A18123-DE83-4681-86CC-CACA2E85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C7D027-B656-4991-8486-74296ACF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C19E44-6908-4404-9256-AC82A8B0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B252CB-B4F7-4C61-85E6-DBBAA4B5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0BD8D-B8C5-499C-82DE-8B2AE343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01889-31C6-42A5-AEA9-EEF2D2EC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1375D-36D8-4FDC-A2BC-B9B9CA22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E3CD9-7BBE-4FA4-8604-851A2B69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C65FA-143F-4809-A60B-F699C40A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236-C43C-49D0-931D-899B5051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83BFF-357D-44BD-923D-274DFAC1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26617-40C6-4366-A8F8-ED3577A4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A8A73-4034-4A6B-9B18-5B202176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D0B17-3552-40C6-B431-33671674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F294C-C7DE-4A6E-A095-C1FDF229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7839A-0A47-4ADF-9151-E98C6A48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6E597-D425-4CE8-8883-0FC2A04F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3E7D-4902-474B-80EA-A37EEE438F0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6ec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7CB7-FA53-42C4-BEA4-9CE7DD02CE97}" type="slidenum">
              <a:rPr b="1" lang="en-US" sz="1400" spc="-1" strike="noStrike">
                <a:solidFill>
                  <a:srgbClr val="d6ec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FC78-08E9-4501-BF9C-C3D28285A406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8C61-2E24-47ED-AD25-B1C527ED2DE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313A-8DA9-432C-BA32-121DCB9539B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3295-A130-4191-AC3A-C25CF8CBF72C}" type="slidenum">
              <a:rPr b="1" lang="en-US" sz="1400" spc="-1" strike="noStrike">
                <a:solidFill>
                  <a:srgbClr val="4e5b6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91BB-8372-41A2-B39A-326CD5677424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1A71-412F-4114-80DF-1637840E39D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voltage.wav" TargetMode="External"/><Relationship Id="rId2" Type="http://schemas.microsoft.com/office/2007/relationships/media" Target="file:///tmp/home/.config/libreoffice/4/user/gallery/voltage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SINGLE REPLACEMENT REACTION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By  Courtney Garloff, Jessica Hain, Amanda Perry, and Garrett Levengoo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4" descr="C:\Documents and Settings\cl12perrya\Local Settings\Temporary Internet Files\Content.IE5\84J2OIQR\MCj03970480000[1].wmf"/>
          <p:cNvPicPr/>
          <p:nvPr/>
        </p:nvPicPr>
        <p:blipFill>
          <a:blip r:embed="rId1"/>
          <a:stretch/>
        </p:blipFill>
        <p:spPr>
          <a:xfrm>
            <a:off x="2743200" y="304920"/>
            <a:ext cx="371160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Video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pic>
        <p:nvPicPr>
          <p:cNvPr id="3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76520" y="16765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4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4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Generic Equation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360" y="1599840"/>
            <a:ext cx="3730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A+ BC           B+ AC 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57" name="Right Arrow 3"/>
          <p:cNvSpPr/>
          <p:nvPr/>
        </p:nvSpPr>
        <p:spPr>
          <a:xfrm>
            <a:off x="2133720" y="1676520"/>
            <a:ext cx="9144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7fd13b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58" name="Picture 5" descr="C:\Documents and Settings\cl12perrya\Local Settings\Temporary Internet Files\Content.IE5\6G601VPN\MCj03108800000[1].wmf"/>
          <p:cNvPicPr/>
          <p:nvPr/>
        </p:nvPicPr>
        <p:blipFill>
          <a:blip r:embed="rId1"/>
          <a:stretch/>
        </p:blipFill>
        <p:spPr>
          <a:xfrm>
            <a:off x="4572000" y="2895480"/>
            <a:ext cx="3583080" cy="341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whoosh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Real-life Example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09120" y="1600200"/>
            <a:ext cx="815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17720" indent="-117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you are taking a picture.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marL="117720" indent="-117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you film or import a movie.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pic>
        <p:nvPicPr>
          <p:cNvPr id="361" name="Picture 4" descr="C:\Documents and Settings\cl12perrya\Local Settings\Temporary Internet Files\Content.IE5\FYXW0WML\MCj03974780000[1].wmf"/>
          <p:cNvPicPr/>
          <p:nvPr/>
        </p:nvPicPr>
        <p:blipFill>
          <a:blip r:embed="rId1"/>
          <a:stretch/>
        </p:blipFill>
        <p:spPr>
          <a:xfrm>
            <a:off x="5562720" y="3200400"/>
            <a:ext cx="304632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laser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Review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304920" y="1981080"/>
            <a:ext cx="86104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a reaction involves an element which displaces another in a compound, it is called a single substitution or single replacement reaction.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64" name="Picture 3" descr="C:\Documents and Settings\cl12perrya\Local Settings\Temporary Internet Files\Content.IE5\6G601VPN\MCj02931980000[1].wmf"/>
          <p:cNvPicPr/>
          <p:nvPr/>
        </p:nvPicPr>
        <p:blipFill>
          <a:blip r:embed="rId1"/>
          <a:stretch/>
        </p:blipFill>
        <p:spPr>
          <a:xfrm>
            <a:off x="6248520" y="3657600"/>
            <a:ext cx="2743200" cy="2728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drumroll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Source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80880" y="1905120"/>
            <a:ext cx="8458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Howstuffworks.com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228600" y="2819520"/>
            <a:ext cx="6477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Discovering Streaming.com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28600" y="3886200"/>
            <a:ext cx="4952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Hyperphysics.com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304920" y="4800600"/>
            <a:ext cx="4495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hemical Concepts.com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70" name="Picture 3" descr="C:\Documents and Settings\cl12perrya\Local Settings\Temporary Internet Files\Content.IE5\FYXW0WML\MCj04348650000[1].png"/>
          <p:cNvPicPr/>
          <p:nvPr/>
        </p:nvPicPr>
        <p:blipFill>
          <a:blip r:embed="rId1"/>
          <a:stretch/>
        </p:blipFill>
        <p:spPr>
          <a:xfrm>
            <a:off x="4114800" y="14479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explode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22:45Z</dcterms:created>
  <dc:creator>cl12perrya</dc:creator>
  <dc:description/>
  <dc:language>en-US</dc:language>
  <cp:lastModifiedBy>cl12perrya</cp:lastModifiedBy>
  <dcterms:modified xsi:type="dcterms:W3CDTF">2009-02-18T15:58:34Z</dcterms:modified>
  <cp:revision>14</cp:revision>
  <dc:subject/>
  <dc:title>Single Replacement Reaction</dc:title>
</cp:coreProperties>
</file>