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B746-FFB6-4934-97D2-DB964FEDA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641E-DEA2-46DE-8ECF-7F7F6B67A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CC7-A5B7-4753-8CC5-8BC6A0E3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D19-06F4-4C6F-910C-45069DA0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2BE-DF04-4296-A20C-F5A6B159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6E2-3960-496A-83FD-6E21C490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BD17-60B5-44F3-BF2F-2D06310A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3902-BF0D-40CD-8469-A3188F96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667F-D352-4E70-95A5-9E5B45B9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250F-E206-45A0-9F1F-ED183C9C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5A6B-8C5B-43BB-A02F-060FFCF2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AE4E-3D32-41C9-833E-E7200E85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FEBB-D323-49BF-88AA-281845BC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04C-2471-40F4-9E04-D109B66C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BC82-87B3-4CE1-A285-2ACAB4F9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136D-C237-49C0-9655-E35F2342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5DF8-5976-46C7-96F6-B18CCAC6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1B54-3950-4E11-9B76-4637C0F2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1B9E-14EA-4CEB-BC33-DECB8C23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E865D-DBA5-4CB3-BA3B-3D3EC6CD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8004-392B-4C0C-BC05-E10E6B83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064D-177E-44B0-83CA-8BF6FC9C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E489F-DF08-436D-BED4-76A58C73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8EF84-209C-4817-8EB6-EA22E609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A88-1DB4-46C0-809D-C00340EE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EF59-E3D0-4622-A26C-76186F3A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EE3D0-605A-4FE9-93FD-90E99ED6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0A6F-4665-4582-8F46-76EEF55F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BCEE-4D8C-4966-9A62-1ED560ED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3C57-1CB6-4F96-81D7-6EE198CB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D593-E6E7-4ABA-8D40-D66CF580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AFBC-3184-4725-BA75-C0717FEB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EEF4-0DE2-4DF9-B64D-B73F09C6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F3AE3-95BD-44AD-BC8F-7263CB41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80CCD-9C3C-43C8-BEC5-B0848537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C04-29D0-42D7-89FE-FAD257A5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3B9D1-6EA7-4364-9060-472C9F73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3AC66-7D86-4B1A-9FE9-8781BB1B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D287-3ACD-4CBA-93AD-970CAC6C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D9CCA-15DC-41E5-B121-2BCEB6BA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119F6-B5E1-4A88-AE40-04D3BE1C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F0E68-8469-4293-A077-1D86146C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709D0-09B2-4095-86C1-1FCD8054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3F79B-D23D-487A-AC94-74A5E165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3994E-4442-4F78-AE0F-7BBF3927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24D6B-9484-4D23-A0DD-866DDC11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7BA-9826-42BC-A1BB-881052FE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5350A-209B-42DC-A7AF-EE487F63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3A1E6-0555-425E-AF1F-5A312A47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EC161-DF9A-44DB-9DE5-A4892DF0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CF87F-2D0E-45B8-B4F2-4D9D5D69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45F59-7AD0-44C4-8A5B-899ED203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21A43-6452-4751-ABBF-CFDE091E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A0446-D5E1-4242-955F-52FA8BAC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93C94-A7F7-4061-857C-98124860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33817-5E79-415E-85B6-C2D5CBAC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85F34-4D7E-4122-9B42-54EF2945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330-28D2-4F38-9A1A-F0CEED6A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57711-35EA-4A76-85F3-19D9AC30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7C8-0789-4382-95BE-9ACF1A93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BAC-7249-43F0-9CD9-5C30BB3E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306-3CB6-414F-8B5E-B92D2FA9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2B4F-FA91-41BF-BE75-11149FDCF3D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532A-2639-490C-81D5-B8483997B3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FE11-9D7E-4D0B-A3B3-1202C186537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3267-46B9-4B8C-B9F0-59EE53C3358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E041-4745-48AD-B038-7189BC5D840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4876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6043680"/>
            <a:ext cx="9144000" cy="81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By Sarah,Jose,and He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http://www.netexperimente.de/netexperimente/chemieversuche/bilder/37.jpg"/>
          <p:cNvPicPr/>
          <p:nvPr/>
        </p:nvPicPr>
        <p:blipFill>
          <a:blip r:embed="rId1"/>
          <a:stretch/>
        </p:blipFill>
        <p:spPr>
          <a:xfrm>
            <a:off x="603360" y="-6480"/>
            <a:ext cx="8016840" cy="6413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8" descr=""/>
          <p:cNvPicPr/>
          <p:nvPr/>
        </p:nvPicPr>
        <p:blipFill>
          <a:blip r:embed="rId2"/>
          <a:stretch/>
        </p:blipFill>
        <p:spPr>
          <a:xfrm>
            <a:off x="2951280" y="4956120"/>
            <a:ext cx="3930480" cy="1158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ed46c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 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Synthesis (combination) Reactions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80920" y="121932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bination reaction is when an atom and or molecule combine to form a final produ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reactions are always exotherm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xplosion 2 7"/>
          <p:cNvSpPr/>
          <p:nvPr/>
        </p:nvSpPr>
        <p:spPr>
          <a:xfrm rot="1185600">
            <a:off x="80640" y="2955600"/>
            <a:ext cx="5889600" cy="3311640"/>
          </a:xfrm>
          <a:prstGeom prst="irregularSeal2">
            <a:avLst/>
          </a:prstGeom>
          <a:solidFill>
            <a:srgbClr val="7fd13b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www.iun.edu/~cpanhd/C101webnotes/chemical%20reactions/images/baf2.jpg"/>
          <p:cNvPicPr/>
          <p:nvPr/>
        </p:nvPicPr>
        <p:blipFill>
          <a:blip r:embed="rId1"/>
          <a:stretch/>
        </p:blipFill>
        <p:spPr>
          <a:xfrm rot="20898000">
            <a:off x="1082520" y="4276440"/>
            <a:ext cx="3146760" cy="479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28240" y="137160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15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ding Ballo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37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uminum and Bromine re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4f0e4"/>
          </a:solidFill>
          <a:ln w="9360">
            <a:solidFill>
              <a:srgbClr val="b4bcca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Real life examples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553080" y="1752480"/>
            <a:ext cx="914400" cy="1295640"/>
          </a:xfrm>
          <a:prstGeom prst="ellipse">
            <a:avLst/>
          </a:prstGeom>
          <a:solidFill>
            <a:srgbClr val="ff0000"/>
          </a:solidFill>
          <a:ln w="1152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6"/>
          <p:cNvSpPr/>
          <p:nvPr/>
        </p:nvSpPr>
        <p:spPr>
          <a:xfrm rot="21207600">
            <a:off x="6654600" y="3041280"/>
            <a:ext cx="1473120" cy="4533840"/>
          </a:xfrm>
          <a:prstGeom prst="pie">
            <a:avLst/>
          </a:prstGeom>
          <a:noFill/>
          <a:ln w="936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xplosion 2 13"/>
          <p:cNvSpPr/>
          <p:nvPr/>
        </p:nvSpPr>
        <p:spPr>
          <a:xfrm>
            <a:off x="6019920" y="685800"/>
            <a:ext cx="2057400" cy="1676520"/>
          </a:xfrm>
          <a:prstGeom prst="irregularSeal2">
            <a:avLst/>
          </a:prstGeom>
          <a:solidFill>
            <a:srgbClr val="f2f2f2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bd0e4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Synthesis reactions used in our daily lives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3160" y="1294920"/>
            <a:ext cx="5715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 +  oxygen  →   metal oxide EX. 2M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+  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→    2Mg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metal  +  oxygen  →    nonmetallic oxide EX.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+  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→    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 +  water  →    metallic hydroxide EX. Mg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+  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→    Mg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iley Face 5"/>
          <p:cNvSpPr/>
          <p:nvPr/>
        </p:nvSpPr>
        <p:spPr>
          <a:xfrm>
            <a:off x="5638680" y="4572000"/>
            <a:ext cx="1524240" cy="1828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152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588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Summary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123720" y="167652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+ X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thesis reaction is basically one or two elements or compounds combined to make one compound el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5-Point Star 4"/>
          <p:cNvSpPr/>
          <p:nvPr/>
        </p:nvSpPr>
        <p:spPr>
          <a:xfrm rot="2028000">
            <a:off x="304920" y="3581280"/>
            <a:ext cx="2361960" cy="1981440"/>
          </a:xfrm>
          <a:prstGeom prst="pie">
            <a:avLst/>
          </a:prstGeom>
          <a:solidFill>
            <a:srgbClr val="007eea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82a5"/>
          </a:solidFill>
          <a:ln w="9360">
            <a:solidFill>
              <a:srgbClr val="0082a5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Works Cited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1905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97144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15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37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iun.edu/~cpanhd/C101webnotes/chemical%20reactions/combination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Notched Right Arrow 4"/>
          <p:cNvSpPr/>
          <p:nvPr/>
        </p:nvSpPr>
        <p:spPr>
          <a:xfrm>
            <a:off x="685800" y="1905120"/>
            <a:ext cx="1359000" cy="685800"/>
          </a:xfrm>
          <a:custGeom>
            <a:avLst/>
            <a:gdLst>
              <a:gd name="textAreaLeft" fmla="*/ 171360 w 1359000"/>
              <a:gd name="textAreaRight" fmla="*/ 1187640 w 1359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50" y="5400"/>
                </a:lnTo>
                <a:lnTo>
                  <a:pt x="16150" y="0"/>
                </a:lnTo>
                <a:lnTo>
                  <a:pt x="21600" y="10800"/>
                </a:lnTo>
                <a:lnTo>
                  <a:pt x="16150" y="21600"/>
                </a:lnTo>
                <a:lnTo>
                  <a:pt x="16150" y="16200"/>
                </a:lnTo>
                <a:lnTo>
                  <a:pt x="0" y="16200"/>
                </a:lnTo>
                <a:lnTo>
                  <a:pt x="272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bd0e4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iped Right Arrow 5"/>
          <p:cNvSpPr/>
          <p:nvPr/>
        </p:nvSpPr>
        <p:spPr>
          <a:xfrm>
            <a:off x="609480" y="3657600"/>
            <a:ext cx="1447920" cy="609480"/>
          </a:xfrm>
          <a:prstGeom prst="pie">
            <a:avLst/>
          </a:prstGeom>
          <a:solidFill>
            <a:srgbClr val="f273af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Notched Right Arrow 6"/>
          <p:cNvSpPr/>
          <p:nvPr/>
        </p:nvSpPr>
        <p:spPr>
          <a:xfrm>
            <a:off x="533520" y="5257800"/>
            <a:ext cx="1434960" cy="685800"/>
          </a:xfrm>
          <a:custGeom>
            <a:avLst/>
            <a:gdLst>
              <a:gd name="textAreaLeft" fmla="*/ 171360 w 1434960"/>
              <a:gd name="textAreaRight" fmla="*/ 1263600 w 14349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39" y="5400"/>
                </a:lnTo>
                <a:lnTo>
                  <a:pt x="16439" y="0"/>
                </a:lnTo>
                <a:lnTo>
                  <a:pt x="21600" y="10800"/>
                </a:lnTo>
                <a:lnTo>
                  <a:pt x="16439" y="21600"/>
                </a:lnTo>
                <a:lnTo>
                  <a:pt x="16439" y="16200"/>
                </a:lnTo>
                <a:lnTo>
                  <a:pt x="0" y="16200"/>
                </a:lnTo>
                <a:lnTo>
                  <a:pt x="258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0105c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15:53Z</dcterms:created>
  <dc:creator>cl12howards</dc:creator>
  <dc:description/>
  <dc:language>en-US</dc:language>
  <cp:lastModifiedBy>cl12howards</cp:lastModifiedBy>
  <dcterms:modified xsi:type="dcterms:W3CDTF">2009-02-18T16:17:34Z</dcterms:modified>
  <cp:revision>18</cp:revision>
  <dc:subject/>
  <dc:title>Synthesis!</dc:title>
</cp:coreProperties>
</file>