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2267-062A-40BB-881A-B37F39F95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3CBF-94A4-4F93-BFD8-DDD9751E6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26F-2901-4CC2-9C32-16ACA3FF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029-3348-4111-A723-FD7ED83D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331-71E0-4FC2-9D1B-9A91E0DD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47E-AF44-4DCA-AA1F-866EB927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014D-183D-4724-8B9B-BE6A93D5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A3E6-5D18-46B1-A558-B55D421A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9DD3-2C15-4E22-8BBE-541FA3FA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44CD-590B-4562-9937-226167E6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F3C8-840E-40CF-A26A-79A96928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4D64-DDDD-4C61-850C-FF36FE9F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2766-61D4-4720-9E6A-BD84814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C66-B9CC-4D44-A92A-2A82783C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AD49-4F49-4B48-A8E1-E14F3A72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1556-1953-4C06-A2AA-2C72B260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FF30-D90C-40BF-9AC8-6100AB3A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D080-B94D-4293-987B-7D150103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7871-6085-49CD-BCFD-50030996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9A7DD-278A-44A0-AB14-CFB65A76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C6FD-EA64-456E-82EF-C17B2007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84288-0CB9-44ED-B46F-DE48E471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8E87-8667-47AC-9D1A-268CE90C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7F48-9EAB-45CA-9B99-4F9ED6F4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323-9BF2-435D-947F-3FFFB5AC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A3B5-8DE8-4E9E-A0BD-63998743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8D36-8FD6-4219-B0F0-94966CA6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E9469-5F82-4F40-BBF2-3AB16B52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8F8B-1973-4486-89D7-2934F8FF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980B-A5EE-422A-9ABE-3DFFDF01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BA44-9E39-4C37-8D6A-0BAD5608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1F71-F444-4FF4-A1EA-1BE10E03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5D2E1-7C4B-40CB-B26D-06851FF6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B7F0-3CAA-4D09-94CB-A236F2FF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2915-805D-4FC6-9F13-6C2B3688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F38-695F-4A18-8195-90130376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60D95-03B2-406C-AA47-1CB044F1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51A3-BD99-469E-876F-808ACFF6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BE918-AF99-477C-AF7C-621579C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F2DB-CEA7-4289-8E5F-15A018BF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C478-195C-47BA-81CC-6D971E48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D4B78-F528-48FB-A188-CC9EBAFF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982C1-553B-484D-AA71-FB0D938A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D491-601E-4E45-B52E-614308F4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C3D92-4DA0-4A90-B6F8-DBD747A0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132D6-546F-402D-81D9-FA2E92BC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931-E30C-4A49-8349-DC43CFCF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D24EB-8916-44EF-A9A2-F7E25D34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4180F-94A8-41B3-94C6-1FEA8940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30187-A7EE-4DD6-9C6C-85C493EA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8A7D-F1D1-4FB4-9D66-FB9ADC30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DE81E-31F9-49A1-B241-036343E3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8EFE2-96DF-4730-AB1A-DF3CB740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75214-5185-47D1-9EA9-714BEEBB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EE61-5A54-4B39-A3A6-B357101E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4E487-FA68-4203-B80F-CDDE2A7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359CB-2B42-4D53-BC79-B05115FC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A79-896E-4E29-8839-B3EBEE36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03F24-10C6-4F0D-A5DC-61C24F1C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7AF-B754-429B-8968-71AAC446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0D0-7F7A-4BB7-B7E2-A3AF35D9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44E-736F-44D0-932E-6F4FE9B1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0D4F-E862-468F-947C-909AA717E9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495A-C1E9-4F69-930E-89F62824C42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7666-B99F-43ED-B50E-87743FC9436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9E78-1453-4675-A534-2BB607E6A3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db3"/>
            </a:gs>
            <a:gs pos="100000">
              <a:srgbClr val="c5e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3576-DE3D-4B2F-B067-CEF77F16BDA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4876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6043680"/>
            <a:ext cx="9144000" cy="81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By Sarah,Jose,and He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http://www.netexperimente.de/netexperimente/chemieversuche/bilder/37.jpg"/>
          <p:cNvPicPr/>
          <p:nvPr/>
        </p:nvPicPr>
        <p:blipFill>
          <a:blip r:embed="rId1"/>
          <a:stretch/>
        </p:blipFill>
        <p:spPr>
          <a:xfrm>
            <a:off x="603360" y="-6480"/>
            <a:ext cx="8016840" cy="6413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8" descr=""/>
          <p:cNvPicPr/>
          <p:nvPr/>
        </p:nvPicPr>
        <p:blipFill>
          <a:blip r:embed="rId2"/>
          <a:stretch/>
        </p:blipFill>
        <p:spPr>
          <a:xfrm>
            <a:off x="2951280" y="4956120"/>
            <a:ext cx="3930480" cy="1158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 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ynthesis (combination) Reaction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80920" y="121932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bination reaction is when an atom and or molecule combine to form a final produ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reactions are always exotherm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xplosion 2 7"/>
          <p:cNvSpPr/>
          <p:nvPr/>
        </p:nvSpPr>
        <p:spPr>
          <a:xfrm rot="1185600">
            <a:off x="80640" y="2955600"/>
            <a:ext cx="5889600" cy="3311640"/>
          </a:xfrm>
          <a:prstGeom prst="irregularSeal2">
            <a:avLst/>
          </a:prstGeom>
          <a:solidFill>
            <a:srgbClr val="7fd13b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www.iun.edu/~cpanhd/C101webnotes/chemical%20reactions/images/baf2.jpg"/>
          <p:cNvPicPr/>
          <p:nvPr/>
        </p:nvPicPr>
        <p:blipFill>
          <a:blip r:embed="rId1"/>
          <a:stretch/>
        </p:blipFill>
        <p:spPr>
          <a:xfrm rot="20898000">
            <a:off x="1082520" y="4276440"/>
            <a:ext cx="3146760" cy="479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28240" y="13716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15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ding Ballo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37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uminum and Bromine re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4f0e4"/>
          </a:solidFill>
          <a:ln w="9360">
            <a:solidFill>
              <a:srgbClr val="b4bcca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Real life example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553080" y="1752480"/>
            <a:ext cx="914400" cy="1295640"/>
          </a:xfrm>
          <a:prstGeom prst="ellipse">
            <a:avLst/>
          </a:prstGeom>
          <a:solidFill>
            <a:srgbClr val="ff0000"/>
          </a:solidFill>
          <a:ln w="1152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6"/>
          <p:cNvSpPr/>
          <p:nvPr/>
        </p:nvSpPr>
        <p:spPr>
          <a:xfrm rot="21207600">
            <a:off x="6654600" y="3041280"/>
            <a:ext cx="1473120" cy="4533840"/>
          </a:xfrm>
          <a:prstGeom prst="pie">
            <a:avLst/>
          </a:prstGeom>
          <a:noFill/>
          <a:ln w="936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xplosion 2 13"/>
          <p:cNvSpPr/>
          <p:nvPr/>
        </p:nvSpPr>
        <p:spPr>
          <a:xfrm>
            <a:off x="6019920" y="685800"/>
            <a:ext cx="2057400" cy="1676520"/>
          </a:xfrm>
          <a:prstGeom prst="irregularSeal2">
            <a:avLst/>
          </a:prstGeom>
          <a:solidFill>
            <a:srgbClr val="f2f2f2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bd0e4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ynthesis reactions used in our daily lives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3160" y="1294920"/>
            <a:ext cx="5715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 +  oxygen  →   metal oxide EX. 2M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2Mg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metal  +  oxygen  →    nonmetallic oxide EX.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 +  water  →    metallic hydroxide EX. Mg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+  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→    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iley Face 5"/>
          <p:cNvSpPr/>
          <p:nvPr/>
        </p:nvSpPr>
        <p:spPr>
          <a:xfrm>
            <a:off x="5638680" y="4572000"/>
            <a:ext cx="1524240" cy="1828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152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588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Summary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123720" y="167652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+ 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thesis reaction is basically one or two elements or compounds combined to make one compound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5-Point Star 4"/>
          <p:cNvSpPr/>
          <p:nvPr/>
        </p:nvSpPr>
        <p:spPr>
          <a:xfrm rot="2028000">
            <a:off x="304920" y="3581280"/>
            <a:ext cx="2361960" cy="1981440"/>
          </a:xfrm>
          <a:prstGeom prst="pie">
            <a:avLst/>
          </a:prstGeom>
          <a:solidFill>
            <a:srgbClr val="007eea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82a5"/>
          </a:solidFill>
          <a:ln w="9360">
            <a:solidFill>
              <a:srgbClr val="0082a5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Works Cited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1905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97144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15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uni-flensburg.de/science/netexp/mobile/037.3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iun.edu/~cpanhd/C101webnotes/chemical%20reactions/combination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Notched Right Arrow 4"/>
          <p:cNvSpPr/>
          <p:nvPr/>
        </p:nvSpPr>
        <p:spPr>
          <a:xfrm>
            <a:off x="685800" y="1905120"/>
            <a:ext cx="1359000" cy="685800"/>
          </a:xfrm>
          <a:custGeom>
            <a:avLst/>
            <a:gdLst>
              <a:gd name="textAreaLeft" fmla="*/ 171360 w 1359000"/>
              <a:gd name="textAreaRight" fmla="*/ 1187640 w 1359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50" y="5400"/>
                </a:lnTo>
                <a:lnTo>
                  <a:pt x="16150" y="0"/>
                </a:lnTo>
                <a:lnTo>
                  <a:pt x="21600" y="10800"/>
                </a:lnTo>
                <a:lnTo>
                  <a:pt x="16150" y="21600"/>
                </a:lnTo>
                <a:lnTo>
                  <a:pt x="16150" y="16200"/>
                </a:lnTo>
                <a:lnTo>
                  <a:pt x="0" y="16200"/>
                </a:lnTo>
                <a:lnTo>
                  <a:pt x="272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bd0e4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iped Right Arrow 5"/>
          <p:cNvSpPr/>
          <p:nvPr/>
        </p:nvSpPr>
        <p:spPr>
          <a:xfrm>
            <a:off x="609480" y="3657600"/>
            <a:ext cx="1447920" cy="609480"/>
          </a:xfrm>
          <a:prstGeom prst="pie">
            <a:avLst/>
          </a:prstGeom>
          <a:solidFill>
            <a:srgbClr val="f273af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Notched Right Arrow 6"/>
          <p:cNvSpPr/>
          <p:nvPr/>
        </p:nvSpPr>
        <p:spPr>
          <a:xfrm>
            <a:off x="533520" y="5257800"/>
            <a:ext cx="1434960" cy="685800"/>
          </a:xfrm>
          <a:custGeom>
            <a:avLst/>
            <a:gdLst>
              <a:gd name="textAreaLeft" fmla="*/ 171360 w 1434960"/>
              <a:gd name="textAreaRight" fmla="*/ 1263600 w 14349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39" y="5400"/>
                </a:lnTo>
                <a:lnTo>
                  <a:pt x="16439" y="0"/>
                </a:lnTo>
                <a:lnTo>
                  <a:pt x="21600" y="10800"/>
                </a:lnTo>
                <a:lnTo>
                  <a:pt x="16439" y="21600"/>
                </a:lnTo>
                <a:lnTo>
                  <a:pt x="16439" y="16200"/>
                </a:lnTo>
                <a:lnTo>
                  <a:pt x="0" y="16200"/>
                </a:lnTo>
                <a:lnTo>
                  <a:pt x="258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0105c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15:53Z</dcterms:created>
  <dc:creator>cl12howards</dc:creator>
  <dc:description/>
  <dc:language>en-US</dc:language>
  <cp:lastModifiedBy>cl12howards</cp:lastModifiedBy>
  <dcterms:modified xsi:type="dcterms:W3CDTF">2009-02-18T16:17:34Z</dcterms:modified>
  <cp:revision>18</cp:revision>
  <dc:subject/>
  <dc:title>Synthesis!</dc:title>
</cp:coreProperties>
</file>