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3827-A971-43F6-8DA7-2CE1F82BB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E8B1-6392-4683-AC83-DF471F2FA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B70A-04E7-4DEA-BD12-6915E1D5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A23-B149-4B38-A718-2A33B756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1A89-7179-49C2-8478-132C7F72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166-BB1D-4183-A64F-2DC4FC7F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F391-F762-417D-84DF-014D49DD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DBBD-369D-4DC0-A0CB-35AF4B4C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FC49-4099-42AA-BCA4-53F97B53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141A-947D-4EBB-BA9F-6A908E16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F9F9-0511-4A47-BE21-3F05A6F8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1186-7F17-459B-8E90-370A595E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7E95-9E35-4C47-BA81-17CA0274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9C28-59E6-4E1D-A5B2-8B9AB7C8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0B4A-8D92-4BAD-8C05-4502FEAF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2A71-0B87-4EDB-979C-12242E91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E20A-D16A-454E-B710-5B782864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1C9A-635E-498F-A26F-87066533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59F9-0029-4685-A945-57D17E20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F6BA4-3FAE-4371-B88D-BE1222D0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70E3C-2C43-4FD5-9F62-86D888EC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F4286-B2F5-4E4F-98FC-6F85489A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F0244-62F6-4E41-A2F0-1DC989EC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1D2D6-A0B0-4D97-BDEE-42DCD12E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1389-830E-48CB-B910-98723DDD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E35B5-9A9C-46D5-BA2B-338AA581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9117D-0711-4A75-B743-4A95367F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BFBBC-ABF5-43E3-9AC1-A4AF157A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EB583-4492-4416-B093-B4168C68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D36E9-4757-4EBB-8B79-313F5A13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422B0-E83E-4060-8475-2E8FD738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6E986-FC7E-4781-88E3-30FD4145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53315-7806-420A-9014-276EA648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FEFAD-4E75-4136-9C45-FCA65336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B6137-3FE9-48EC-9E4C-06F65D83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7F81-70DA-4943-9CE4-17D2F237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6FEFD-5812-4EBB-B2FA-B74B9703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B9BCE-4742-48EF-80C1-FB4CC9C7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DDD9C-AF5C-4426-889B-937AD996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9A92A-BBD1-49A7-BF90-DA49A23B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5C713-3F27-4BD8-A7EE-C0D8D247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5F461-30E3-44B8-BF73-6F83C145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20B31-591B-4D4D-B715-136F8BF2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07824-EE83-422D-AA63-974DEDF5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BEA2B-CF8D-4AA4-A940-8FDBAF7E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96656-CF99-4979-B91C-993556FF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FCA-67D5-43B6-A8B2-6336D343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388B2-27A6-4D56-B7DB-BB969B2E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67C4D-0EAD-450F-BEF6-4953B773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EEE06-733C-4A7D-925B-65EEAE41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1D589-437D-492C-B7B5-DD0511D4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4B238-1983-4EDB-9330-48CA2296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8F2F0-B129-409F-87AF-B60E8D13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F31AF-B169-4EDC-89A3-C0649DF4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B4178-9FA0-466C-9C69-926F7674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DD3FB-F371-4F3E-BF35-637D930E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CBDE3-49A1-43E5-9DC0-9AEF1948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E30-831E-4B70-85A3-9B5D5E9C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C5AC0-0BCE-43FD-8DBB-ABB22A79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677C-87FF-4745-9CEA-56E277E0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20A3-6EC6-4025-8292-F6FDAB68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5883-3926-4D1F-B753-A288DB86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db3"/>
            </a:gs>
            <a:gs pos="100000">
              <a:srgbClr val="c5ee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B223-B14F-4AE8-8595-490AF25D74E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db3"/>
            </a:gs>
            <a:gs pos="100000">
              <a:srgbClr val="c5ee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DC2E-CB91-4979-B573-2405B65AC6A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db3"/>
            </a:gs>
            <a:gs pos="100000">
              <a:srgbClr val="c5ee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D9A8-4C8E-4209-A899-42F5E0EE9EB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db3"/>
            </a:gs>
            <a:gs pos="100000">
              <a:srgbClr val="c5ee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369E-DFC3-4DD2-8E45-6A8623DF174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db3"/>
            </a:gs>
            <a:gs pos="100000">
              <a:srgbClr val="c5ee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4D1B-976E-40AA-820F-6E36EDCC2A4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4876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6043680"/>
            <a:ext cx="9144000" cy="81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By Sarah,Jose,and Hen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http://www.netexperimente.de/netexperimente/chemieversuche/bilder/37.jpg"/>
          <p:cNvPicPr/>
          <p:nvPr/>
        </p:nvPicPr>
        <p:blipFill>
          <a:blip r:embed="rId1"/>
          <a:stretch/>
        </p:blipFill>
        <p:spPr>
          <a:xfrm>
            <a:off x="603360" y="-6480"/>
            <a:ext cx="8016840" cy="6413760"/>
          </a:xfrm>
          <a:prstGeom prst="rect">
            <a:avLst/>
          </a:prstGeom>
          <a:ln w="0">
            <a:noFill/>
          </a:ln>
        </p:spPr>
      </p:pic>
      <p:pic>
        <p:nvPicPr>
          <p:cNvPr id="238" name="Rectangle 8" descr=""/>
          <p:cNvPicPr/>
          <p:nvPr/>
        </p:nvPicPr>
        <p:blipFill>
          <a:blip r:embed="rId2"/>
          <a:stretch/>
        </p:blipFill>
        <p:spPr>
          <a:xfrm>
            <a:off x="2951280" y="4956120"/>
            <a:ext cx="3930480" cy="1158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ed46c"/>
          </a:solidFill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 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Synthesis (combination) Reactions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905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580920" y="1219320"/>
            <a:ext cx="5715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mbination reaction is when an atom and or molecule combine to form a final produ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 reactions are always exothermi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xplosion 2 7"/>
          <p:cNvSpPr/>
          <p:nvPr/>
        </p:nvSpPr>
        <p:spPr>
          <a:xfrm rot="1185600">
            <a:off x="80640" y="2955600"/>
            <a:ext cx="5889600" cy="3311640"/>
          </a:xfrm>
          <a:prstGeom prst="irregularSeal2">
            <a:avLst/>
          </a:prstGeom>
          <a:solidFill>
            <a:srgbClr val="7fd13b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http://www.iun.edu/~cpanhd/C101webnotes/chemical%20reactions/images/baf2.jpg"/>
          <p:cNvPicPr/>
          <p:nvPr/>
        </p:nvPicPr>
        <p:blipFill>
          <a:blip r:embed="rId1"/>
          <a:stretch/>
        </p:blipFill>
        <p:spPr>
          <a:xfrm rot="20898000">
            <a:off x="1082520" y="4276440"/>
            <a:ext cx="3146760" cy="479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1905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28240" y="1371600"/>
            <a:ext cx="5715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uni-flensburg.de/science/netexp/mobile/015.3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ding Ballo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uni-flensburg.de/science/netexp/mobile/037.3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uminum and Bromine re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4f0e4"/>
          </a:solidFill>
          <a:ln w="9360">
            <a:solidFill>
              <a:srgbClr val="b4bcca"/>
            </a:solidFill>
            <a:miter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Real life examples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6553080" y="1752480"/>
            <a:ext cx="914400" cy="1295640"/>
          </a:xfrm>
          <a:prstGeom prst="ellipse">
            <a:avLst/>
          </a:prstGeom>
          <a:solidFill>
            <a:srgbClr val="ff0000"/>
          </a:solidFill>
          <a:ln w="1152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rc 6"/>
          <p:cNvSpPr/>
          <p:nvPr/>
        </p:nvSpPr>
        <p:spPr>
          <a:xfrm rot="21207600">
            <a:off x="6654600" y="3041280"/>
            <a:ext cx="1473120" cy="4533840"/>
          </a:xfrm>
          <a:prstGeom prst="pie">
            <a:avLst/>
          </a:prstGeom>
          <a:noFill/>
          <a:ln w="9360">
            <a:solidFill>
              <a:srgbClr val="0d5a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xplosion 2 13"/>
          <p:cNvSpPr/>
          <p:nvPr/>
        </p:nvSpPr>
        <p:spPr>
          <a:xfrm>
            <a:off x="6019920" y="685800"/>
            <a:ext cx="2057400" cy="1676520"/>
          </a:xfrm>
          <a:prstGeom prst="irregularSeal2">
            <a:avLst/>
          </a:prstGeom>
          <a:solidFill>
            <a:srgbClr val="f2f2f2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bd0e4"/>
          </a:solidFill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Synthesis reactions used in our daily lives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905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33160" y="1294920"/>
            <a:ext cx="5715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 +  oxygen  →   metal oxide EX. 2M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+  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→    2Mg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metal  +  oxygen  →    nonmetallic oxide EX.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+  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→    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oxide  +  water  →    metallic hydroxide EX. Mg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+  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→    Mg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iley Face 5"/>
          <p:cNvSpPr/>
          <p:nvPr/>
        </p:nvSpPr>
        <p:spPr>
          <a:xfrm>
            <a:off x="5638680" y="4572000"/>
            <a:ext cx="1524240" cy="1828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152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5880"/>
          </a:xfrm>
          <a:prstGeom prst="rect">
            <a:avLst/>
          </a:prstGeom>
          <a:solidFill>
            <a:srgbClr val="ccedb1"/>
          </a:solidFill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Summary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1905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123720" y="1676520"/>
            <a:ext cx="5715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+ X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nthesis reaction is basically one or two elements or compounds combined to make one compound el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5-Point Star 4"/>
          <p:cNvSpPr/>
          <p:nvPr/>
        </p:nvSpPr>
        <p:spPr>
          <a:xfrm rot="2028000">
            <a:off x="304920" y="3581280"/>
            <a:ext cx="2361960" cy="1981440"/>
          </a:xfrm>
          <a:prstGeom prst="pie">
            <a:avLst/>
          </a:prstGeom>
          <a:solidFill>
            <a:srgbClr val="007eea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82a5"/>
          </a:solidFill>
          <a:ln w="9360">
            <a:solidFill>
              <a:srgbClr val="0082a5"/>
            </a:solidFill>
            <a:miter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Works Cited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1905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971440" y="160020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uni-flensburg.de/science/netexp/mobile/015.3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uni-flensburg.de/science/netexp/mobile/037.3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iun.edu/~cpanhd/C101webnotes/chemical%20reactions/combination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Notched Right Arrow 4"/>
          <p:cNvSpPr/>
          <p:nvPr/>
        </p:nvSpPr>
        <p:spPr>
          <a:xfrm>
            <a:off x="685800" y="1905120"/>
            <a:ext cx="1359000" cy="685800"/>
          </a:xfrm>
          <a:custGeom>
            <a:avLst/>
            <a:gdLst>
              <a:gd name="textAreaLeft" fmla="*/ 171360 w 1359000"/>
              <a:gd name="textAreaRight" fmla="*/ 1187640 w 1359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50" y="5400"/>
                </a:lnTo>
                <a:lnTo>
                  <a:pt x="16150" y="0"/>
                </a:lnTo>
                <a:lnTo>
                  <a:pt x="21600" y="10800"/>
                </a:lnTo>
                <a:lnTo>
                  <a:pt x="16150" y="21600"/>
                </a:lnTo>
                <a:lnTo>
                  <a:pt x="16150" y="16200"/>
                </a:lnTo>
                <a:lnTo>
                  <a:pt x="0" y="16200"/>
                </a:lnTo>
                <a:lnTo>
                  <a:pt x="272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bd0e4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iped Right Arrow 5"/>
          <p:cNvSpPr/>
          <p:nvPr/>
        </p:nvSpPr>
        <p:spPr>
          <a:xfrm>
            <a:off x="609480" y="3657600"/>
            <a:ext cx="1447920" cy="609480"/>
          </a:xfrm>
          <a:prstGeom prst="pie">
            <a:avLst/>
          </a:prstGeom>
          <a:solidFill>
            <a:srgbClr val="f273af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Notched Right Arrow 6"/>
          <p:cNvSpPr/>
          <p:nvPr/>
        </p:nvSpPr>
        <p:spPr>
          <a:xfrm>
            <a:off x="533520" y="5257800"/>
            <a:ext cx="1434960" cy="685800"/>
          </a:xfrm>
          <a:custGeom>
            <a:avLst/>
            <a:gdLst>
              <a:gd name="textAreaLeft" fmla="*/ 171360 w 1434960"/>
              <a:gd name="textAreaRight" fmla="*/ 1263600 w 14349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39" y="5400"/>
                </a:lnTo>
                <a:lnTo>
                  <a:pt x="16439" y="0"/>
                </a:lnTo>
                <a:lnTo>
                  <a:pt x="21600" y="10800"/>
                </a:lnTo>
                <a:lnTo>
                  <a:pt x="16439" y="21600"/>
                </a:lnTo>
                <a:lnTo>
                  <a:pt x="16439" y="16200"/>
                </a:lnTo>
                <a:lnTo>
                  <a:pt x="0" y="16200"/>
                </a:lnTo>
                <a:lnTo>
                  <a:pt x="258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0105c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6:15:53Z</dcterms:created>
  <dc:creator>cl12howards</dc:creator>
  <dc:description/>
  <dc:language>en-US</dc:language>
  <cp:lastModifiedBy>cl12howards</cp:lastModifiedBy>
  <dcterms:modified xsi:type="dcterms:W3CDTF">2009-02-18T16:17:34Z</dcterms:modified>
  <cp:revision>18</cp:revision>
  <dc:subject/>
  <dc:title>Synthesis!</dc:title>
</cp:coreProperties>
</file>