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06B4-3B1A-4E31-8F25-F6C50B082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EC3D-EA49-4E14-9241-4F832A66D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4EA-4CA2-4ACA-877E-DCFBE122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CB9-769F-442C-BD88-EA0B46F3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66F-B5AE-4B37-9D4D-49799E99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49A-5CB0-462D-8A36-031F4550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7E17-052B-4BDF-B2CE-7B249232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E837-2DE4-48E1-8B06-3B1D7E14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6F18-6174-4125-B9B7-E141E240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DBF3-8275-4B39-94BC-7C58AD65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A865-113D-4E43-B56C-9F13499D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7D50-1A3D-4466-B6F2-18E6A754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27D5-38CB-4E30-BC84-A7932C24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536-A8EE-40AB-BE64-DC600199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E446-4983-4AC4-AAFD-61F8621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9726-8F68-493E-B6A6-0210C1A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B6D9-3FA7-4FB6-BA31-4C00C7F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395F-04D3-479B-A7B9-3CE3AB33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18F1-0D11-4BC6-9EDE-3AF60307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038A-EF3A-4A2B-8789-7812BACF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BFBA-E528-4C5C-8F4C-629F6CF0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466CC-614C-47A6-B9AE-6F728F5F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03B6-D0E4-4BEA-8719-9CAB7491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3E7C-46EB-43FF-BAC3-BEFB518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B67-4420-4DBA-BEEC-03502A5C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64B0-F9FC-435F-9BC4-7361E9A7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D91D-B4DB-48D1-BE99-F3E4C615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D629-37BB-46AE-8970-83F04E3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901F-1D7B-4C4F-9684-71CC44E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5105-B243-4993-BE23-F7A95DBB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0BD9-5C28-47ED-9B9D-1BA66BFB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8F81-2343-48F8-AD2D-B6E79FEF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4CC2-FA0E-434A-9BEB-F38D36AD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F0309-F5A4-429B-8D67-159515F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1229-6172-4750-8BBE-A6726BE4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2C7-3615-4B98-8A1F-4DB90D4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86DE-710A-4EEF-8ABE-1F0868C5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0607-D841-41B4-ADA0-80FDD4CF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7E38-4F28-4983-AF68-9DA3E344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2181-28F9-4B39-A853-2CFB8F19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8ABF-B4D9-46DE-9BB7-A4382B0C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13B1-8664-4991-84B9-692A5CCE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4C76F-0023-405C-8109-481EC788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815F-C302-4F6A-A4A6-A2BE43E5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62363-2A71-4582-AC57-E925099B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0725-7D7A-412B-A889-D7E7BC72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A87-D9B0-4C76-8632-A7495496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81DB-3AE5-4EBD-8B0C-A78B7225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E986-F0F5-49C2-A3C1-806E5098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1C37-F227-4B3E-A467-846CB984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39B7-FC5A-4EA3-92CF-EAB5E43D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265B-4673-4FEA-9547-698822EF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5DB2-01DB-47A0-9344-55BFF58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C2CBB-705C-4B07-B75C-697263D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25DE-6855-4AEF-8317-DC8B91BF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AF384-E157-476D-B65B-DC1C3A02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25173-3273-4012-8AA6-2D007296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9FE-78DA-4C4D-9395-711EAB5B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5D13C-A4D0-46DB-9C35-3EC6CE9A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B64-5878-4202-BFC8-C8CC9A53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43D-1065-489A-84E0-354C200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D49-5E36-46D8-B32F-A48427B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7856-8CE6-4346-9AC8-A3E4726960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C557-E19C-47EE-82B1-F053E0DE23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E621-FFA0-4AD3-B206-347BE8DB82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A1A9-D6AA-44C3-863A-7F91B983D73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6338-C63E-4AC3-BEBF-0654FD3967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6043680"/>
            <a:ext cx="9144000" cy="81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By Sarah,Jose,and H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http://www.netexperimente.de/netexperimente/chemieversuche/bilder/37.jpg"/>
          <p:cNvPicPr/>
          <p:nvPr/>
        </p:nvPicPr>
        <p:blipFill>
          <a:blip r:embed="rId1"/>
          <a:stretch/>
        </p:blipFill>
        <p:spPr>
          <a:xfrm>
            <a:off x="603360" y="-6480"/>
            <a:ext cx="8016840" cy="6413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8" descr=""/>
          <p:cNvPicPr/>
          <p:nvPr/>
        </p:nvPicPr>
        <p:blipFill>
          <a:blip r:embed="rId2"/>
          <a:stretch/>
        </p:blipFill>
        <p:spPr>
          <a:xfrm>
            <a:off x="2951280" y="4956120"/>
            <a:ext cx="3930480" cy="115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ynthesis (combination) Reaction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80920" y="12193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bination reaction is when an atom and or molecule combine to form a final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reactions are always exotherm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xplosion 2 7"/>
          <p:cNvSpPr/>
          <p:nvPr/>
        </p:nvSpPr>
        <p:spPr>
          <a:xfrm rot="1185600">
            <a:off x="80640" y="2955600"/>
            <a:ext cx="5889600" cy="3311640"/>
          </a:xfrm>
          <a:prstGeom prst="irregularSeal2">
            <a:avLst/>
          </a:prstGeom>
          <a:solidFill>
            <a:srgbClr val="7fd13b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www.iun.edu/~cpanhd/C101webnotes/chemical%20reactions/images/baf2.jpg"/>
          <p:cNvPicPr/>
          <p:nvPr/>
        </p:nvPicPr>
        <p:blipFill>
          <a:blip r:embed="rId1"/>
          <a:stretch/>
        </p:blipFill>
        <p:spPr>
          <a:xfrm rot="20898000">
            <a:off x="1082520" y="4276440"/>
            <a:ext cx="3146760" cy="47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28240" y="13716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15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ding Ballo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37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uminum and Bromine re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4f0e4"/>
          </a:solidFill>
          <a:ln w="9360">
            <a:solidFill>
              <a:srgbClr val="b4bcca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Real life example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553080" y="1752480"/>
            <a:ext cx="914400" cy="1295640"/>
          </a:xfrm>
          <a:prstGeom prst="ellipse">
            <a:avLst/>
          </a:prstGeom>
          <a:solidFill>
            <a:srgbClr val="ff0000"/>
          </a:solidFill>
          <a:ln w="1152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6"/>
          <p:cNvSpPr/>
          <p:nvPr/>
        </p:nvSpPr>
        <p:spPr>
          <a:xfrm rot="21207600">
            <a:off x="6654600" y="3041280"/>
            <a:ext cx="1473120" cy="4533840"/>
          </a:xfrm>
          <a:prstGeom prst="pie">
            <a:avLst/>
          </a:prstGeom>
          <a:noFill/>
          <a:ln w="936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xplosion 2 13"/>
          <p:cNvSpPr/>
          <p:nvPr/>
        </p:nvSpPr>
        <p:spPr>
          <a:xfrm>
            <a:off x="6019920" y="685800"/>
            <a:ext cx="2057400" cy="1676520"/>
          </a:xfrm>
          <a:prstGeom prst="irregularSeal2">
            <a:avLst/>
          </a:prstGeom>
          <a:solidFill>
            <a:srgbClr val="f2f2f2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bd0e4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ynthesis reactions used in our daily live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3160" y="1294920"/>
            <a:ext cx="5715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 +  oxygen  →   metal oxide EX. 2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2Mg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metal  +  oxygen  →    nonmetallic oxide EX.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 +  water  →    metallic hydroxide EX. Mg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iley Face 5"/>
          <p:cNvSpPr/>
          <p:nvPr/>
        </p:nvSpPr>
        <p:spPr>
          <a:xfrm>
            <a:off x="5638680" y="4572000"/>
            <a:ext cx="1524240" cy="1828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152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588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ummary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123720" y="16765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+ 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thesis reaction is basically one or two elements or compounds combined to make one compound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5-Point Star 4"/>
          <p:cNvSpPr/>
          <p:nvPr/>
        </p:nvSpPr>
        <p:spPr>
          <a:xfrm rot="2028000">
            <a:off x="304920" y="3581280"/>
            <a:ext cx="2361960" cy="1981440"/>
          </a:xfrm>
          <a:prstGeom prst="pie">
            <a:avLst/>
          </a:prstGeom>
          <a:solidFill>
            <a:srgbClr val="007eea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82a5"/>
          </a:solidFill>
          <a:ln w="9360">
            <a:solidFill>
              <a:srgbClr val="0082a5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Works Cited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1905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97144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15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37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iun.edu/~cpanhd/C101webnotes/chemical%20reactions/combination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Notched Right Arrow 4"/>
          <p:cNvSpPr/>
          <p:nvPr/>
        </p:nvSpPr>
        <p:spPr>
          <a:xfrm>
            <a:off x="685800" y="1905120"/>
            <a:ext cx="1359000" cy="685800"/>
          </a:xfrm>
          <a:custGeom>
            <a:avLst/>
            <a:gdLst>
              <a:gd name="textAreaLeft" fmla="*/ 171360 w 1359000"/>
              <a:gd name="textAreaRight" fmla="*/ 1187640 w 1359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50" y="5400"/>
                </a:lnTo>
                <a:lnTo>
                  <a:pt x="16150" y="0"/>
                </a:lnTo>
                <a:lnTo>
                  <a:pt x="21600" y="10800"/>
                </a:lnTo>
                <a:lnTo>
                  <a:pt x="16150" y="21600"/>
                </a:lnTo>
                <a:lnTo>
                  <a:pt x="16150" y="16200"/>
                </a:lnTo>
                <a:lnTo>
                  <a:pt x="0" y="16200"/>
                </a:lnTo>
                <a:lnTo>
                  <a:pt x="272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0e4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iped Right Arrow 5"/>
          <p:cNvSpPr/>
          <p:nvPr/>
        </p:nvSpPr>
        <p:spPr>
          <a:xfrm>
            <a:off x="609480" y="3657600"/>
            <a:ext cx="1447920" cy="609480"/>
          </a:xfrm>
          <a:prstGeom prst="pie">
            <a:avLst/>
          </a:prstGeom>
          <a:solidFill>
            <a:srgbClr val="f273af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Notched Right Arrow 6"/>
          <p:cNvSpPr/>
          <p:nvPr/>
        </p:nvSpPr>
        <p:spPr>
          <a:xfrm>
            <a:off x="533520" y="5257800"/>
            <a:ext cx="1434960" cy="685800"/>
          </a:xfrm>
          <a:custGeom>
            <a:avLst/>
            <a:gdLst>
              <a:gd name="textAreaLeft" fmla="*/ 171360 w 1434960"/>
              <a:gd name="textAreaRight" fmla="*/ 1263600 w 14349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39" y="5400"/>
                </a:lnTo>
                <a:lnTo>
                  <a:pt x="16439" y="0"/>
                </a:lnTo>
                <a:lnTo>
                  <a:pt x="21600" y="10800"/>
                </a:lnTo>
                <a:lnTo>
                  <a:pt x="16439" y="21600"/>
                </a:lnTo>
                <a:lnTo>
                  <a:pt x="16439" y="16200"/>
                </a:lnTo>
                <a:lnTo>
                  <a:pt x="0" y="16200"/>
                </a:lnTo>
                <a:lnTo>
                  <a:pt x="258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0105c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15:53Z</dcterms:created>
  <dc:creator>cl12howards</dc:creator>
  <dc:description/>
  <dc:language>en-US</dc:language>
  <cp:lastModifiedBy>cl12howards</cp:lastModifiedBy>
  <dcterms:modified xsi:type="dcterms:W3CDTF">2009-02-18T16:17:34Z</dcterms:modified>
  <cp:revision>18</cp:revision>
  <dc:subject/>
  <dc:title>Synthesis!</dc:title>
</cp:coreProperties>
</file>