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85EC-689D-45B0-91F2-19D7471C68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77B4E-A337-467D-B789-945163A4C84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04956-F3AB-4CAA-A0F8-545F3D7DE44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D2EEA-3A98-49F4-8DA7-BB6F3BE35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B857F-E9A0-4252-B236-2CE52DF5C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A3D90-8F4A-466F-9C53-B79F4BB01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F1047-1E36-4582-961A-B156B0FB3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406B1-797D-41A2-92DC-BBF8BB60A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62A33-264D-46C2-83E8-C1AB15FD6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5DE4C-69D8-4E23-B89E-21B081951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5DC60-71FC-4FB3-82B4-2E4262847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A462D-9D6E-4ABB-B572-1D095DB9F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95BC3-1DD9-4C08-8E35-3E96517D3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EDD0D-3002-4D5F-874C-E09FCD2FB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3A996-CD6B-4A3C-A8D5-A99600658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87A16-4FFC-49EC-8781-43F5C0572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9EB63-D3F7-43DE-8949-656AB15AF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254A3-19A7-4C2C-8592-12B105DB3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B05392-42CF-458B-8568-96E92D559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0957FB-F61A-4722-A154-27E088880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FA756-E807-4B9C-9B98-82D391BA1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EF0BB-175E-4F21-8C79-162EE0C62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336FA-2F8C-4975-9582-54A2CBA58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54AAA-3D64-4C57-871D-68F01F845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01FAF-82A2-4589-8E05-A9B0113DD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41B52-EB5D-446D-A47C-1A10EA02D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3B616-797E-4560-900A-26FCA9F64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DE46-B775-4D98-9AB1-B988CD2C1061}"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30A2C-518B-4349-8480-7634D4880604}"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353880" y="1365120"/>
            <a:ext cx="8558280" cy="205452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y Emily, Nick, and Lauren</a:t>
            </a:r>
            <a:endParaRPr b="0" lang="en-US" sz="2800" spc="-1" strike="noStrike">
              <a:solidFill>
                <a:srgbClr val="ffffff"/>
              </a:solidFill>
              <a:latin typeface="Book Antiqua"/>
            </a:endParaRPr>
          </a:p>
        </p:txBody>
      </p:sp>
      <p:pic>
        <p:nvPicPr>
          <p:cNvPr id="91" name="Picture 4" descr="C:\Documents and Settings\cl12bolande\Local Settings\Temp\Temporary Internet Files\Content.IE5\51TPUKME\MPj03987570000[1].jpg"/>
          <p:cNvPicPr/>
          <p:nvPr/>
        </p:nvPicPr>
        <p:blipFill>
          <a:blip r:embed="rId2"/>
          <a:stretch/>
        </p:blipFill>
        <p:spPr>
          <a:xfrm>
            <a:off x="7848720" y="556272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268200"/>
            <a:ext cx="8242560" cy="115884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Acids</a:t>
            </a:r>
            <a:r>
              <a:rPr b="0" lang="en-US" sz="2800" spc="-1" strike="noStrike">
                <a:solidFill>
                  <a:srgbClr val="ffffff"/>
                </a:solidFill>
                <a:latin typeface="Book Antiqua"/>
              </a:rPr>
              <a:t> taste sour, are corrosive to metals, change litmus (a dye extracted   from lichens) red, and become less acidic when mixed with bas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     </a:t>
            </a:r>
            <a:r>
              <a:rPr b="1" lang="en-US" sz="2800" spc="-1" strike="noStrike">
                <a:solidFill>
                  <a:srgbClr val="ffffff"/>
                </a:solidFill>
                <a:latin typeface="Book Antiqua"/>
              </a:rPr>
              <a:t>Bases</a:t>
            </a:r>
            <a:r>
              <a:rPr b="0" lang="en-US" sz="2800" spc="-1" strike="noStrike">
                <a:solidFill>
                  <a:srgbClr val="ffffff"/>
                </a:solidFill>
                <a:latin typeface="Book Antiqua"/>
              </a:rPr>
              <a:t> feel slippery, change litmus blue, and become less basic when mixed with acid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0720" y="103320"/>
            <a:ext cx="8242560" cy="1439640"/>
          </a:xfrm>
          <a:prstGeom prst="rect">
            <a:avLst/>
          </a:prstGeom>
          <a:ln w="0">
            <a:noFill/>
          </a:ln>
        </p:spPr>
      </p:pic>
      <p:sp>
        <p:nvSpPr>
          <p:cNvPr id="95" name=""/>
          <p:cNvSpPr txBox="1"/>
          <p:nvPr/>
        </p:nvSpPr>
        <p:spPr>
          <a:xfrm>
            <a:off x="53352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neutralization reaction is when an acid reacts with a base to form a neutral solution containing salt and water. When neutralization is performed in aqueous solution the essential feature of the reaction is the combination of hydronium ions and hydride ions to form wate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262080" y="-176040"/>
            <a:ext cx="8869320" cy="160308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Cl + NaOH </a:t>
            </a:r>
            <a:r>
              <a:rPr b="0" lang="en-US" sz="2800" spc="-1" strike="noStrike">
                <a:solidFill>
                  <a:srgbClr val="ffffff"/>
                </a:solidFill>
                <a:latin typeface="Wingdings"/>
                <a:ea typeface="Wingdings"/>
              </a:rPr>
              <a:t></a:t>
            </a:r>
            <a:r>
              <a:rPr b="0" lang="en-US" sz="2800" spc="-1" strike="noStrike">
                <a:solidFill>
                  <a:srgbClr val="ffffff"/>
                </a:solidFill>
                <a:latin typeface="Book Antiqua"/>
              </a:rPr>
              <a:t> H2O +NaC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ater sal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itrus frui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inega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eaning produc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0720" y="-176040"/>
            <a:ext cx="8242560" cy="1603080"/>
          </a:xfrm>
          <a:prstGeom prst="rect">
            <a:avLst/>
          </a:prstGeom>
          <a:ln w="0">
            <a:noFill/>
          </a:ln>
        </p:spPr>
      </p:pic>
      <p:sp>
        <p:nvSpPr>
          <p:cNvPr id="9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y are used for cooking in microwave, on stove or in oven, and lighting a fire or candl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328680" y="-219240"/>
            <a:ext cx="8675640" cy="1646280"/>
          </a:xfrm>
          <a:prstGeom prst="rect">
            <a:avLst/>
          </a:prstGeom>
          <a:ln w="0">
            <a:noFill/>
          </a:ln>
        </p:spPr>
      </p:pic>
      <p:sp>
        <p:nvSpPr>
          <p:cNvPr id="10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 would explain it by saying it is when a base like water and a acid lie salt combin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le 1" descr=""/>
          <p:cNvPicPr/>
          <p:nvPr/>
        </p:nvPicPr>
        <p:blipFill>
          <a:blip r:embed="rId1"/>
          <a:stretch/>
        </p:blipFill>
        <p:spPr>
          <a:xfrm>
            <a:off x="450720" y="268200"/>
            <a:ext cx="8242560" cy="1158840"/>
          </a:xfrm>
          <a:prstGeom prst="rect">
            <a:avLst/>
          </a:prstGeom>
          <a:ln w="0">
            <a:noFill/>
          </a:ln>
        </p:spPr>
      </p:pic>
      <p:sp>
        <p:nvSpPr>
          <p:cNvPr id="10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e got our information from yahooanswers.com, answers.com and scienceclarified.co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13:16:26Z</dcterms:created>
  <dc:creator>cl12bolande</dc:creator>
  <dc:description/>
  <dc:language>en-US</dc:language>
  <cp:lastModifiedBy>cl12bolande</cp:lastModifiedBy>
  <dcterms:modified xsi:type="dcterms:W3CDTF">2009-02-19T13:06:42Z</dcterms:modified>
  <cp:revision>6</cp:revision>
  <dc:subject/>
  <dc:title>Acid-Based Reactions</dc:title>
</cp:coreProperties>
</file>