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DE2-9618-40F3-9DB9-4C8477F7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B57-85D9-4E08-B7E3-BC59BAB2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9E4-5E69-48A1-B7D6-CDC8E675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3F0-33F5-47C1-8519-3E96A42F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532-F5AD-4527-9298-222133D7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C3C-653C-47F9-A759-EFED7123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DDD-06C8-4D62-8F5D-65370E71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2B3-C74C-4951-8089-D3338407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3BB-ABDC-4909-AE14-6E1D4E4B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CC9-F110-4D24-89DF-FC7C5F04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7B9-EB4D-4DC7-B0F7-EAC2C60E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4E5-5C5A-40E0-A591-BC176FB8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7B97-82BE-444C-BA0B-3449FD514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ity &amp; 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b O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cture 6: 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lux through a sphere from a point cha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343080" y="3089880"/>
            <a:ext cx="3047760" cy="3042720"/>
            <a:chOff x="343080" y="3089880"/>
            <a:chExt cx="3047760" cy="3042720"/>
          </a:xfrm>
        </p:grpSpPr>
        <p:sp>
          <p:nvSpPr>
            <p:cNvPr id="126" name="Line 4"/>
            <p:cNvSpPr/>
            <p:nvPr/>
          </p:nvSpPr>
          <p:spPr>
            <a:xfrm flipH="1" flipV="1">
              <a:off x="343080" y="4266720"/>
              <a:ext cx="3047760" cy="687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 flipH="1">
              <a:off x="703440" y="3569400"/>
              <a:ext cx="2326680" cy="2084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 flipH="1">
              <a:off x="349920" y="4239000"/>
              <a:ext cx="3034080" cy="74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7"/>
            <p:cNvSpPr/>
            <p:nvPr/>
          </p:nvSpPr>
          <p:spPr>
            <a:xfrm flipV="1">
              <a:off x="1513080" y="3089880"/>
              <a:ext cx="709200" cy="304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8"/>
            <p:cNvSpPr/>
            <p:nvPr/>
          </p:nvSpPr>
          <p:spPr>
            <a:xfrm flipH="1" flipV="1">
              <a:off x="1331640" y="3142800"/>
              <a:ext cx="1072080" cy="293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 flipH="1" flipV="1">
              <a:off x="661320" y="3617280"/>
              <a:ext cx="2411280" cy="1986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Object 3"/>
            <p:cNvGraphicFramePr/>
            <p:nvPr/>
          </p:nvGraphicFramePr>
          <p:xfrm>
            <a:off x="1513080" y="4279680"/>
            <a:ext cx="725400" cy="725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3080" y="4279680"/>
                      <a:ext cx="7254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Oval 11"/>
          <p:cNvSpPr/>
          <p:nvPr/>
        </p:nvSpPr>
        <p:spPr>
          <a:xfrm>
            <a:off x="838080" y="3581280"/>
            <a:ext cx="2057400" cy="2057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0"/>
              <p:cNvSpPr txBox="1"/>
              <p:nvPr/>
            </p:nvSpPr>
            <p:spPr>
              <a:xfrm>
                <a:off x="5486400" y="1981080"/>
                <a:ext cx="25909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"/>
              <p:cNvSpPr txBox="1"/>
              <p:nvPr/>
            </p:nvSpPr>
            <p:spPr>
              <a:xfrm>
                <a:off x="5257800" y="3809880"/>
                <a:ext cx="33386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5486400" y="5410080"/>
                <a:ext cx="10526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Line 16"/>
          <p:cNvSpPr/>
          <p:nvPr/>
        </p:nvSpPr>
        <p:spPr>
          <a:xfrm flipV="1">
            <a:off x="1905120" y="4114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841400" y="4038480"/>
            <a:ext cx="3715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209680" y="20574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lectric field around a point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3657600" y="35812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us the flux on a sphere is 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re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20"/>
          <p:cNvSpPr/>
          <p:nvPr/>
        </p:nvSpPr>
        <p:spPr>
          <a:xfrm>
            <a:off x="6278400" y="1576440"/>
            <a:ext cx="1960560" cy="2011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21"/>
          <p:cNvSpPr/>
          <p:nvPr/>
        </p:nvSpPr>
        <p:spPr>
          <a:xfrm>
            <a:off x="5816520" y="3220920"/>
            <a:ext cx="1495440" cy="1924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25"/>
          <p:cNvGrpSpPr/>
          <p:nvPr/>
        </p:nvGrpSpPr>
        <p:grpSpPr>
          <a:xfrm>
            <a:off x="7510320" y="3200400"/>
            <a:ext cx="1617840" cy="2004840"/>
            <a:chOff x="7510320" y="3200400"/>
            <a:chExt cx="1617840" cy="2004840"/>
          </a:xfrm>
        </p:grpSpPr>
        <p:sp>
          <p:nvSpPr>
            <p:cNvPr id="145" name="Freeform 22"/>
            <p:cNvSpPr/>
            <p:nvPr/>
          </p:nvSpPr>
          <p:spPr>
            <a:xfrm>
              <a:off x="7510320" y="3276720"/>
              <a:ext cx="1617840" cy="1928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23"/>
            <p:cNvSpPr/>
            <p:nvPr/>
          </p:nvSpPr>
          <p:spPr>
            <a:xfrm>
              <a:off x="8078400" y="3200400"/>
              <a:ext cx="773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24"/>
          <p:cNvSpPr/>
          <p:nvPr/>
        </p:nvSpPr>
        <p:spPr>
          <a:xfrm>
            <a:off x="6630840" y="3200400"/>
            <a:ext cx="36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3657600" y="5410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celling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w we change the radius of 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3"/>
              <p:cNvSpPr txBox="1"/>
              <p:nvPr/>
            </p:nvSpPr>
            <p:spPr>
              <a:xfrm>
                <a:off x="4648320" y="2514600"/>
                <a:ext cx="26287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4"/>
              <p:cNvSpPr txBox="1"/>
              <p:nvPr/>
            </p:nvSpPr>
            <p:spPr>
              <a:xfrm>
                <a:off x="4191120" y="3733920"/>
                <a:ext cx="35622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5"/>
              <p:cNvSpPr txBox="1"/>
              <p:nvPr/>
            </p:nvSpPr>
            <p:spPr>
              <a:xfrm>
                <a:off x="3505320" y="4876920"/>
                <a:ext cx="11919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3" name="Group 22"/>
          <p:cNvGrpSpPr/>
          <p:nvPr/>
        </p:nvGrpSpPr>
        <p:grpSpPr>
          <a:xfrm>
            <a:off x="495720" y="2327760"/>
            <a:ext cx="3047400" cy="3043080"/>
            <a:chOff x="495720" y="2327760"/>
            <a:chExt cx="3047400" cy="3043080"/>
          </a:xfrm>
        </p:grpSpPr>
        <p:grpSp>
          <p:nvGrpSpPr>
            <p:cNvPr id="154" name="Group 3"/>
            <p:cNvGrpSpPr/>
            <p:nvPr/>
          </p:nvGrpSpPr>
          <p:grpSpPr>
            <a:xfrm>
              <a:off x="495720" y="2327760"/>
              <a:ext cx="3047400" cy="3043080"/>
              <a:chOff x="495720" y="2327760"/>
              <a:chExt cx="3047400" cy="3043080"/>
            </a:xfrm>
          </p:grpSpPr>
          <p:sp>
            <p:nvSpPr>
              <p:cNvPr id="155" name="Line 4"/>
              <p:cNvSpPr/>
              <p:nvPr/>
            </p:nvSpPr>
            <p:spPr>
              <a:xfrm flipH="1" flipV="1">
                <a:off x="495720" y="3504600"/>
                <a:ext cx="3047400" cy="687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 flipH="1">
                <a:off x="855720" y="2808360"/>
                <a:ext cx="2327040" cy="20844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"/>
              <p:cNvSpPr/>
              <p:nvPr/>
            </p:nvSpPr>
            <p:spPr>
              <a:xfrm flipH="1">
                <a:off x="501840" y="3477240"/>
                <a:ext cx="3034440" cy="7426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"/>
              <p:cNvSpPr/>
              <p:nvPr/>
            </p:nvSpPr>
            <p:spPr>
              <a:xfrm flipV="1">
                <a:off x="1665360" y="2327760"/>
                <a:ext cx="709200" cy="3043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8"/>
              <p:cNvSpPr/>
              <p:nvPr/>
            </p:nvSpPr>
            <p:spPr>
              <a:xfrm flipH="1" flipV="1">
                <a:off x="1483920" y="2381040"/>
                <a:ext cx="1072080" cy="2934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9"/>
              <p:cNvSpPr/>
              <p:nvPr/>
            </p:nvSpPr>
            <p:spPr>
              <a:xfrm flipH="1" flipV="1">
                <a:off x="813600" y="2855520"/>
                <a:ext cx="2411280" cy="19864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1" name="Object 10"/>
              <p:cNvGraphicFramePr/>
              <p:nvPr/>
            </p:nvGraphicFramePr>
            <p:xfrm>
              <a:off x="1665360" y="3517920"/>
              <a:ext cx="725400" cy="725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2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65360" y="3517920"/>
                        <a:ext cx="725400" cy="725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3" name="Oval 11"/>
            <p:cNvSpPr/>
            <p:nvPr/>
          </p:nvSpPr>
          <p:spPr>
            <a:xfrm>
              <a:off x="534600" y="2363760"/>
              <a:ext cx="2970000" cy="297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 flipV="1">
              <a:off x="2020680" y="3087360"/>
              <a:ext cx="12189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2261520" y="3011400"/>
              <a:ext cx="37152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Object 18"/>
              <p:cNvSpPr txBox="1"/>
              <p:nvPr/>
            </p:nvSpPr>
            <p:spPr>
              <a:xfrm>
                <a:off x="6934320" y="4952880"/>
                <a:ext cx="188748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7" name="Object 21"/>
          <p:cNvGraphicFramePr/>
          <p:nvPr/>
        </p:nvGraphicFramePr>
        <p:xfrm>
          <a:off x="5791320" y="0"/>
          <a:ext cx="3124080" cy="23432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8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0"/>
                    <a:ext cx="3124080" cy="23432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9" name="Text Box 23"/>
          <p:cNvSpPr/>
          <p:nvPr/>
        </p:nvSpPr>
        <p:spPr>
          <a:xfrm>
            <a:off x="5181480" y="4800600"/>
            <a:ext cx="154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ux is the same as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lux lines &amp; Fl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"/>
          <p:cNvSpPr/>
          <p:nvPr/>
        </p:nvSpPr>
        <p:spPr>
          <a:xfrm flipH="1" flipV="1">
            <a:off x="647280" y="4341240"/>
            <a:ext cx="8226360" cy="19713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4"/>
          <p:cNvSpPr/>
          <p:nvPr/>
        </p:nvSpPr>
        <p:spPr>
          <a:xfrm flipH="1">
            <a:off x="1007640" y="3645000"/>
            <a:ext cx="2327400" cy="2084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 flipH="1">
            <a:off x="653760" y="4204080"/>
            <a:ext cx="3636000" cy="85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"/>
          <p:cNvSpPr/>
          <p:nvPr/>
        </p:nvSpPr>
        <p:spPr>
          <a:xfrm flipV="1">
            <a:off x="1818000" y="3164400"/>
            <a:ext cx="709200" cy="30430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"/>
          <p:cNvSpPr/>
          <p:nvPr/>
        </p:nvSpPr>
        <p:spPr>
          <a:xfrm flipH="1" flipV="1">
            <a:off x="1635480" y="3215880"/>
            <a:ext cx="1220040" cy="34498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8"/>
          <p:cNvSpPr/>
          <p:nvPr/>
        </p:nvSpPr>
        <p:spPr>
          <a:xfrm flipH="1" flipV="1">
            <a:off x="964800" y="3691440"/>
            <a:ext cx="3622680" cy="30322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9"/>
          <p:cNvGraphicFramePr/>
          <p:nvPr/>
        </p:nvGraphicFramePr>
        <p:xfrm>
          <a:off x="1817640" y="4354560"/>
          <a:ext cx="725400" cy="7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7640" y="4354560"/>
                    <a:ext cx="7254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Oval 10"/>
          <p:cNvSpPr/>
          <p:nvPr/>
        </p:nvSpPr>
        <p:spPr>
          <a:xfrm>
            <a:off x="687240" y="3200400"/>
            <a:ext cx="2970360" cy="297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2"/>
              <p:cNvSpPr txBox="1"/>
              <p:nvPr/>
            </p:nvSpPr>
            <p:spPr>
              <a:xfrm>
                <a:off x="5867280" y="14479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Oval 13"/>
          <p:cNvSpPr/>
          <p:nvPr/>
        </p:nvSpPr>
        <p:spPr>
          <a:xfrm>
            <a:off x="1143000" y="3656160"/>
            <a:ext cx="2057400" cy="205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4"/>
              <p:cNvSpPr txBox="1"/>
              <p:nvPr/>
            </p:nvSpPr>
            <p:spPr>
              <a:xfrm>
                <a:off x="7467480" y="14479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15"/>
          <p:cNvSpPr/>
          <p:nvPr/>
        </p:nvSpPr>
        <p:spPr>
          <a:xfrm>
            <a:off x="2514600" y="251460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number of lines passing through each spher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419720" y="3505320"/>
            <a:ext cx="359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fact the number of flux lines passing through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rface surrounding this charg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7"/>
          <p:cNvSpPr/>
          <p:nvPr/>
        </p:nvSpPr>
        <p:spPr>
          <a:xfrm>
            <a:off x="1282680" y="3759120"/>
            <a:ext cx="575640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2819520" y="3962520"/>
                <a:ext cx="5364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0"/>
              <p:cNvSpPr txBox="1"/>
              <p:nvPr/>
            </p:nvSpPr>
            <p:spPr>
              <a:xfrm>
                <a:off x="3352680" y="4495680"/>
                <a:ext cx="569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1"/>
              <p:cNvSpPr txBox="1"/>
              <p:nvPr/>
            </p:nvSpPr>
            <p:spPr>
              <a:xfrm>
                <a:off x="4343400" y="5486400"/>
                <a:ext cx="571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Text Box 22"/>
          <p:cNvSpPr/>
          <p:nvPr/>
        </p:nvSpPr>
        <p:spPr>
          <a:xfrm>
            <a:off x="6934320" y="4952880"/>
            <a:ext cx="1920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even when a line passes in and out of the surface it crosses out once more tha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30"/>
          <p:cNvGrpSpPr/>
          <p:nvPr/>
        </p:nvGrpSpPr>
        <p:grpSpPr>
          <a:xfrm>
            <a:off x="3659040" y="5254560"/>
            <a:ext cx="3064320" cy="828720"/>
            <a:chOff x="3659040" y="5254560"/>
            <a:chExt cx="3064320" cy="828720"/>
          </a:xfrm>
        </p:grpSpPr>
        <p:sp>
          <p:nvSpPr>
            <p:cNvPr id="191" name="Text Box 23"/>
            <p:cNvSpPr/>
            <p:nvPr/>
          </p:nvSpPr>
          <p:spPr>
            <a:xfrm>
              <a:off x="3659040" y="52545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5335560" y="5486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6249960" y="57150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4" name="Object 26"/>
              <p:cNvSpPr txBox="1"/>
              <p:nvPr/>
            </p:nvSpPr>
            <p:spPr>
              <a:xfrm>
                <a:off x="6629400" y="2590920"/>
                <a:ext cx="220176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27"/>
          <p:cNvSpPr/>
          <p:nvPr/>
        </p:nvSpPr>
        <p:spPr>
          <a:xfrm>
            <a:off x="7924680" y="3505320"/>
            <a:ext cx="609840" cy="1143000"/>
          </a:xfrm>
          <a:prstGeom prst="upArrow">
            <a:avLst>
              <a:gd name="adj1" fmla="val 50000"/>
              <a:gd name="adj2" fmla="val 46857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228600" y="12952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what we would expect because the number of field lines passing through each spher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inciple of superposition: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flux from two char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103400" y="4100400"/>
          <a:ext cx="725400" cy="7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4100400"/>
                    <a:ext cx="72540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Freeform 4"/>
          <p:cNvSpPr/>
          <p:nvPr/>
        </p:nvSpPr>
        <p:spPr>
          <a:xfrm>
            <a:off x="568440" y="3505320"/>
            <a:ext cx="575604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3629160" y="5232240"/>
                <a:ext cx="571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02" name="Object 6"/>
          <p:cNvGraphicFramePr/>
          <p:nvPr/>
        </p:nvGraphicFramePr>
        <p:xfrm>
          <a:off x="2292480" y="4927680"/>
          <a:ext cx="72540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2480" y="4927680"/>
                    <a:ext cx="7254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7"/>
          <p:cNvSpPr/>
          <p:nvPr/>
        </p:nvSpPr>
        <p:spPr>
          <a:xfrm>
            <a:off x="1221480" y="4233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2401920" y="50608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6553080" y="2133720"/>
                <a:ext cx="23274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221520" y="4114800"/>
                <a:ext cx="19620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5089320" y="35463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6356880" y="5566680"/>
            <a:ext cx="1764360" cy="689040"/>
          </a:xfrm>
          <a:prstGeom prst="upArrowCallout">
            <a:avLst>
              <a:gd name="adj1" fmla="val 64021"/>
              <a:gd name="adj2" fmla="val 64015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7848720" y="457200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ny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057400" y="19051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ce the flux is related to the number of field lines passing through a surface the total flux is the total from each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4800600" y="2971800"/>
          <a:ext cx="3886200" cy="201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971800"/>
                    <a:ext cx="388620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1103400" y="4100400"/>
          <a:ext cx="725400" cy="7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3400" y="4100400"/>
                    <a:ext cx="72540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Freeform 5"/>
          <p:cNvSpPr/>
          <p:nvPr/>
        </p:nvSpPr>
        <p:spPr>
          <a:xfrm>
            <a:off x="1962000" y="4673520"/>
            <a:ext cx="3273480" cy="145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3200400" y="3809880"/>
                <a:ext cx="571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Text Box 7"/>
          <p:cNvSpPr/>
          <p:nvPr/>
        </p:nvSpPr>
        <p:spPr>
          <a:xfrm>
            <a:off x="1221480" y="4233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8"/>
          <p:cNvSpPr/>
          <p:nvPr/>
        </p:nvSpPr>
        <p:spPr>
          <a:xfrm>
            <a:off x="720720" y="3657600"/>
            <a:ext cx="575640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9"/>
          <p:cNvSpPr/>
          <p:nvPr/>
        </p:nvSpPr>
        <p:spPr>
          <a:xfrm>
            <a:off x="0" y="2901960"/>
            <a:ext cx="2678040" cy="240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0"/>
              <p:cNvSpPr txBox="1"/>
              <p:nvPr/>
            </p:nvSpPr>
            <p:spPr>
              <a:xfrm>
                <a:off x="1158840" y="2305080"/>
                <a:ext cx="538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1"/>
              <p:cNvSpPr txBox="1"/>
              <p:nvPr/>
            </p:nvSpPr>
            <p:spPr>
              <a:xfrm>
                <a:off x="5105520" y="5638680"/>
                <a:ext cx="571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Text Box 12"/>
          <p:cNvSpPr/>
          <p:nvPr/>
        </p:nvSpPr>
        <p:spPr>
          <a:xfrm>
            <a:off x="2819520" y="16765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lux is passing through each of these surfac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Gauss’s La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209680" y="4191120"/>
            <a:ext cx="6019920" cy="11912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is sometimes easier to use than Coulomb’s Law, especially if there is lots of symmetry in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990720" y="2286000"/>
            <a:ext cx="5715000" cy="1191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does not tell us anything new, it is NOT a new law of physics, but another way of expressing Coulomb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using Gauss’s Law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0" y="1600200"/>
            <a:ext cx="7991640" cy="652680"/>
          </a:xfrm>
          <a:prstGeom prst="wedgeEllipseCallout">
            <a:avLst>
              <a:gd name="adj1" fmla="val -48592"/>
              <a:gd name="adj2" fmla="val 153305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h no! I’ve just forgotten Coulomb’s La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29"/>
          <p:cNvGrpSpPr/>
          <p:nvPr/>
        </p:nvGrpSpPr>
        <p:grpSpPr>
          <a:xfrm>
            <a:off x="647640" y="3164400"/>
            <a:ext cx="3047760" cy="3043080"/>
            <a:chOff x="647640" y="3164400"/>
            <a:chExt cx="3047760" cy="3043080"/>
          </a:xfrm>
        </p:grpSpPr>
        <p:sp>
          <p:nvSpPr>
            <p:cNvPr id="233" name="Line 4"/>
            <p:cNvSpPr/>
            <p:nvPr/>
          </p:nvSpPr>
          <p:spPr>
            <a:xfrm flipH="1" flipV="1">
              <a:off x="647640" y="4341240"/>
              <a:ext cx="3047760" cy="687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5"/>
            <p:cNvSpPr/>
            <p:nvPr/>
          </p:nvSpPr>
          <p:spPr>
            <a:xfrm flipH="1">
              <a:off x="1007640" y="3645000"/>
              <a:ext cx="2327400" cy="2084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 flipH="1">
              <a:off x="653760" y="4313880"/>
              <a:ext cx="3034800" cy="74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 flipV="1">
              <a:off x="1818000" y="3164400"/>
              <a:ext cx="709200" cy="304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8"/>
            <p:cNvSpPr/>
            <p:nvPr/>
          </p:nvSpPr>
          <p:spPr>
            <a:xfrm flipH="1" flipV="1">
              <a:off x="1636560" y="3217680"/>
              <a:ext cx="1072080" cy="293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 flipH="1" flipV="1">
              <a:off x="965880" y="3691800"/>
              <a:ext cx="2411280" cy="1986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28"/>
          <p:cNvGrpSpPr/>
          <p:nvPr/>
        </p:nvGrpSpPr>
        <p:grpSpPr>
          <a:xfrm>
            <a:off x="687240" y="3200400"/>
            <a:ext cx="2970360" cy="2970360"/>
            <a:chOff x="687240" y="3200400"/>
            <a:chExt cx="2970360" cy="2970360"/>
          </a:xfrm>
        </p:grpSpPr>
        <p:sp>
          <p:nvSpPr>
            <p:cNvPr id="240" name="Oval 11"/>
            <p:cNvSpPr/>
            <p:nvPr/>
          </p:nvSpPr>
          <p:spPr>
            <a:xfrm>
              <a:off x="687240" y="3200400"/>
              <a:ext cx="2970360" cy="297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2"/>
            <p:cNvSpPr/>
            <p:nvPr/>
          </p:nvSpPr>
          <p:spPr>
            <a:xfrm flipV="1">
              <a:off x="2173320" y="3924000"/>
              <a:ext cx="1219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13"/>
            <p:cNvSpPr/>
            <p:nvPr/>
          </p:nvSpPr>
          <p:spPr>
            <a:xfrm>
              <a:off x="2414520" y="3848040"/>
              <a:ext cx="37152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31"/>
          <p:cNvGrpSpPr/>
          <p:nvPr/>
        </p:nvGrpSpPr>
        <p:grpSpPr>
          <a:xfrm>
            <a:off x="1817640" y="4354560"/>
            <a:ext cx="725400" cy="725400"/>
            <a:chOff x="1817640" y="4354560"/>
            <a:chExt cx="725400" cy="725400"/>
          </a:xfrm>
        </p:grpSpPr>
        <p:graphicFrame>
          <p:nvGraphicFramePr>
            <p:cNvPr id="244" name="Object 6"/>
            <p:cNvGraphicFramePr/>
            <p:nvPr/>
          </p:nvGraphicFramePr>
          <p:xfrm>
            <a:off x="1817640" y="4354560"/>
            <a:ext cx="725400" cy="72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17640" y="4354560"/>
                      <a:ext cx="725400" cy="72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Text Box 14"/>
            <p:cNvSpPr/>
            <p:nvPr/>
          </p:nvSpPr>
          <p:spPr>
            <a:xfrm>
              <a:off x="1972080" y="4456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7" name="Object 0"/>
              <p:cNvSpPr txBox="1"/>
              <p:nvPr/>
            </p:nvSpPr>
            <p:spPr>
              <a:xfrm>
                <a:off x="7238880" y="3200400"/>
                <a:ext cx="927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AutoShape 16"/>
          <p:cNvSpPr/>
          <p:nvPr/>
        </p:nvSpPr>
        <p:spPr>
          <a:xfrm>
            <a:off x="2402280" y="2286000"/>
            <a:ext cx="6976080" cy="652680"/>
          </a:xfrm>
          <a:prstGeom prst="wedgeEllipseCallout">
            <a:avLst>
              <a:gd name="adj1" fmla="val 44884"/>
              <a:gd name="adj2" fmla="val 6306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to worry I remember 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4114800" y="4191120"/>
            <a:ext cx="411480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symmetry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505320" y="312408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spherical surface centred on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"/>
              <p:cNvSpPr txBox="1"/>
              <p:nvPr/>
            </p:nvSpPr>
            <p:spPr>
              <a:xfrm>
                <a:off x="3886200" y="4800600"/>
                <a:ext cx="15908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5638680" y="4800600"/>
                <a:ext cx="1673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3429000" y="5867280"/>
                <a:ext cx="24829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7315200" y="5562720"/>
                <a:ext cx="14158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AutoShape 23"/>
          <p:cNvSpPr/>
          <p:nvPr/>
        </p:nvSpPr>
        <p:spPr>
          <a:xfrm>
            <a:off x="6019920" y="5410080"/>
            <a:ext cx="1143000" cy="990720"/>
          </a:xfrm>
          <a:prstGeom prst="cloudCallout">
            <a:avLst>
              <a:gd name="adj1" fmla="val 44583"/>
              <a:gd name="adj2" fmla="val 7003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=q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30"/>
          <p:cNvGrpSpPr/>
          <p:nvPr/>
        </p:nvGrpSpPr>
        <p:grpSpPr>
          <a:xfrm>
            <a:off x="2705040" y="2989440"/>
            <a:ext cx="496800" cy="496800"/>
            <a:chOff x="2705040" y="2989440"/>
            <a:chExt cx="496800" cy="496800"/>
          </a:xfrm>
        </p:grpSpPr>
        <p:graphicFrame>
          <p:nvGraphicFramePr>
            <p:cNvPr id="257" name="Object 5"/>
            <p:cNvGraphicFramePr/>
            <p:nvPr/>
          </p:nvGraphicFramePr>
          <p:xfrm>
            <a:off x="2705040" y="2989440"/>
            <a:ext cx="496800" cy="496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5040" y="2989440"/>
                      <a:ext cx="496800" cy="49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Text Box 25"/>
            <p:cNvSpPr/>
            <p:nvPr/>
          </p:nvSpPr>
          <p:spPr>
            <a:xfrm>
              <a:off x="2786400" y="300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AutoShape 26"/>
          <p:cNvSpPr/>
          <p:nvPr/>
        </p:nvSpPr>
        <p:spPr>
          <a:xfrm>
            <a:off x="8229600" y="624852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e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27"/>
          <p:cNvSpPr/>
          <p:nvPr/>
        </p:nvSpPr>
        <p:spPr>
          <a:xfrm>
            <a:off x="5105520" y="231120"/>
            <a:ext cx="3733560" cy="528120"/>
          </a:xfrm>
          <a:custGeom>
            <a:avLst/>
            <a:gdLst>
              <a:gd name="textAreaLeft" fmla="*/ 34200 w 3733560"/>
              <a:gd name="textAreaRight" fmla="*/ 3699360 w 37335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152613" h="21600">
                <a:moveTo>
                  <a:pt x="0" y="0"/>
                </a:moveTo>
                <a:lnTo>
                  <a:pt x="152613" y="0"/>
                </a:lnTo>
                <a:lnTo>
                  <a:pt x="152613" y="21600"/>
                </a:lnTo>
                <a:lnTo>
                  <a:pt x="0" y="21600"/>
                </a:lnTo>
                <a:close/>
              </a:path>
              <a:path fill="lightenLess" w="152613" h="21600">
                <a:moveTo>
                  <a:pt x="0" y="0"/>
                </a:moveTo>
                <a:lnTo>
                  <a:pt x="152613" y="0"/>
                </a:lnTo>
                <a:lnTo>
                  <a:pt x="151213" y="1400"/>
                </a:lnTo>
                <a:lnTo>
                  <a:pt x="1400" y="1400"/>
                </a:lnTo>
                <a:close/>
              </a:path>
              <a:path fill="darken" w="152613" h="21600">
                <a:moveTo>
                  <a:pt x="152613" y="0"/>
                </a:moveTo>
                <a:lnTo>
                  <a:pt x="152613" y="21600"/>
                </a:lnTo>
                <a:lnTo>
                  <a:pt x="151213" y="20200"/>
                </a:lnTo>
                <a:lnTo>
                  <a:pt x="151213" y="1400"/>
                </a:lnTo>
                <a:close/>
              </a:path>
              <a:path fill="darkenLess" w="152613" h="21600">
                <a:moveTo>
                  <a:pt x="152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213" y="20200"/>
                </a:lnTo>
                <a:close/>
              </a:path>
              <a:path fill="lighten" w="152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Using the 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using Gauss’s Law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228600" y="1447920"/>
            <a:ext cx="7991640" cy="1172520"/>
          </a:xfrm>
          <a:prstGeom prst="wedgeEllipseCallout">
            <a:avLst>
              <a:gd name="adj1" fmla="val 57365"/>
              <a:gd name="adj2" fmla="val 58837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’s the field around a charged spherical she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25"/>
          <p:cNvGrpSpPr/>
          <p:nvPr/>
        </p:nvGrpSpPr>
        <p:grpSpPr>
          <a:xfrm>
            <a:off x="631800" y="2741760"/>
            <a:ext cx="3886200" cy="3884400"/>
            <a:chOff x="631800" y="2741760"/>
            <a:chExt cx="3886200" cy="3884400"/>
          </a:xfrm>
        </p:grpSpPr>
        <p:grpSp>
          <p:nvGrpSpPr>
            <p:cNvPr id="265" name="Group 2"/>
            <p:cNvGrpSpPr/>
            <p:nvPr/>
          </p:nvGrpSpPr>
          <p:grpSpPr>
            <a:xfrm>
              <a:off x="631800" y="2741760"/>
              <a:ext cx="3886200" cy="3884400"/>
              <a:chOff x="631800" y="2741760"/>
              <a:chExt cx="3886200" cy="3884400"/>
            </a:xfrm>
          </p:grpSpPr>
          <p:sp>
            <p:nvSpPr>
              <p:cNvPr id="266" name="Freeform 3"/>
              <p:cNvSpPr/>
              <p:nvPr/>
            </p:nvSpPr>
            <p:spPr>
              <a:xfrm>
                <a:off x="631800" y="2741760"/>
                <a:ext cx="3886200" cy="3884400"/>
              </a:xfrm>
              <a:prstGeom prst="pie">
                <a:avLst/>
              </a:prstGeom>
              <a:solidFill>
                <a:srgbClr val="f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4"/>
              <p:cNvSpPr/>
              <p:nvPr/>
            </p:nvSpPr>
            <p:spPr>
              <a:xfrm>
                <a:off x="771480" y="2880360"/>
                <a:ext cx="3604320" cy="3605760"/>
              </a:xfrm>
              <a:prstGeom prst="pie">
                <a:avLst/>
              </a:prstGeom>
              <a:solidFill>
                <a:srgbClr val="ff59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5"/>
              <p:cNvSpPr/>
              <p:nvPr/>
            </p:nvSpPr>
            <p:spPr>
              <a:xfrm>
                <a:off x="912960" y="3022920"/>
                <a:ext cx="3322080" cy="3320280"/>
              </a:xfrm>
              <a:prstGeom prst="pie">
                <a:avLst/>
              </a:prstGeom>
              <a:solidFill>
                <a:srgbClr val="ff68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6"/>
              <p:cNvSpPr/>
              <p:nvPr/>
            </p:nvSpPr>
            <p:spPr>
              <a:xfrm>
                <a:off x="1051560" y="3162600"/>
                <a:ext cx="3044520" cy="304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10"/>
            <p:cNvSpPr/>
            <p:nvPr/>
          </p:nvSpPr>
          <p:spPr>
            <a:xfrm>
              <a:off x="318672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0"/>
              <p:cNvSpPr txBox="1"/>
              <p:nvPr/>
            </p:nvSpPr>
            <p:spPr>
              <a:xfrm>
                <a:off x="6934320" y="3733920"/>
                <a:ext cx="1197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Text Box 12"/>
          <p:cNvSpPr/>
          <p:nvPr/>
        </p:nvSpPr>
        <p:spPr>
          <a:xfrm>
            <a:off x="4800600" y="27432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 consider spherical surface centred on charged sh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"/>
              <p:cNvSpPr txBox="1"/>
              <p:nvPr/>
            </p:nvSpPr>
            <p:spPr>
              <a:xfrm>
                <a:off x="7238880" y="4800600"/>
                <a:ext cx="1287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7467480" y="6172200"/>
                <a:ext cx="10670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Text Box 15"/>
          <p:cNvSpPr/>
          <p:nvPr/>
        </p:nvSpPr>
        <p:spPr>
          <a:xfrm>
            <a:off x="5339520" y="4038480"/>
            <a:ext cx="11300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24"/>
          <p:cNvGrpSpPr/>
          <p:nvPr/>
        </p:nvGrpSpPr>
        <p:grpSpPr>
          <a:xfrm>
            <a:off x="403200" y="2513160"/>
            <a:ext cx="4713480" cy="4343400"/>
            <a:chOff x="403200" y="2513160"/>
            <a:chExt cx="4713480" cy="4343400"/>
          </a:xfrm>
        </p:grpSpPr>
        <p:sp>
          <p:nvSpPr>
            <p:cNvPr id="277" name="Oval 9"/>
            <p:cNvSpPr/>
            <p:nvPr/>
          </p:nvSpPr>
          <p:spPr>
            <a:xfrm>
              <a:off x="403200" y="2513160"/>
              <a:ext cx="4343400" cy="4343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5"/>
                <p:cNvSpPr txBox="1"/>
                <p:nvPr/>
              </p:nvSpPr>
              <p:spPr>
                <a:xfrm>
                  <a:off x="4556160" y="4648320"/>
                  <a:ext cx="5605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u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Group 23"/>
          <p:cNvGrpSpPr/>
          <p:nvPr/>
        </p:nvGrpSpPr>
        <p:grpSpPr>
          <a:xfrm>
            <a:off x="1546200" y="3656160"/>
            <a:ext cx="2252520" cy="2057400"/>
            <a:chOff x="1546200" y="3656160"/>
            <a:chExt cx="2252520" cy="2057400"/>
          </a:xfrm>
        </p:grpSpPr>
        <mc:AlternateContent>
          <mc:Choice xmlns:a14="http://schemas.microsoft.com/office/drawing/2010/main" Requires="a14">
            <p:sp>
              <p:nvSpPr>
                <p:cNvPr id="280" name="Object 4"/>
                <p:cNvSpPr txBox="1"/>
                <p:nvPr/>
              </p:nvSpPr>
              <p:spPr>
                <a:xfrm>
                  <a:off x="3336840" y="4495680"/>
                  <a:ext cx="4618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81" name="Oval 18"/>
            <p:cNvSpPr/>
            <p:nvPr/>
          </p:nvSpPr>
          <p:spPr>
            <a:xfrm>
              <a:off x="1546200" y="3656160"/>
              <a:ext cx="205740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Text Box 19"/>
          <p:cNvSpPr/>
          <p:nvPr/>
        </p:nvSpPr>
        <p:spPr>
          <a:xfrm>
            <a:off x="5713560" y="480060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 as e.g.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4958280" y="5334120"/>
            <a:ext cx="927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5791320" y="6248520"/>
                <a:ext cx="9270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Text Box 22"/>
          <p:cNvSpPr/>
          <p:nvPr/>
        </p:nvSpPr>
        <p:spPr>
          <a:xfrm>
            <a:off x="57150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within surface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1676520" y="2370240"/>
            <a:ext cx="2162160" cy="1368360"/>
          </a:xfrm>
          <a:custGeom>
            <a:avLst/>
            <a:gdLst>
              <a:gd name="textAreaLeft" fmla="*/ 88560 w 2162160"/>
              <a:gd name="textAreaRight" fmla="*/ 2073600 w 21621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4127" h="21600">
                <a:moveTo>
                  <a:pt x="0" y="0"/>
                </a:moveTo>
                <a:lnTo>
                  <a:pt x="34127" y="0"/>
                </a:lnTo>
                <a:lnTo>
                  <a:pt x="34127" y="21600"/>
                </a:lnTo>
                <a:lnTo>
                  <a:pt x="0" y="21600"/>
                </a:lnTo>
                <a:close/>
              </a:path>
              <a:path fill="lightenLess" w="34127" h="21600">
                <a:moveTo>
                  <a:pt x="0" y="0"/>
                </a:moveTo>
                <a:lnTo>
                  <a:pt x="34127" y="0"/>
                </a:lnTo>
                <a:lnTo>
                  <a:pt x="32727" y="1400"/>
                </a:lnTo>
                <a:lnTo>
                  <a:pt x="1400" y="1400"/>
                </a:lnTo>
                <a:close/>
              </a:path>
              <a:path fill="darken" w="34127" h="21600">
                <a:moveTo>
                  <a:pt x="34127" y="0"/>
                </a:moveTo>
                <a:lnTo>
                  <a:pt x="34127" y="21600"/>
                </a:lnTo>
                <a:lnTo>
                  <a:pt x="32727" y="20200"/>
                </a:lnTo>
                <a:lnTo>
                  <a:pt x="32727" y="1400"/>
                </a:lnTo>
                <a:close/>
              </a:path>
              <a:path fill="darkenLess" w="34127" h="21600">
                <a:moveTo>
                  <a:pt x="341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7" y="20200"/>
                </a:lnTo>
                <a:close/>
              </a:path>
              <a:path fill="lighten" w="341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nd a line of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4952880" y="2217600"/>
            <a:ext cx="2162160" cy="1368360"/>
          </a:xfrm>
          <a:custGeom>
            <a:avLst/>
            <a:gdLst>
              <a:gd name="textAreaLeft" fmla="*/ 88560 w 2162160"/>
              <a:gd name="textAreaRight" fmla="*/ 2073600 w 21621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4127" h="21600">
                <a:moveTo>
                  <a:pt x="0" y="0"/>
                </a:moveTo>
                <a:lnTo>
                  <a:pt x="34127" y="0"/>
                </a:lnTo>
                <a:lnTo>
                  <a:pt x="34127" y="21600"/>
                </a:lnTo>
                <a:lnTo>
                  <a:pt x="0" y="21600"/>
                </a:lnTo>
                <a:close/>
              </a:path>
              <a:path fill="lightenLess" w="34127" h="21600">
                <a:moveTo>
                  <a:pt x="0" y="0"/>
                </a:moveTo>
                <a:lnTo>
                  <a:pt x="34127" y="0"/>
                </a:lnTo>
                <a:lnTo>
                  <a:pt x="32727" y="1400"/>
                </a:lnTo>
                <a:lnTo>
                  <a:pt x="1400" y="1400"/>
                </a:lnTo>
                <a:close/>
              </a:path>
              <a:path fill="darken" w="34127" h="21600">
                <a:moveTo>
                  <a:pt x="34127" y="0"/>
                </a:moveTo>
                <a:lnTo>
                  <a:pt x="34127" y="21600"/>
                </a:lnTo>
                <a:lnTo>
                  <a:pt x="32727" y="20200"/>
                </a:lnTo>
                <a:lnTo>
                  <a:pt x="32727" y="1400"/>
                </a:lnTo>
                <a:close/>
              </a:path>
              <a:path fill="darkenLess" w="34127" h="21600">
                <a:moveTo>
                  <a:pt x="341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7" y="20200"/>
                </a:lnTo>
                <a:close/>
              </a:path>
              <a:path fill="lighten" w="341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nd a uniform 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8"/>
          <p:cNvSpPr/>
          <p:nvPr/>
        </p:nvSpPr>
        <p:spPr>
          <a:xfrm>
            <a:off x="1220760" y="4827600"/>
            <a:ext cx="2814840" cy="1368360"/>
          </a:xfrm>
          <a:custGeom>
            <a:avLst/>
            <a:gdLst>
              <a:gd name="textAreaLeft" fmla="*/ 88560 w 2814840"/>
              <a:gd name="textAreaRight" fmla="*/ 2726280 w 281484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4427" h="21600">
                <a:moveTo>
                  <a:pt x="0" y="0"/>
                </a:moveTo>
                <a:lnTo>
                  <a:pt x="44427" y="0"/>
                </a:lnTo>
                <a:lnTo>
                  <a:pt x="44427" y="21600"/>
                </a:lnTo>
                <a:lnTo>
                  <a:pt x="0" y="21600"/>
                </a:lnTo>
                <a:close/>
              </a:path>
              <a:path fill="lightenLess" w="44427" h="21600">
                <a:moveTo>
                  <a:pt x="0" y="0"/>
                </a:moveTo>
                <a:lnTo>
                  <a:pt x="44427" y="0"/>
                </a:lnTo>
                <a:lnTo>
                  <a:pt x="43027" y="1400"/>
                </a:lnTo>
                <a:lnTo>
                  <a:pt x="1400" y="1400"/>
                </a:lnTo>
                <a:close/>
              </a:path>
              <a:path fill="darken" w="44427" h="21600">
                <a:moveTo>
                  <a:pt x="44427" y="0"/>
                </a:moveTo>
                <a:lnTo>
                  <a:pt x="44427" y="21600"/>
                </a:lnTo>
                <a:lnTo>
                  <a:pt x="43027" y="20200"/>
                </a:lnTo>
                <a:lnTo>
                  <a:pt x="43027" y="1400"/>
                </a:lnTo>
                <a:close/>
              </a:path>
              <a:path fill="darkenLess" w="44427" h="21600">
                <a:moveTo>
                  <a:pt x="44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27" y="20200"/>
                </a:lnTo>
                <a:close/>
              </a:path>
              <a:path fill="lighten" w="44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round a point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9">
            <a:hlinkClick r:id="" action="ppaction://hlinkshowjump?jump=nextslide"/>
          </p:cNvPr>
          <p:cNvSpPr/>
          <p:nvPr/>
        </p:nvSpPr>
        <p:spPr>
          <a:xfrm>
            <a:off x="5638680" y="495288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90" h="21600">
                <a:moveTo>
                  <a:pt x="20588" y="3794"/>
                </a:moveTo>
                <a:lnTo>
                  <a:pt x="34601" y="10800"/>
                </a:lnTo>
                <a:lnTo>
                  <a:pt x="20588" y="17806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Lectur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653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lectric Field is related to Coulomb’s Forc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us knowing the field we can calculate the force on a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lectric Field is a vector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superposition we thus f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eld lin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llustrate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rengt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Electric 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024"/>
              <p:cNvSpPr txBox="1"/>
              <p:nvPr/>
            </p:nvSpPr>
            <p:spPr>
              <a:xfrm>
                <a:off x="6019920" y="4267080"/>
                <a:ext cx="23619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1025"/>
              <p:cNvSpPr txBox="1"/>
              <p:nvPr/>
            </p:nvSpPr>
            <p:spPr>
              <a:xfrm>
                <a:off x="6553080" y="1600200"/>
                <a:ext cx="10782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026"/>
              <p:cNvSpPr txBox="1"/>
              <p:nvPr/>
            </p:nvSpPr>
            <p:spPr>
              <a:xfrm>
                <a:off x="6672240" y="2693880"/>
                <a:ext cx="1135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Q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a model of the atom the nucleus is a uniform ball of +ve charge of radius R. At what distance is the E field strong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) r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) r = R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) r =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) r = 2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) r = 1.5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6">
            <a:hlinkClick r:id="" action="ppaction://hlinkshowjump?jump=previousslide"/>
          </p:cNvPr>
          <p:cNvSpPr/>
          <p:nvPr/>
        </p:nvSpPr>
        <p:spPr>
          <a:xfrm>
            <a:off x="4648320" y="510552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2968920" y="4038480"/>
            <a:ext cx="456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ing 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 is zero within the condu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y net charge, Q, is distributed on surface (surface charge densit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Q/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 E immediately outside is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greatest where the radius of curvature is sma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361880" y="1828800"/>
            <a:ext cx="73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conductor in electrostatic equilibr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4308480" y="5549760"/>
            <a:ext cx="1639800" cy="781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0"/>
              <p:cNvSpPr txBox="1"/>
              <p:nvPr/>
            </p:nvSpPr>
            <p:spPr>
              <a:xfrm>
                <a:off x="5410080" y="5715000"/>
                <a:ext cx="312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"/>
              <p:cNvSpPr txBox="1"/>
              <p:nvPr/>
            </p:nvSpPr>
            <p:spPr>
              <a:xfrm>
                <a:off x="4560840" y="5791320"/>
                <a:ext cx="336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6095880" y="5791320"/>
                <a:ext cx="12956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.  E is zero within cond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there is a field in the conductor, then the free electrons would feel a force and be accelerated.  They would then move and since there are charges moving the conductor would not be in electrostatic 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us E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. Any net charge, Q, is distributed on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09520" y="2743200"/>
            <a:ext cx="5581800" cy="3747960"/>
            <a:chOff x="209520" y="2743200"/>
            <a:chExt cx="5581800" cy="3747960"/>
          </a:xfrm>
        </p:grpSpPr>
        <p:sp>
          <p:nvSpPr>
            <p:cNvPr id="308" name="Freeform 4"/>
            <p:cNvSpPr/>
            <p:nvPr/>
          </p:nvSpPr>
          <p:spPr>
            <a:xfrm>
              <a:off x="209520" y="2743200"/>
              <a:ext cx="5581800" cy="37479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>
              <a:off x="540000" y="3182760"/>
              <a:ext cx="4772880" cy="3089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2895480" y="2133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3124080" y="2743200"/>
            <a:ext cx="480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1653120" y="4140000"/>
            <a:ext cx="539280" cy="721080"/>
          </a:xfrm>
          <a:prstGeom prst="ellipse">
            <a:avLst/>
          </a:prstGeom>
          <a:solidFill>
            <a:srgbClr val="3ad6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5410080" y="5181480"/>
            <a:ext cx="342900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 surface can be drawn arbitrarily close to surface of conductor, all net charge must be distributed on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2948760" y="205740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surface S below surface of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733920" y="26557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ce we are in a conductor in equilibrium, rule 1 says E=0, thus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4658040" y="3619440"/>
            <a:ext cx="4180680" cy="459720"/>
            <a:chOff x="4658040" y="3619440"/>
            <a:chExt cx="4180680" cy="459720"/>
          </a:xfrm>
        </p:grpSpPr>
        <mc:AlternateContent>
          <mc:Choice xmlns:a14="http://schemas.microsoft.com/office/drawing/2010/main" Requires="a14">
            <p:sp>
              <p:nvSpPr>
                <p:cNvPr id="317" name="Object 1"/>
                <p:cNvSpPr txBox="1"/>
                <p:nvPr/>
              </p:nvSpPr>
              <p:spPr>
                <a:xfrm>
                  <a:off x="6865920" y="3630600"/>
                  <a:ext cx="19728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A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q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Rectangle 14"/>
            <p:cNvSpPr/>
            <p:nvPr/>
          </p:nvSpPr>
          <p:spPr>
            <a:xfrm>
              <a:off x="4658040" y="3619440"/>
              <a:ext cx="184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auss’s Law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3049200" y="4400640"/>
            <a:ext cx="2217960" cy="459720"/>
            <a:chOff x="3049200" y="4400640"/>
            <a:chExt cx="2217960" cy="459720"/>
          </a:xfrm>
        </p:grpSpPr>
        <mc:AlternateContent>
          <mc:Choice xmlns:a14="http://schemas.microsoft.com/office/drawing/2010/main" Requires="a14">
            <p:sp>
              <p:nvSpPr>
                <p:cNvPr id="320" name="Object 0"/>
                <p:cNvSpPr txBox="1"/>
                <p:nvPr/>
              </p:nvSpPr>
              <p:spPr>
                <a:xfrm>
                  <a:off x="3886200" y="4411800"/>
                  <a:ext cx="138096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Rectangle 15"/>
            <p:cNvSpPr/>
            <p:nvPr/>
          </p:nvSpPr>
          <p:spPr>
            <a:xfrm>
              <a:off x="3049200" y="4400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Rectangle 16"/>
          <p:cNvSpPr/>
          <p:nvPr/>
        </p:nvSpPr>
        <p:spPr>
          <a:xfrm>
            <a:off x="5715000" y="42181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, net charge within the surface is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. E immediately outside is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209520" y="2743200"/>
            <a:ext cx="5581800" cy="374796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2895480" y="2133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666880" y="1967040"/>
            <a:ext cx="63248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a small cylindrical surface at the surface of the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21"/>
          <p:cNvGrpSpPr/>
          <p:nvPr/>
        </p:nvGrpSpPr>
        <p:grpSpPr>
          <a:xfrm>
            <a:off x="5453640" y="4438800"/>
            <a:ext cx="3538080" cy="459720"/>
            <a:chOff x="5453640" y="4438800"/>
            <a:chExt cx="3538080" cy="459720"/>
          </a:xfrm>
        </p:grpSpPr>
        <mc:AlternateContent>
          <mc:Choice xmlns:a14="http://schemas.microsoft.com/office/drawing/2010/main" Requires="a14">
            <p:sp>
              <p:nvSpPr>
                <p:cNvPr id="328" name="Object 2"/>
                <p:cNvSpPr txBox="1"/>
                <p:nvPr/>
              </p:nvSpPr>
              <p:spPr>
                <a:xfrm>
                  <a:off x="7413840" y="4493880"/>
                  <a:ext cx="157788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A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Rectangle 7"/>
            <p:cNvSpPr/>
            <p:nvPr/>
          </p:nvSpPr>
          <p:spPr>
            <a:xfrm>
              <a:off x="5453640" y="4438800"/>
              <a:ext cx="18403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auss’s Law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Oval 9"/>
          <p:cNvSpPr/>
          <p:nvPr/>
        </p:nvSpPr>
        <p:spPr>
          <a:xfrm rot="20253600">
            <a:off x="609480" y="3276720"/>
            <a:ext cx="1067040" cy="533160"/>
          </a:xfrm>
          <a:prstGeom prst="ellipse">
            <a:avLst/>
          </a:prstGeom>
          <a:solidFill>
            <a:srgbClr val="3ad6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 rot="20253600">
            <a:off x="456840" y="2895120"/>
            <a:ext cx="1066680" cy="533520"/>
          </a:xfrm>
          <a:prstGeom prst="ellipse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AutoShape 11"/>
          <p:cNvCxnSpPr>
            <a:stCxn id="330" idx="2"/>
            <a:endCxn id="331" idx="2"/>
          </p:cNvCxnSpPr>
          <p:nvPr/>
        </p:nvCxnSpPr>
        <p:spPr>
          <a:xfrm flipH="1" flipV="1">
            <a:off x="478800" y="3373200"/>
            <a:ext cx="153000" cy="381600"/>
          </a:xfrm>
          <a:prstGeom prst="straightConnector1">
            <a:avLst/>
          </a:prstGeom>
          <a:ln w="38160">
            <a:solidFill>
              <a:srgbClr val="660066"/>
            </a:solidFill>
            <a:miter/>
          </a:ln>
        </p:spPr>
      </p:cxnSp>
      <p:cxnSp>
        <p:nvCxnSpPr>
          <p:cNvPr id="333" name="AutoShape 12"/>
          <p:cNvCxnSpPr>
            <a:stCxn id="330" idx="6"/>
            <a:endCxn id="331" idx="6"/>
          </p:cNvCxnSpPr>
          <p:nvPr/>
        </p:nvCxnSpPr>
        <p:spPr>
          <a:xfrm flipH="1" flipV="1">
            <a:off x="1499760" y="2948760"/>
            <a:ext cx="153360" cy="381960"/>
          </a:xfrm>
          <a:prstGeom prst="straightConnector1">
            <a:avLst/>
          </a:prstGeom>
          <a:ln w="38160">
            <a:solidFill>
              <a:srgbClr val="660066"/>
            </a:solidFill>
            <a:miter/>
          </a:ln>
        </p:spPr>
      </p:cxnSp>
      <p:sp>
        <p:nvSpPr>
          <p:cNvPr id="334" name="Text Box 13"/>
          <p:cNvSpPr/>
          <p:nvPr/>
        </p:nvSpPr>
        <p:spPr>
          <a:xfrm>
            <a:off x="3670920" y="3838680"/>
            <a:ext cx="53470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ylinder is small enough that E i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4"/>
          <p:cNvSpPr/>
          <p:nvPr/>
        </p:nvSpPr>
        <p:spPr>
          <a:xfrm flipH="1" flipV="1">
            <a:off x="838080" y="2285640"/>
            <a:ext cx="5335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5"/>
          <p:cNvSpPr/>
          <p:nvPr/>
        </p:nvSpPr>
        <p:spPr>
          <a:xfrm flipV="1">
            <a:off x="1371600" y="3048120"/>
            <a:ext cx="7621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1054800" y="2071800"/>
            <a:ext cx="43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1895040" y="3138480"/>
            <a:ext cx="39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imes New Roman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2209680" y="2901960"/>
            <a:ext cx="6782040" cy="9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||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0 it would cause surface charge q to move thus it would not be in electrostatic equilibrium, thus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||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2"/>
          <p:cNvGrpSpPr/>
          <p:nvPr/>
        </p:nvGrpSpPr>
        <p:grpSpPr>
          <a:xfrm>
            <a:off x="6863760" y="5038560"/>
            <a:ext cx="2127600" cy="459720"/>
            <a:chOff x="6863760" y="5038560"/>
            <a:chExt cx="2127600" cy="459720"/>
          </a:xfrm>
        </p:grpSpPr>
        <p:sp>
          <p:nvSpPr>
            <p:cNvPr id="341" name="Rectangle 8"/>
            <p:cNvSpPr/>
            <p:nvPr/>
          </p:nvSpPr>
          <p:spPr>
            <a:xfrm>
              <a:off x="6863760" y="5038560"/>
              <a:ext cx="68976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1"/>
                <p:cNvSpPr txBox="1"/>
                <p:nvPr/>
              </p:nvSpPr>
              <p:spPr>
                <a:xfrm>
                  <a:off x="7833960" y="5114880"/>
                  <a:ext cx="115740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Aε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3" name="Object 0"/>
              <p:cNvSpPr txBox="1"/>
              <p:nvPr/>
            </p:nvSpPr>
            <p:spPr>
              <a:xfrm>
                <a:off x="7264440" y="5791320"/>
                <a:ext cx="18795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Lecture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olated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rged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ne of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form 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 is zero within the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y net charge, Q, is distributed on surface (surface charge density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Q/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 immediately outside i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greatest where the radius of curvature is sma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0"/>
              <p:cNvSpPr txBox="1"/>
              <p:nvPr/>
            </p:nvSpPr>
            <p:spPr>
              <a:xfrm>
                <a:off x="2286000" y="2362320"/>
                <a:ext cx="2738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"/>
              <p:cNvSpPr txBox="1"/>
              <p:nvPr/>
            </p:nvSpPr>
            <p:spPr>
              <a:xfrm>
                <a:off x="3429000" y="3048120"/>
                <a:ext cx="14288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eld Perpendi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45640" y="1676520"/>
            <a:ext cx="60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constant field perpendicular to a surf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295280" y="251460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981080" y="27939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362320" y="30733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>
            <a:off x="3048120" y="335268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8"/>
          <p:cNvSpPr/>
          <p:nvPr/>
        </p:nvSpPr>
        <p:spPr>
          <a:xfrm>
            <a:off x="1295280" y="363204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>
            <a:off x="1981080" y="39117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2362320" y="41911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3048120" y="447048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1295280" y="474984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1981080" y="502920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2362320" y="53085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3048120" y="55879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8"/>
          <p:cNvGrpSpPr/>
          <p:nvPr/>
        </p:nvGrpSpPr>
        <p:grpSpPr>
          <a:xfrm>
            <a:off x="990720" y="1981080"/>
            <a:ext cx="2666880" cy="4191120"/>
            <a:chOff x="990720" y="1981080"/>
            <a:chExt cx="2666880" cy="4191120"/>
          </a:xfrm>
        </p:grpSpPr>
        <p:sp>
          <p:nvSpPr>
            <p:cNvPr id="67" name="AutoShape 16"/>
            <p:cNvSpPr/>
            <p:nvPr/>
          </p:nvSpPr>
          <p:spPr>
            <a:xfrm rot="16200000">
              <a:off x="228600" y="2743200"/>
              <a:ext cx="4191120" cy="2666880"/>
            </a:xfrm>
            <a:prstGeom prst="parallelogram">
              <a:avLst>
                <a:gd name="adj" fmla="val 3928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1144440" y="380988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18"/>
          <p:cNvSpPr/>
          <p:nvPr/>
        </p:nvSpPr>
        <p:spPr>
          <a:xfrm>
            <a:off x="6629400" y="2133720"/>
            <a:ext cx="220968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 is defin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9"/>
              <p:cNvSpPr txBox="1"/>
              <p:nvPr/>
            </p:nvSpPr>
            <p:spPr>
              <a:xfrm>
                <a:off x="7010280" y="4191120"/>
                <a:ext cx="1789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4334040" y="3025800"/>
                <a:ext cx="4348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perpendi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562720" y="457200"/>
            <a:ext cx="27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constant field NOT perpendicular to a surf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6553080" y="2286000"/>
            <a:ext cx="221004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 is defin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9"/>
              <p:cNvSpPr txBox="1"/>
              <p:nvPr/>
            </p:nvSpPr>
            <p:spPr>
              <a:xfrm>
                <a:off x="5867280" y="3505320"/>
                <a:ext cx="2738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" name="Group 28"/>
          <p:cNvGrpSpPr/>
          <p:nvPr/>
        </p:nvGrpSpPr>
        <p:grpSpPr>
          <a:xfrm>
            <a:off x="609480" y="1828440"/>
            <a:ext cx="4571640" cy="2971800"/>
            <a:chOff x="609480" y="1828440"/>
            <a:chExt cx="4571640" cy="2971800"/>
          </a:xfrm>
        </p:grpSpPr>
        <p:sp>
          <p:nvSpPr>
            <p:cNvPr id="77" name="Line 4"/>
            <p:cNvSpPr/>
            <p:nvPr/>
          </p:nvSpPr>
          <p:spPr>
            <a:xfrm>
              <a:off x="843480" y="220680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5"/>
            <p:cNvSpPr/>
            <p:nvPr/>
          </p:nvSpPr>
          <p:spPr>
            <a:xfrm>
              <a:off x="1371240" y="2405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6"/>
            <p:cNvSpPr/>
            <p:nvPr/>
          </p:nvSpPr>
          <p:spPr>
            <a:xfrm>
              <a:off x="1664280" y="2603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"/>
            <p:cNvSpPr/>
            <p:nvPr/>
          </p:nvSpPr>
          <p:spPr>
            <a:xfrm>
              <a:off x="2192040" y="2801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8"/>
            <p:cNvSpPr/>
            <p:nvPr/>
          </p:nvSpPr>
          <p:spPr>
            <a:xfrm>
              <a:off x="843480" y="2999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9"/>
            <p:cNvSpPr/>
            <p:nvPr/>
          </p:nvSpPr>
          <p:spPr>
            <a:xfrm>
              <a:off x="1371240" y="319752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>
              <a:off x="1664280" y="3395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2192040" y="3593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843480" y="3791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>
              <a:off x="1371240" y="3989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1664280" y="4188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>
              <a:off x="2192040" y="4386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16"/>
            <p:cNvSpPr/>
            <p:nvPr/>
          </p:nvSpPr>
          <p:spPr>
            <a:xfrm rot="16200000">
              <a:off x="149040" y="2288520"/>
              <a:ext cx="2971800" cy="2051280"/>
            </a:xfrm>
            <a:prstGeom prst="parallelogram">
              <a:avLst>
                <a:gd name="adj" fmla="val 3621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7"/>
            <p:cNvSpPr/>
            <p:nvPr/>
          </p:nvSpPr>
          <p:spPr>
            <a:xfrm>
              <a:off x="727560" y="3125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22"/>
                <p:cNvSpPr txBox="1"/>
                <p:nvPr/>
              </p:nvSpPr>
              <p:spPr>
                <a:xfrm>
                  <a:off x="3180960" y="2569320"/>
                  <a:ext cx="334440" cy="33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" name="Freeform 32"/>
          <p:cNvSpPr/>
          <p:nvPr/>
        </p:nvSpPr>
        <p:spPr>
          <a:xfrm>
            <a:off x="614520" y="2209680"/>
            <a:ext cx="4392360" cy="2617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rc 33"/>
          <p:cNvSpPr/>
          <p:nvPr/>
        </p:nvSpPr>
        <p:spPr>
          <a:xfrm>
            <a:off x="2743200" y="3735360"/>
            <a:ext cx="790560" cy="609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34"/>
              <p:cNvSpPr txBox="1"/>
              <p:nvPr/>
            </p:nvSpPr>
            <p:spPr>
              <a:xfrm>
                <a:off x="2819520" y="3962520"/>
                <a:ext cx="365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lation to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9"/>
              <p:cNvSpPr txBox="1"/>
              <p:nvPr/>
            </p:nvSpPr>
            <p:spPr>
              <a:xfrm>
                <a:off x="5791320" y="2209680"/>
                <a:ext cx="1788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20"/>
              <p:cNvSpPr txBox="1"/>
              <p:nvPr/>
            </p:nvSpPr>
            <p:spPr>
              <a:xfrm>
                <a:off x="6858000" y="3505320"/>
                <a:ext cx="1314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∝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3"/>
              <p:cNvSpPr txBox="1"/>
              <p:nvPr/>
            </p:nvSpPr>
            <p:spPr>
              <a:xfrm>
                <a:off x="6629400" y="4724280"/>
                <a:ext cx="1859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A</m:t>
                    </m:r>
                    <m:r>
                      <m:t xml:space="preserve">∝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24"/>
          <p:cNvSpPr/>
          <p:nvPr/>
        </p:nvSpPr>
        <p:spPr>
          <a:xfrm>
            <a:off x="3584520" y="5867280"/>
            <a:ext cx="2809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flux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5"/>
              <p:cNvSpPr txBox="1"/>
              <p:nvPr/>
            </p:nvSpPr>
            <p:spPr>
              <a:xfrm>
                <a:off x="6934320" y="57913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" name="Group 45"/>
          <p:cNvGrpSpPr/>
          <p:nvPr/>
        </p:nvGrpSpPr>
        <p:grpSpPr>
          <a:xfrm>
            <a:off x="609480" y="1828440"/>
            <a:ext cx="4571640" cy="2971800"/>
            <a:chOff x="609480" y="1828440"/>
            <a:chExt cx="4571640" cy="2971800"/>
          </a:xfrm>
        </p:grpSpPr>
        <p:sp>
          <p:nvSpPr>
            <p:cNvPr id="102" name="Line 46"/>
            <p:cNvSpPr/>
            <p:nvPr/>
          </p:nvSpPr>
          <p:spPr>
            <a:xfrm>
              <a:off x="843480" y="220680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7"/>
            <p:cNvSpPr/>
            <p:nvPr/>
          </p:nvSpPr>
          <p:spPr>
            <a:xfrm>
              <a:off x="1371240" y="2405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48"/>
            <p:cNvSpPr/>
            <p:nvPr/>
          </p:nvSpPr>
          <p:spPr>
            <a:xfrm>
              <a:off x="1664280" y="2603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49"/>
            <p:cNvSpPr/>
            <p:nvPr/>
          </p:nvSpPr>
          <p:spPr>
            <a:xfrm>
              <a:off x="2192040" y="2801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50"/>
            <p:cNvSpPr/>
            <p:nvPr/>
          </p:nvSpPr>
          <p:spPr>
            <a:xfrm>
              <a:off x="843480" y="2999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51"/>
            <p:cNvSpPr/>
            <p:nvPr/>
          </p:nvSpPr>
          <p:spPr>
            <a:xfrm>
              <a:off x="1371240" y="319752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52"/>
            <p:cNvSpPr/>
            <p:nvPr/>
          </p:nvSpPr>
          <p:spPr>
            <a:xfrm>
              <a:off x="1664280" y="3395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53"/>
            <p:cNvSpPr/>
            <p:nvPr/>
          </p:nvSpPr>
          <p:spPr>
            <a:xfrm>
              <a:off x="2192040" y="3593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54"/>
            <p:cNvSpPr/>
            <p:nvPr/>
          </p:nvSpPr>
          <p:spPr>
            <a:xfrm>
              <a:off x="843480" y="3791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55"/>
            <p:cNvSpPr/>
            <p:nvPr/>
          </p:nvSpPr>
          <p:spPr>
            <a:xfrm>
              <a:off x="1371240" y="3989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56"/>
            <p:cNvSpPr/>
            <p:nvPr/>
          </p:nvSpPr>
          <p:spPr>
            <a:xfrm>
              <a:off x="1664280" y="4188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57"/>
            <p:cNvSpPr/>
            <p:nvPr/>
          </p:nvSpPr>
          <p:spPr>
            <a:xfrm>
              <a:off x="2192040" y="4386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58"/>
            <p:cNvSpPr/>
            <p:nvPr/>
          </p:nvSpPr>
          <p:spPr>
            <a:xfrm rot="16200000">
              <a:off x="149040" y="2288520"/>
              <a:ext cx="2971800" cy="2051280"/>
            </a:xfrm>
            <a:prstGeom prst="parallelogram">
              <a:avLst>
                <a:gd name="adj" fmla="val 3621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9"/>
            <p:cNvSpPr/>
            <p:nvPr/>
          </p:nvSpPr>
          <p:spPr>
            <a:xfrm>
              <a:off x="727560" y="3125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Object 60"/>
                <p:cNvSpPr txBox="1"/>
                <p:nvPr/>
              </p:nvSpPr>
              <p:spPr>
                <a:xfrm>
                  <a:off x="3180960" y="2569320"/>
                  <a:ext cx="334440" cy="33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" name="Text Box 61"/>
          <p:cNvSpPr/>
          <p:nvPr/>
        </p:nvSpPr>
        <p:spPr>
          <a:xfrm>
            <a:off x="5410080" y="3429000"/>
            <a:ext cx="14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eld line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2"/>
          <p:cNvSpPr/>
          <p:nvPr/>
        </p:nvSpPr>
        <p:spPr>
          <a:xfrm>
            <a:off x="3962520" y="47242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eld line densit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3"/>
          <p:cNvSpPr/>
          <p:nvPr/>
        </p:nvSpPr>
        <p:spPr>
          <a:xfrm>
            <a:off x="228600" y="5410080"/>
            <a:ext cx="2671920" cy="1067040"/>
          </a:xfrm>
          <a:custGeom>
            <a:avLst/>
            <a:gdLst>
              <a:gd name="textAreaLeft" fmla="*/ 69120 w 2671920"/>
              <a:gd name="textAreaRight" fmla="*/ 2602800 w 26719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54076" h="21600">
                <a:moveTo>
                  <a:pt x="0" y="0"/>
                </a:moveTo>
                <a:lnTo>
                  <a:pt x="54076" y="0"/>
                </a:lnTo>
                <a:lnTo>
                  <a:pt x="54076" y="21600"/>
                </a:lnTo>
                <a:lnTo>
                  <a:pt x="0" y="21600"/>
                </a:lnTo>
                <a:close/>
              </a:path>
              <a:path fill="lightenLess" w="54076" h="21600">
                <a:moveTo>
                  <a:pt x="0" y="0"/>
                </a:moveTo>
                <a:lnTo>
                  <a:pt x="54076" y="0"/>
                </a:lnTo>
                <a:lnTo>
                  <a:pt x="52677" y="1400"/>
                </a:lnTo>
                <a:lnTo>
                  <a:pt x="1400" y="1400"/>
                </a:lnTo>
                <a:close/>
              </a:path>
              <a:path fill="darken" w="54076" h="21600">
                <a:moveTo>
                  <a:pt x="54076" y="0"/>
                </a:moveTo>
                <a:lnTo>
                  <a:pt x="54076" y="21600"/>
                </a:lnTo>
                <a:lnTo>
                  <a:pt x="52677" y="20200"/>
                </a:lnTo>
                <a:lnTo>
                  <a:pt x="52677" y="1400"/>
                </a:lnTo>
                <a:close/>
              </a:path>
              <a:path fill="darkenLess" w="54076" h="21600">
                <a:moveTo>
                  <a:pt x="5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7" y="20200"/>
                </a:lnTo>
                <a:close/>
              </a:path>
              <a:path fill="lighten" w="5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electric flux through a cylindrical surface? The electric field, E, is uniform and perpendicular to the surface.  The cylinder has radius r and  length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 E 4/3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 E r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) 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) E 2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)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es flux through a closed surfac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rge within that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4:50:06Z</dcterms:created>
  <dc:creator>Seb Oliver</dc:creator>
  <dc:description>Gauss's Law</dc:description>
  <cp:keywords>Gauss's Law</cp:keywords>
  <dc:language>en-US</dc:language>
  <cp:lastModifiedBy> </cp:lastModifiedBy>
  <dcterms:modified xsi:type="dcterms:W3CDTF">2009-01-21T15:43:44Z</dcterms:modified>
  <cp:revision>137</cp:revision>
  <dc:subject>Electricity &amp; Manetism</dc:subject>
  <dc:title>Gauss's Law: Lecture 6</dc:title>
</cp:coreProperties>
</file>