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453-C361-4C5F-A86D-A21C648E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4AB-63A1-48DB-8C86-B702F93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5B66D-972D-4B67-82E3-4523A487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639D9-72CC-47BD-8A70-1358782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FE929-9F61-4920-AF00-84884C38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50A10-0C38-4844-9229-C55F589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F40FC-C3F4-48A6-ABDA-86D12AE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49087-77BF-471C-946C-1A50D5F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86B6C-B460-4617-B1F6-91BE973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D58D5-E857-42B4-A79D-3C440758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53B46-D2CB-412B-BB00-5197F510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D18B8-F7C5-4D6F-A055-A99D9FF1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BB1-4086-475A-8399-2AB9974A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6F497-5B04-4F1C-ADF1-F51652F8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3F361-7163-497C-A4A3-EBFCDC97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DB28E-FDD3-47AD-AA2D-88C31924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52C5A-96BF-493F-8A91-754D2B0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3EBF5-FDE4-4A50-A9B4-FC1AC8C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4FD95-BE3A-4BB5-94B8-3EF36E3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336D3-68CF-455E-9080-19F6506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B966F-ED85-4B27-856A-2DC67DE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1D44C-D17A-456A-B467-A5C24680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60FCD-0423-4BCE-A794-732A457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67D-06B0-4703-923B-076C6B0F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ED46B-1236-4071-B768-CEAA605E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7AEB-F111-494A-A7A4-3C6A6C27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3FFC4-CB09-417C-8F8E-5782F20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76C38-F518-4A5C-B1CD-CBCA986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13CD8-EB9D-479A-8CB7-9DE8B59E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7EC29-F989-4CF1-A676-78FB7DE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77E2-B848-4777-A47A-947A5FE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A27D2-96EC-4F8D-BAA2-53D415D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EDFC-95CF-4AA0-B44A-7DD1121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B611F-0752-4727-BEA2-ECAEFF6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517-2C1B-438D-B192-9EEB658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B2E31-DAA1-49CB-BA14-1352536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A10B-5E17-4DF9-8910-D0A01F40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7BE3-3803-4E90-8CBD-88A8BF77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18A6F-BE7C-4A46-BEEF-9151D78F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9B857-2EB9-4B5C-8648-7D937FD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8797C-F27A-4822-9758-A83E552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8BDD2-ACDC-4D31-907A-5F1305DE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437FB-1322-4824-BAC1-9614B1C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BAF17-B040-400A-9639-73C8BF04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D7008-5DF0-49EF-87B8-9C67EA1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4AF-A343-4B1D-898D-02ABBFC0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F4D34-FE89-43DD-BF86-42E6907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C1AB4-CD73-402A-B311-70C9CC2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0BAF7-E284-4608-A07A-B93CF52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4CCEB-BB33-4695-B7AB-730FCAEC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C943D-877D-4D04-A8EA-BB151EDB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8B12-DF9F-45E9-8276-AA5772B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00B-4C21-4012-A707-70E2D02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BAB-095A-4F22-9A53-912C7BAA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EBAB-BF79-4B49-814E-1F27AC1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8A83-35A6-4A5F-BC46-E4053E6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768-30E7-4C7F-9071-38CFDD1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6DB-56CE-469F-BE73-1B0E1F0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E2D-EE43-48BA-9B0E-640200F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006B-75EE-45E6-B885-613EA97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62A5-6826-448C-B54D-5C5C68A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B143-AEFD-4258-B262-03AC533C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0DC8-6402-4F58-987F-239A0C7C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45CC-9DBE-435A-83BA-938ED22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6560-8C94-45BF-8C99-025F7A0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07FF-E01F-4294-9D83-BE66703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D988-23B5-43E1-9146-8551A61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64C-9EC5-448E-8355-9D5A639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EBF8-4E05-40EB-ADB6-C2EFDCD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2305-E613-4C53-AF66-33A74B3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0FFC-E83A-49A9-A388-6506076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E581-C6B5-4B1F-82D2-BB90B7B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7C2E-A398-4CEC-84DA-8D6508C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B41B-5814-47CF-88AF-2738E42B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0E23-E265-40DB-A67F-C63E4E56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165F-0A78-4FC5-827C-6EB7B3F2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979E-6E88-42DB-809D-45301A80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C282-C020-41E7-86EC-9360CE9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CA6-70F3-4527-B3CB-A61E2F8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4361-B303-4BD2-A482-6FFFFD3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FFA1-95BB-4BF8-9A0D-4A19407A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612B-F9C1-41ED-A799-3717644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5909-B44D-424F-88E3-E71F261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9064-193B-4BD8-8082-37B5685E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C773-5CCA-45E1-83ED-5AA993E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EB92-E0C7-48BC-8D7C-D7D98A3F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E3A0-11DD-4354-9DED-9C0BCA79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2EAF-9221-475B-9DED-68E1749A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3EC4-0587-4F7C-91E5-3F2FE78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E7E-EA95-4FDC-BACA-AE125ED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5EBE-7E56-4DEA-AAE6-D2416E7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2312-28FD-4158-9F09-230D2D9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AC46C-84D8-44CF-9B31-C22CBA1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BEC8-7B7C-4F9A-99AD-0FC196B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B4AF-1677-4911-BEEB-CEB93EC7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A276-5698-45A1-AA32-0FB8884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261B-131B-4FDC-88E6-F08C197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516A-4560-40F0-9A21-BFA6189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04B0-9889-472F-BEE3-94F93384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5BDF-7792-4F62-B99C-47C8C7C8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DAF-2C02-4619-BD57-FDD7F26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1B1E-1C99-4324-BC9E-FB02872B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F554-7ED8-40EC-82F5-DB8BC11C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C340-A033-41B4-BD58-B18D8F7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03EE-6802-4BAA-B1E6-B9A6B59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2060-C293-4506-A38E-942EAFD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5976D-45C9-4860-BD6C-5F7256A3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D6B2-A87E-4995-81DD-A9A5764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A3B5-A182-415A-A4F0-B85281B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961F-6BE8-4E49-8503-C55F589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2900-D79E-4566-873C-820B1B3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B3-9567-4F35-9968-BB7D4A9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FAB6-F6B8-44B7-98B4-4FD5A8F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9248-E7EF-4953-8076-9A35BE9D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E311-118D-468D-B896-0077616B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0127-9C61-4B5C-9467-5539274B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61BD-F7D0-475F-B626-BB2FB92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B13B-01BF-4627-BE59-13DFE78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5E8F-9306-4D40-90C0-556FDE36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2D3D-0DBC-4CDD-94C3-144C137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0E420-7CA4-4440-A9A2-92992BD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D0570-109A-4BF9-9CC0-97E74AE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DDE-521E-4EAD-A4E5-F4D77227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8E2AB-E37E-4BE4-8593-439EB1A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DBFF9-A572-418D-99C9-5F029F3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3371-0329-4802-83A9-EFBB8CFB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FA910-7658-4B43-A2F9-B814DA7A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05F19-5FFE-4066-88A5-A91CFE4D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CB08-384C-41B2-96F5-9B06CDA8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ED69-8E7B-4B99-AED6-BDCA5A60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0BAE-8E0F-48BB-B166-3C15876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55F6-18A7-4B45-9FA9-93AEFA29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8F1A0-FF85-45E3-8587-617B77A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13B-14B7-45AF-8ED5-44F59D1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ACC3-D909-4AAA-9C75-E4B3644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C504B-2D10-4CDB-B5BE-D5A0CD9F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1DCA-F6BC-42F2-94A6-9F5DB16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F76EC-F789-4DE3-836D-C04394A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10CF-2958-4997-8A87-4390BF11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0C2F-B701-4CD8-92B4-23699781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6540-F334-46E0-96C9-211A3AAB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B158B-F65E-401C-9C50-76C3A173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1F3AB-D5A5-4BF9-A897-2D1347D5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FB9F3-03C2-4EAE-A839-E5413B7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6E2-A561-4D6C-AC65-BBA928D49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478-F522-4F9A-A597-0EB831F0D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1161-D70E-4BF4-A39A-2C5FFF569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D9C-2F86-4C10-A7C0-86CFFD760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90AD-5A1D-4FB5-817F-1D43248A2D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A308-4DEA-4439-A8EC-2CA8F833E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50C-AC42-443D-9C19-236D156B3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FD8-A4CA-4342-9E0F-0ABBFEBFC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AA8-7590-43AF-B4F9-4F3C6021E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2DF-93C2-47BE-AE2D-3FBABA267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7CB3-5EB1-4E6D-818C-564BB77F58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376-3090-4746-BF2B-F871A0E72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itrogenorder.org/experiment/dblreplace/PbI3.gif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HAT IS A DOUBLE REPLACEMENT REACTION?  LETS FIND OU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VERII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KA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RI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Double Replacement Reac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i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hemical reaction between two compounds where the positive ion of one compound is exchanged with the positive ion of another compou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g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‑‑‑‑&gt; Ag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+ K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3(aq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reaction is between lead nitrate and potassium iodide. Both of these reaction form colorless solu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nitrogenorder.org/experiment/dblreplace/PbI3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olcano experimen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3" descr="volcano.gif"/>
          <p:cNvPicPr/>
          <p:nvPr/>
        </p:nvPicPr>
        <p:blipFill>
          <a:blip r:embed="rId1"/>
          <a:stretch/>
        </p:blipFill>
        <p:spPr>
          <a:xfrm>
            <a:off x="3557520" y="2727360"/>
            <a:ext cx="1990800" cy="2171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5"/>
          <p:cNvSpPr/>
          <p:nvPr/>
        </p:nvSpPr>
        <p:spPr>
          <a:xfrm>
            <a:off x="2057400" y="1447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that shows decomposition, oxidation and rock cycles . It also shows Double Replacement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hyperphysics.phy-astr.gsu.edu/hbase/chemical/reactype.html#c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thefreedictonary.co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ww.howstuffworks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cornerstonevalues.org/img/volcano.gi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96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08:51Z</dcterms:created>
  <dc:creator>cl12dostickk</dc:creator>
  <dc:description/>
  <dc:language>en-US</dc:language>
  <cp:lastModifiedBy>cl12dostickk</cp:lastModifiedBy>
  <dcterms:modified xsi:type="dcterms:W3CDTF">2009-02-17T15:14:55Z</dcterms:modified>
  <cp:revision>10</cp:revision>
  <dc:subject/>
  <dc:title>Double Replacement Reaction</dc:title>
</cp:coreProperties>
</file>