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EDAF-EB60-4E3D-960C-13BD190D9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83E8-9255-4933-BF78-6FED9656F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8C8D7D-C98F-4105-B68B-B8B71F4B4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EDC2F6-4E31-4C80-ACAD-F462091C5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E9D05A-133D-4199-831C-7B8A99B6F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7C9AB6-B74C-4C2C-8FCF-5D8EED39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33DD99-5C50-4D93-8C76-FE7DA109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C5F256-E357-4759-AEA0-2F582B60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CE68C2-D867-4942-9EE1-ECAF25095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737E6B-DA5A-41F7-8BF9-D66E35776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C48538-48ED-422F-B18C-BD2283080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98A1EE-B688-4E2B-9F71-5B2228D46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F58E-B158-48EE-86D8-99D5644DF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379E0F-C1B5-4576-872D-DA5A0B96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71A78A-6427-4A1F-8A3C-53A4BE149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E673EF-14AC-4492-83AE-07B9AD37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CC48D5-E1FD-44D6-914B-1B3B86E75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3213C3-C76E-4BAC-B629-0EB877005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3803AA-7153-4FDC-8C7D-B4DF3852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A84F55-3381-40AC-8C88-B856C58C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C2A778-4AB4-4CD4-9A51-5CC36520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C660DA-CB58-4C72-866D-47A0A605D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32F655-12C8-4B57-B592-E7769A344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7CB3-CB3A-4EBB-93E8-5F843CFC3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2865B1-1CAE-40C7-9067-06A03BB3B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626678-BB1E-418F-BE1E-8F82560E3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74E360-DD06-4E7C-A737-5B9C08493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93F317-642D-472E-99BC-87034EE86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34D9E4-3058-4952-BC6B-E4450A6D0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F3948F-C6A4-4126-968F-42D97058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3F20A2-67E6-40DA-A1AA-89B3809A1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FE456A-D351-4F5E-9742-DA136D4A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61AF6E-139C-4579-8ACE-F7EFB7C1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0921FD-3175-4B76-8D3E-6A0051EE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1440A-5A44-4D11-A6DC-0E1CB9020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98E0DF-B24C-4C81-B2D7-D9549FE00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646FA9-1D4F-4556-9470-C8EE8B465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0B5B8E-A746-4FA7-AAA7-5B9471F3E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091815-CB84-401D-B011-20FE89569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601DC5-4E07-46C0-B837-9ABAC502B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222EAF-57DC-4ACC-9948-08EDBA777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296DE8-B8E6-463B-BB54-BACFB5755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5AE593-4167-4A67-BC51-E2B191039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8CBA79-8F9C-4B11-A38A-8ACE1C36B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4773B7-970B-4699-9737-59AE3B38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B301A-FDE7-4ADA-A3AE-1B7554814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1AF227-CCA2-4DE6-AFDE-760CCCDF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EBB739-4C20-42D8-BAFF-178C5E4B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0C9241-F797-4DA9-A725-6D27C9A06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91E597-C5A2-4EB2-851D-58833964E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FFAD09-E79C-4C03-919B-0B8C26D4C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58C94-72BD-47F3-9819-5DBC2E1F1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45067-6DD8-4457-8CE5-9083E0333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4B60D-F028-4C56-95AA-00D82C641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46E64-6DFD-4DE4-81DA-C864CD9B4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EB5B1-3367-4498-9B6B-27845EAB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2C4B-E39B-4FA6-B254-DA5DD24C3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DC24B-D93A-4BC7-B6C6-1352A0B6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09A10-B04E-4BFD-B275-383EEB5A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AC825-5736-430E-91BE-1A91015F9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35D3A-6E85-4C4F-BFEA-E3AE20BCE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16093-90E1-435D-8E29-465036CEB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7F6CB-4D1A-4CA0-8C57-EBD58DD59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2B44A-D01B-428D-83D8-56E44C9FC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7BFC5-D233-40F8-A6FF-00D0F26C2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77775-CF01-4419-A914-A031D8E20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B84F2-61CB-48F2-8767-EBC4569F7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1637-9513-4469-B198-C3A53AA0D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11844-8276-443A-BE59-1F4ED85BC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29054-5A70-4F3B-9543-1793DEC4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CEF53-DA3F-43DA-9D36-261C3479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69BCF-0D27-4E2B-BC62-DDD09880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A807D-81DA-4451-BEA7-2C03CF8A4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30E7D-743D-46E4-95E3-417FBEA20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2A364-9267-41FF-A074-D7ECCB3A2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8D569-F833-4A3E-914A-32C371C1A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0613C-6193-44F6-8732-F37ACFA38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CA395-B2D3-434E-8087-1651B89E3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BBBC-BFE3-4691-A7E0-4BB2F4A86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4E472-8559-4A7D-A3CE-6FF011BC0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CAD09-8F62-42E5-84EE-A9AA3B250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92D9B-8922-407E-AB05-0227AE278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F1302-08C0-4C02-8F06-7100F7AD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DC38D-5FD0-4EA7-816A-AAA73748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41E47-B6B4-4FDB-9C07-8F3BC1F7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5B535-C10F-417B-9AE4-5D5A2E462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1AA66-66D8-46A2-8148-682C2C2CA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5FB0A-EBEC-4381-8C4A-25918DF95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AD7C1-5541-4DB7-97A0-C5FD1FAC3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B9DE-55A9-43B0-A8D4-2A7353CC2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32B74-389F-49B6-8CEF-766D5013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D5B7A-EC61-47D3-8D86-F441D44C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944EE-6504-4003-B5B5-112CD0B7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2B62F-9413-439D-82AB-987D96B75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7FCAA-9245-4DB5-A2AF-DA2168568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BCEAD-BEF2-4559-B3C2-8A8882F7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D893E-B9E1-45DD-887D-4BE8D578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3945D-C082-40BD-82B9-4EA90190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E69BA-50E8-4B99-B61F-9AF48CAB1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07FB6-70D8-4858-AF1D-8F802E412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DC93-2990-4173-85A6-BE3F1E045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9F3FA-C580-4541-90E6-44B7062F7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26836-0523-4CAC-AC0F-11E3A2CAE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87DC1-D3B2-4755-8C19-57BC748CE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454648-A3FF-4EA1-8AFD-042C65619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1263F-60CD-414F-B64B-1B6689979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3A3CF-0266-494D-AAD7-2BD1C2F18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5F165-3DBC-4AED-A274-94E52F4CA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5D127-1A9E-44FE-A07C-E2C0557C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A2670B-BFB9-4DEA-BC5B-51B761A8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DC5CD-F416-41D8-BB68-40F3572E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C2FE-1C48-490A-B7F6-6E5144CF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ECD396-EDDB-492E-848F-EE1793F80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721BB-C001-48C8-8BE7-4765241F9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E2890-8BD9-4F06-8DB8-25C103DB9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9ECDC-F5F6-4AEE-B264-7F2029459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524C2F-9586-4249-A195-B5E50A8B9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96DBF7-0B69-4B4C-A6CD-27AA8B768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DDA515-453E-4589-8FA8-EFFCC47C1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9DD32-031E-46B9-BA1F-560721507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86A40-FFEA-43EB-AC34-45F73BAA5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FB2DB-9F68-4151-A773-57BB2A22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CA9B-6213-449C-87E4-BA30A2E0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9B35E-245D-48E9-ABD8-E8A29F6E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63DED-8AF0-4306-B368-A929C34B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13C68F-4B85-41C2-AB36-1C176DD5F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259B2B-62EC-4F7A-85D9-7E167B458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ECEC38-12FD-4B16-AC37-00AE82093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2569F0-700F-46E3-8308-0F70939D1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12758D-D5A1-476E-81F7-C78A49F04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5C5C3F-7C12-485C-BF1B-9A758481A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9408E3-94F9-49E4-B3B3-34C356DD4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0F4096-8CC6-450A-B742-C279EE258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3FC4-8C69-45D0-839F-3C9AB020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B0F5A8-1B0E-41EB-9443-BB3B34C1F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EECDF1-DB9F-44B6-A210-6B5C73E9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6B02B3-C4C8-4649-8A0D-1B17AD6F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7DBB7D-48C6-45E6-967D-9434917B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02945D-C91C-4137-8E7C-B7AE45480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2499A5-08AE-47AF-A01A-76B9C5A0B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74C7E0-1DDA-4DC8-B3C9-2B32D9636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D7143C-0873-471B-93AA-D0D5463B0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A56BA7-0384-4CCF-9C5A-78D99A76C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DC4D64-A472-4408-BD99-8BDCC22B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54FF1-3D28-4C1C-8EE1-454F7E1CE2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6DCD5-4468-4897-BE89-30693F4ECE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74089-C6F5-49B2-B584-8772BD939A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16186-884F-4D9E-BEBB-30A8218233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0E3DE-A4D8-4B2D-BF48-63F7660952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3579C-5A47-4843-8E1D-5F52FCD9A6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E4F78-09A5-4569-89FB-AECA08E5CE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FF51E-ED16-46F9-97A5-06F73BA63D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54F6F-9178-49D7-B4AD-133B9665F6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9346-2F21-4389-821D-A3886BFE66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A5695-44D0-4B1D-ABDF-F7584C4D22A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C870C-CFCB-4375-A147-61EDF1130D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nitrogenorder.org/experiment/dblreplace/PbI3.gif" TargetMode="External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WHAT IS A DOUBLE REPLACEMENT REACTION?  LETS FIND OUT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BY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AVERII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KALE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BRET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DARIN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Double Replacement Reaction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hat is it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chemical reaction between two compounds where the positive ion of one compound is exchanged with the positive ion of another compound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xampl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gNO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Georgia"/>
              </a:rPr>
              <a:t>3(aq)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+ KCl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Georgia"/>
              </a:rPr>
              <a:t>(aq)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‑‑‑‑&gt; AgCl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Georgia"/>
              </a:rPr>
              <a:t>(s)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+ KNO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Georgia"/>
              </a:rPr>
              <a:t>3(aq)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s reaction is between lead nitrate and potassium iodide. Both of these reaction form colorless solution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a3d6"/>
                </a:solidFill>
                <a:uFillTx/>
                <a:latin typeface="Georgia"/>
                <a:hlinkClick r:id="rId1"/>
              </a:rPr>
              <a:t>http://www.nitrogenorder.org/experiment/dblreplace/PbI3.gif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Volcano experiment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3" name="Content Placeholder 3" descr="volcano.gif"/>
          <p:cNvPicPr/>
          <p:nvPr/>
        </p:nvPicPr>
        <p:blipFill>
          <a:blip r:embed="rId1"/>
          <a:stretch/>
        </p:blipFill>
        <p:spPr>
          <a:xfrm>
            <a:off x="3557520" y="2727360"/>
            <a:ext cx="1990800" cy="2171520"/>
          </a:xfrm>
          <a:prstGeom prst="rect">
            <a:avLst/>
          </a:prstGeom>
          <a:ln w="0">
            <a:noFill/>
          </a:ln>
        </p:spPr>
      </p:pic>
      <p:sp>
        <p:nvSpPr>
          <p:cNvPr id="614" name="TextBox 5"/>
          <p:cNvSpPr/>
          <p:nvPr/>
        </p:nvSpPr>
        <p:spPr>
          <a:xfrm>
            <a:off x="2057400" y="144792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n example that shows decomposition, oxidation and rock cycles . It also shows Double Replacement Rea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ork Cited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ttp://hyperphysics.phy-astr.gsu.edu/hbase/chemical/reactype.html#c4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ww.thefreedictonary.com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ww.howstuffworks.co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ttp://cornerstonevalues.org/img/volcano.gif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228960" y="1600200"/>
            <a:ext cx="85345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he end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3T15:08:51Z</dcterms:created>
  <dc:creator>cl12dostickk</dc:creator>
  <dc:description/>
  <dc:language>en-US</dc:language>
  <cp:lastModifiedBy>cl12dostickk</cp:lastModifiedBy>
  <dcterms:modified xsi:type="dcterms:W3CDTF">2009-02-17T15:14:55Z</dcterms:modified>
  <cp:revision>10</cp:revision>
  <dc:subject/>
  <dc:title>Double Replacement Reaction</dc:title>
</cp:coreProperties>
</file>