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E472-688B-443F-B8F8-28A9B1E6B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29FC-72AA-4579-B362-268013DB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B0A2C4-E5C1-4048-9C0A-4B5877FC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8F3ADA-DD9F-4D31-B71E-3D898CB6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298058-1A34-45A6-A534-8776B77C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6CFF7B-0EF1-43D9-94B9-285D8A73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B326A0-EF73-4AC1-85B4-39A6683B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C97BD9-6600-4134-8EAB-D7976A36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E5099E-5526-4469-8493-A0CAB6EA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1C802D-EAD4-49D9-B61C-308F6386D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7EEFAB-6143-47B7-8392-8AB0F02C1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BD5F8D-5A7C-46CD-9B66-C123C6752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67C3-084F-4155-8A68-B245D605D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6DFF34-278D-4DD8-B9B5-5B4F63B7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6817E8-085D-49DC-84D7-A067CA4F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A93D8B-AFAC-4B9A-8480-C4B69BEA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965762-23DD-49F9-83F1-65E87E1E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BF6D1A-AA35-4793-AD1D-1A820EF0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6C6A98-E2BD-436A-A038-B5054AD6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43CD64-7B0D-4BF9-8810-8B9BD88F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DFEDE2-1A61-478F-B98D-6EA811FE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F8E9B3-1755-4D5E-B8E2-C89A3D4D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BC3FA7-895F-4030-8DE6-268A95E40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F2B3-9FCF-46BF-87FC-D7749E3E7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A46D84-556E-4DB7-AF6B-932F161F6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2892A2-8096-41FF-9A49-DA9A75B60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AB99C-DB72-4520-BCAA-7B083D34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B63453-F240-4F14-9513-23679294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0872D-E3AC-49D9-9C23-A9D40A6D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3B97F-D51B-4737-A14A-5F9B8827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D3844-FF78-4E69-8693-D96EF5F6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F1AD8-31CD-4941-A994-56D5D38C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1CFBB1-0027-4D89-854F-EC5D936B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69DF0-9F9E-41DC-B283-22EB5F56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F575-9222-4CCA-AFDC-EB55A362C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A2083-A403-49F4-9956-F086EDD6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BAAF5C-CCC3-41DF-9E27-E3727FF5C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51968-EBC9-4D3B-B3F5-B6C5460F9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12D6D4-9FED-47C2-9ACE-99BA03749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1DAE70-7E1E-4DB5-BC16-FD85E5DB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776D2F-6589-4BCF-A466-D81655FC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465B39-49D8-4F13-97EF-99524D0A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B2D7A3-285B-48A2-AF78-FF60D9B3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E072FD-44E0-4E28-9D21-0FD0F8A5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4DDFD9-D53F-41CD-B1A1-2E2E145C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7142-4156-4217-AE85-B9D05DA9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B358B6-2DEA-4F11-9D61-3C02D4B6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C86CFF-C733-43EF-BCEC-02C65309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9F17FC-0D1C-4FE4-A967-943881AC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6BA48D-5FB0-48F2-9B43-C1E0E0BBB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F5C7F8-5482-43F3-A8BC-D0AD7BA6E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86A4-5E89-45C5-9A4F-05018240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3119-C902-487D-AE79-39495DFC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356C-89AD-4900-9BB3-EADA9F23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912D-725C-4304-AE4F-2ABB1CAB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87A8-B8FE-471A-B341-338E2E3E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21C7-5FE8-415C-BED4-BD5F0B3B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BD4F-A346-49FC-A1D4-BBDA0F62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E864-15D1-4B7A-98B9-0B6F3D7A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4E4ED-3641-456F-AC34-4AC91DD7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562CD-F3CB-4E29-A505-5B26A1A82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8F38-486F-40CB-A1EF-FE73103E8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BEE9C-DADC-496F-A98B-D75AC6A15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4306F-5278-4549-8233-36220FF8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0EBBF-1343-4FFF-9F5D-F728D430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A84BE-7D57-4EEA-92CD-1CBE4955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C16C0-3998-4713-87D5-B9875344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C9D7-F394-4300-B505-66DE2DC0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7C6E4-0C76-45F3-B9B8-D92DD34E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9770E-449F-4C51-ACCD-A71C7E18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E22BC-D146-4B61-8DAE-2C123C82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5FC71-D7DF-49C3-97B4-A915A585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11268-D4B0-42A2-8419-767E51C4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BF62A-3F7B-4A5D-AE0E-C5378FD2E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53D57-0EA9-4E18-9AD5-9E66E1B96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EC52D-B894-46D5-8160-A8D1F2106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AF959-0BA4-4002-AC19-6C01726E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07E1D-371A-4E30-A702-F3D8715A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F7E1-32FF-494C-B7B8-0B98C95B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EBA0E-62AB-4C24-8ECD-31A91D3C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07E7D-7A3D-4559-B6EC-B665DD3A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02555-D9F5-49D2-87DA-1B4138E0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1EA6C-0FB4-4014-BF87-72C63BA8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704A9-0FD3-48D4-8E26-42A11244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1AF12-B997-489B-B09D-5759FEDD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0B3CB-62DA-4A86-823E-B61C7445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3475B-4CFA-4D64-9E79-77470235D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D000D-01A7-4CF9-98C6-4284147EE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47F90-4A6B-4B53-A102-6831DF220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3B69-9351-4041-AAC0-BE8E2BF1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D35B4-6260-43CF-A7B1-6938EABA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5FCE7-B8C9-4F34-8F3B-EBE744A0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A5350-E66C-4EC0-9FF1-CCC9409C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A1167-499E-44A1-A236-6761D2E7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65378-E1CB-42D6-9A72-F897401F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26D15-F0E4-4E24-B927-2169A980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A1427-6F40-47AC-817E-174DDBAF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9CD1C-7FC5-4B55-88B8-19761FA5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A7EAA-42F0-4FA1-9F45-DB0974E3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91C04-8577-4CD0-96D3-8D50B71DE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5BD7-EA84-447E-B626-C869586E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0CD99-37EC-4B59-B200-E86A9673A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B7E4D-D608-46C7-A551-90C7AC17F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0C3E0-A464-484F-8D24-D32CC190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D8920-58CD-4A59-9456-7355D3E4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5408A-801B-47CF-8893-AF1BAFF9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D2CB9-FEE1-4890-BBFB-5D7FC9D3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B5182-B3F1-43D9-86D4-C6A2059B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B4A2C-8FB5-49DE-B93A-F134A916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04B42-494B-4253-BAA3-F499E665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04C51-8507-4624-8FAE-40647534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CCA0-14F8-4935-902E-A0141656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2D983-54C9-47A8-A783-E12FB6EC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39EAA-2903-48A9-B970-E27A3DBCE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24E44-9C6A-45D2-950F-2FBE7B2E1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3C6A6-123B-47AB-87D6-8F1051072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034B7-B279-43CD-937E-7F5D3700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2F6EB-E262-4A5B-8262-12E70EE0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9D32D-8254-495E-B298-564DE9FF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884A4-60DD-4DB4-93C4-BDBA24CA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28D7E-C688-4C02-A875-3366FF21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A6E13-81B0-4BCA-846D-96CB34DA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876C-D0B0-4AEE-9AEB-2E6AB480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896C1-F65E-472A-A625-A4EC6AF3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4C5FB-798B-4FED-A607-469C356D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063D8-76C0-43B4-9714-36055A04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8081A-A765-4A04-A73F-126EE5048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FC13C-4F9D-4D3E-A5E0-FE7E812B0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2BD2E-CB8D-4672-9426-7E8F9BBE0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5844A-2EA7-4E79-AEC9-FDD2A992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EC176-5818-48A5-9088-20F40046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ABA6C-AF9E-47AD-9EEA-1D441BAF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9AEB6-68E1-4028-8F11-92000551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6870-9314-4DF7-BC0E-C65EB22F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F590C-73BE-4BED-8D20-A457BB3D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3C47C-3C48-4EC8-96A8-D2BD7C96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3BD3D-E3EE-4EDE-BFF6-A7C6F008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A63C8-323F-419A-915D-CFC68F54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C9830-4479-49CA-9D8C-583D16AA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AF24A-38DC-4466-81D6-DC3CF6E9F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4DE42-AA53-438B-95A2-BAF59A5D3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4C148E-0446-4770-9463-D0C3489FF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404A70-EE66-4F58-B797-3ECB51FF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C39500-9447-4130-A43D-F00448B4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3735-6A71-4C35-B904-009C583016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0239-7B62-49B2-B2C2-17BCE8191A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E95B-73EA-49E4-B2E7-2A56CB67B8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99E4-D70C-4A08-9F1D-A744B4FFF7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727E-64F1-4762-9539-5A62161435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5803-7AE4-4D30-BFF3-52BCBC357B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21DD-CEEA-4164-8099-B0A5EF26C6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2724-EAEF-4B6E-925A-B7490E3406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86BA-8370-4AE5-AEBC-BA0B058438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27D0-73E5-40EB-909B-A5260A6080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5470-DD2A-4619-AD45-1C237752D56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F974-2AD3-474F-9FDE-9C551BE794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nitrogenorder.org/experiment/dblreplace/PbI3.gif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WHAT IS A DOUBLE REPLACEMENT REACTION?  LETS FIND OUT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BY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AVERII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KAL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BRET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DARI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Double Replacement Reaction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at is it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chemical reaction between two compounds where the positive ion of one compound is exchanged with the positive ion of another compoun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xampl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gNO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Georgia"/>
              </a:rPr>
              <a:t>3(aq)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+ KCl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Georgia"/>
              </a:rPr>
              <a:t>(aq)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‑‑‑‑&gt; AgCl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Georgia"/>
              </a:rPr>
              <a:t>(s)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+ KNO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Georgia"/>
              </a:rPr>
              <a:t>3(aq)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s reaction is between lead nitrate and potassium iodide. Both of these reaction form colorless solution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http://www.nitrogenorder.org/experiment/dblreplace/PbI3.gif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Volcano experiment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3" name="Content Placeholder 3" descr="volcano.gif"/>
          <p:cNvPicPr/>
          <p:nvPr/>
        </p:nvPicPr>
        <p:blipFill>
          <a:blip r:embed="rId1"/>
          <a:stretch/>
        </p:blipFill>
        <p:spPr>
          <a:xfrm>
            <a:off x="3557520" y="2727360"/>
            <a:ext cx="1990800" cy="2171520"/>
          </a:xfrm>
          <a:prstGeom prst="rect">
            <a:avLst/>
          </a:prstGeom>
          <a:ln w="0">
            <a:noFill/>
          </a:ln>
        </p:spPr>
      </p:pic>
      <p:sp>
        <p:nvSpPr>
          <p:cNvPr id="614" name="TextBox 5"/>
          <p:cNvSpPr/>
          <p:nvPr/>
        </p:nvSpPr>
        <p:spPr>
          <a:xfrm>
            <a:off x="2057400" y="144792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n example that shows decomposition, oxidation and rock cycles . It also shows Double Replacement Re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ork Cite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ttp://hyperphysics.phy-astr.gsu.edu/hbase/chemical/reactype.html#c4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ww.thefreedictonary.com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ww.howstuffworks.co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ttp://cornerstonevalues.org/img/volcano.gif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28960" y="1600200"/>
            <a:ext cx="85345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he en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15:08:51Z</dcterms:created>
  <dc:creator>cl12dostickk</dc:creator>
  <dc:description/>
  <dc:language>en-US</dc:language>
  <cp:lastModifiedBy>cl12dostickk</cp:lastModifiedBy>
  <dcterms:modified xsi:type="dcterms:W3CDTF">2009-02-17T15:14:55Z</dcterms:modified>
  <cp:revision>10</cp:revision>
  <dc:subject/>
  <dc:title>Double Replacement Reaction</dc:title>
</cp:coreProperties>
</file>