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3.png" ContentType="image/pn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D56-D2E4-4404-8BEB-3153B222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C7F-C800-4EEC-92F6-D4D5B206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FEC-CFF0-4B2D-8CE6-60162587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836-4EA2-425D-84BF-3E05BD22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F166-9DA3-4100-B25E-5B20A79C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C550-3422-4A34-9E8B-4D823DD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9E3E-4F37-4C94-9B41-93A9BEF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905C-CE4C-47E9-A1BE-7AB55E2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AFB9-B951-4A46-ABB2-91529F59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8485-CD9C-452C-A5C0-5A7B289C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A83A-4933-4CE2-A99E-5C18DEE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CE6-324A-40F0-B122-7FA8E44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25F0-B3D3-4BE7-B1EB-5EA225E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BB5C-51E9-489E-B0D2-E508F9C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114-B808-4596-8461-32445780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6A67-106C-4E05-92F9-6F628170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67E9-5EC5-4C41-925C-48EB91C9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8BA7-5E50-4F4F-9E48-3EE04A39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E3FD-D100-4715-BD35-476873A0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BD74-0A79-49A7-9AF8-22CE8325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A0CA-58C1-41EF-8738-6A9DCDF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734F-9E71-49EE-88BF-58BFEC4A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437-3628-482A-8B97-7204D17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C2F7-DE7A-46E1-8AB1-F6BAA97C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B651-183E-49C2-999B-1A26E3BA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D0CE-68F4-4CE7-8209-CA4939B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F73D-9278-4D6F-B12A-5E3C28C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DF0E-8C6E-44A2-A5A6-52B38742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A487-37D7-4A35-8D30-95909C7F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E614-8CB5-460E-A55F-76BFD0B3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0F9A-2451-4766-A86D-92BE492F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D7DD-EA53-4E70-8591-0307DC3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DC6A-2DD9-4A87-AA79-89ADA49E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E5F-7F62-4FB5-8F75-192C55F8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ADC7-6EB2-43C7-A776-65F1867B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D248-DA06-429E-85AE-FB50F761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D2E0-C844-4066-A419-74AAF4F1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EE11-04CC-45DF-BC6D-AC02A0CF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D9CA-0F46-4E4E-AAE2-9377FA5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A970-01F1-412E-ABCD-DCD87091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93CF-3353-4E9C-8766-357D4E7F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9ECB-A38C-4852-A337-6A1E8FEE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FC21-94F7-4BF7-B15A-B535F6A6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CA08-252A-48FA-839F-9F24BD5B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E6E-BBB2-4B25-A61D-22CD215D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0912-6BF2-4E6A-BB6A-8F013730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C369-927A-4756-A934-A9005529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7AF0-4998-41C9-827E-3FAD07E6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FC64-AAE7-4885-8A5A-A6F6FCB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3A59-D991-480D-A740-297AB3FA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FE6C-424F-4780-9912-BC518D8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C3BD0-90BD-4A46-9C93-8325740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39BF-66E9-4FB8-A08C-45139CB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89D7-E12D-4B58-9FFB-F1966A7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78421-BA74-4FB1-B3B5-ECE1C6E3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66E-EB86-4CD7-98C1-A2B9009B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B0AFD-0383-4A2C-BD7A-D0C833C5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AFD4-E1C3-4CC1-9E29-5953828D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E234-0D30-4132-97AF-978B0D2C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0B09-D1B9-4550-BB61-2DB6752B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3CEF-F1CE-4A23-8CB2-EABE3D92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CB632-D30E-45F9-8EFC-2F1E22C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6C23A-1082-45C3-8F05-2D6D8DB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31F2B-7F61-473C-B4C8-C17AE03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C232-6D64-4F52-B1CC-9E88A72D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CB2F6-40A5-48B6-9326-AF6FE811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8B6-1D52-49F0-9A1D-1F10AAEA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0718-ED80-4810-BE8F-50CB1898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2FF9-A75B-4363-8F3E-2502C01D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A758E-935B-4612-B4FA-6D9C7947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B279-6AC9-47E5-91E9-FF0E4264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9BDBF-60CD-4803-BE72-AA1F50D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C37D-514C-4A55-BD84-09EF3D9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B677-0864-4B07-9F32-0772521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6134F-F892-4340-B596-D1BD9C2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3FDB-6F5A-4543-BBAA-5E4B47E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19DE-634E-4558-A68E-6468DFF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860-F449-4FD3-BBE3-334A0DE5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0B71-9518-4B13-B181-05E6C17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C8369-7F90-48E6-91C9-703FD07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4FA1-9E43-40B5-8743-C5747D8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63A64-6CAE-4D6A-AC20-67B4C17D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83301-CAAC-4F43-B0F2-715D94B6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182-1F42-4E61-B27D-A092217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220E-ED8F-43EF-8956-8A4AC261C89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CB27-A52B-4BFC-BAFE-E473529DF7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5BE-60D5-4279-99D7-BCC12CBD8D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C7C4-FAB8-4CED-8DC6-096E5D846D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920-458F-4D9B-9AC5-DB0FAA58D12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DC4-5CD1-4A44-A62C-3B16433A477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D050-5DCE-49F5-A788-674741C932F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assia Enimpa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atrina Tulos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stin Zearf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dy Krissing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10552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hemical reaction between compounds in which the elements in the reactants recombine to form two different compounds, each of the products having one element from each of the reacta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a positive ion, cation, and a negative ion, antion combi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us 4"/>
          <p:cNvSpPr/>
          <p:nvPr/>
        </p:nvSpPr>
        <p:spPr>
          <a:xfrm>
            <a:off x="1523880" y="5029200"/>
            <a:ext cx="1905120" cy="182880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6"/>
          <p:cNvCxnSpPr/>
          <p:nvPr/>
        </p:nvCxnSpPr>
        <p:spPr>
          <a:xfrm>
            <a:off x="3733560" y="5791320"/>
            <a:ext cx="1524600" cy="2160"/>
          </a:xfrm>
          <a:prstGeom prst="straightConnector1">
            <a:avLst/>
          </a:prstGeom>
          <a:ln w="4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Minus 8"/>
          <p:cNvSpPr/>
          <p:nvPr/>
        </p:nvSpPr>
        <p:spPr>
          <a:xfrm>
            <a:off x="5486400" y="5791320"/>
            <a:ext cx="1981080" cy="15228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51460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8160" y="5562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2" descr=""/>
          <p:cNvPicPr/>
          <p:nvPr/>
        </p:nvPicPr>
        <p:blipFill>
          <a:blip r:embed="rId2"/>
          <a:stretch/>
        </p:blipFill>
        <p:spPr>
          <a:xfrm>
            <a:off x="401760" y="1768320"/>
            <a:ext cx="8291520" cy="463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cl12enimpahn\Local Settings\Temporary Internet Files\Content.IE5\6G601VPN\MPj04373680000[1].jpg"/>
          <p:cNvPicPr/>
          <p:nvPr/>
        </p:nvPicPr>
        <p:blipFill>
          <a:blip r:embed="rId3"/>
          <a:stretch/>
        </p:blipFill>
        <p:spPr>
          <a:xfrm>
            <a:off x="1066680" y="2819520"/>
            <a:ext cx="1981440" cy="2562120"/>
          </a:xfrm>
          <a:prstGeom prst="rect">
            <a:avLst/>
          </a:prstGeom>
          <a:ln w="0">
            <a:noFill/>
          </a:ln>
        </p:spPr>
      </p:pic>
      <p:cxnSp>
        <p:nvCxnSpPr>
          <p:cNvPr id="316" name="Straight Arrow Connector 10"/>
          <p:cNvCxnSpPr/>
          <p:nvPr/>
        </p:nvCxnSpPr>
        <p:spPr>
          <a:xfrm>
            <a:off x="3428640" y="3200400"/>
            <a:ext cx="1524600" cy="2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pic>
        <p:nvPicPr>
          <p:cNvPr id="317" name="Rectangle 12" descr=""/>
          <p:cNvPicPr/>
          <p:nvPr/>
        </p:nvPicPr>
        <p:blipFill>
          <a:blip r:embed="rId4"/>
          <a:stretch/>
        </p:blipFill>
        <p:spPr>
          <a:xfrm>
            <a:off x="3571920" y="1652760"/>
            <a:ext cx="6248520" cy="314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13d"/>
              </a:solidFill>
              <a:latin typeface="Corbel"/>
            </a:endParaRPr>
          </a:p>
        </p:txBody>
      </p:sp>
      <p:pic>
        <p:nvPicPr>
          <p:cNvPr id="319" name="Content Placeholder 3" descr="DoubleReplacement2.jpg"/>
          <p:cNvPicPr/>
          <p:nvPr/>
        </p:nvPicPr>
        <p:blipFill>
          <a:blip r:embed="rId1"/>
          <a:stretch/>
        </p:blipFill>
        <p:spPr>
          <a:xfrm>
            <a:off x="533520" y="2286000"/>
            <a:ext cx="81072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4"/>
          <p:cNvGrpSpPr/>
          <p:nvPr/>
        </p:nvGrpSpPr>
        <p:grpSpPr>
          <a:xfrm>
            <a:off x="1133640" y="371520"/>
            <a:ext cx="6346800" cy="1672560"/>
            <a:chOff x="1133640" y="371520"/>
            <a:chExt cx="6346800" cy="1672560"/>
          </a:xfrm>
        </p:grpSpPr>
        <p:pic>
          <p:nvPicPr>
            <p:cNvPr id="321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371520"/>
              <a:ext cx="63468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71600" y="609480"/>
              <a:ext cx="5867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</a:rPr>
                <a:t>Example!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Straight Arrow Connector 6"/>
          <p:cNvCxnSpPr/>
          <p:nvPr/>
        </p:nvCxnSpPr>
        <p:spPr>
          <a:xfrm flipH="1">
            <a:off x="4645800" y="839880"/>
            <a:ext cx="3960" cy="8388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4" name="Straight Arrow Connector 8"/>
          <p:cNvCxnSpPr/>
          <p:nvPr/>
        </p:nvCxnSpPr>
        <p:spPr>
          <a:xfrm flipH="1">
            <a:off x="7085880" y="761040"/>
            <a:ext cx="1143720" cy="10674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837000" y="1066680"/>
            <a:ext cx="762840" cy="9151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cl12enimpahn\Local Settings\Temporary Internet Files\Content.IE5\84J2OIQR\MPj03901260000[1].jpg"/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2610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 rot="20256600">
            <a:off x="447480" y="601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6231"/>
                </a:solidFill>
                <a:latin typeface="Arial"/>
              </a:rPr>
              <a:t>Example 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905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KI  </a:t>
            </a:r>
            <a:r>
              <a:rPr b="0" lang="en-US" sz="68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Pb(NO 3)</a:t>
            </a: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otassium Iodide +Lead Nitr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 a double replacement reaction, the two compounds react and new ones cre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Explosion 1 5"/>
          <p:cNvSpPr/>
          <p:nvPr/>
        </p:nvSpPr>
        <p:spPr>
          <a:xfrm>
            <a:off x="2971800" y="3505320"/>
            <a:ext cx="2895480" cy="2209680"/>
          </a:xfrm>
          <a:prstGeom prst="irregularSeal1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5740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llow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the new substanc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200400" y="3809880"/>
            <a:ext cx="213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352680" y="39625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52280" y="16002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s.howstuffworks.com/hsw/14750-simply-science-double-replacement-reactions-vide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: http://www.marymount.k12.ny.us/marynet/stwbwk04/04flash/zb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potassium+iodide&amp;gbv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gbv=2&amp;hl=en&amp;safe=active&amp;q=lead+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2:37Z</dcterms:created>
  <dc:creator>cl12enimpahn</dc:creator>
  <dc:description/>
  <dc:language>en-US</dc:language>
  <cp:lastModifiedBy>cl12enimpahn</cp:lastModifiedBy>
  <dcterms:modified xsi:type="dcterms:W3CDTF">2009-02-18T20:53:28Z</dcterms:modified>
  <cp:revision>17</cp:revision>
  <dc:subject/>
  <dc:title>Double Cell Replacement</dc:title>
</cp:coreProperties>
</file>