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explode.wav" ContentType="audio/x-wav"/>
  <Override PartName="/ppt/media/image13.png" ContentType="image/png"/>
  <Override PartName="/ppt/media/image1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859-50E6-455C-9C52-E50229D8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5DA-E9B6-4FE8-A83A-C4782A16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7D0-56B5-465D-8837-32E3D400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B83-D35E-4A68-A11D-B2B4E3A5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9833-41E0-409C-8BE4-435C6CCF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14AE-F6F2-4E12-BDD6-C219875A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A53B-A5D5-4991-999C-1C703AA2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47A3-875F-4D3E-ABC3-7333D742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46A5-D2EE-49FA-8ECF-7233C5CB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7863-F9C1-4E9D-97D8-4851C5D6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9444-0CAB-4622-BC70-530A4C43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7B6-21B2-4A4F-A134-68A3BA23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CA67-8B56-4A1B-9AC9-311EA775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0248-330A-46D0-ABF5-476E3BD2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7648-EA88-4A43-94C2-20E4D112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9D9A-C1B8-4CEB-98FE-53F335F1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949F-0B91-46A3-A361-93C53622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C1EED-AACD-4AA2-AD9C-E00FFD63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2BDA-939B-4603-B304-4E39C87F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07D1-8F0F-440F-99A3-FE9AB888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997B2-C948-4DC2-92B0-CCBC1E98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D0BDB-1837-4506-81E2-5BDFB731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0C2-FF1C-43A8-BCD9-E955AEDD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C5AA8-A259-4B59-8AE6-C95A3514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A4ED-60A9-4BFB-9D1E-CB5249EB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A00A4-A04F-4136-A68B-AD97D892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620B1-59F4-4CC6-B812-0EA50D0F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97C96-2A17-47DA-8EDB-951FB7D2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76D8B-C677-4DA1-85B0-7730ADBC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8E86-2546-488C-AD20-DC854257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C3EC-10E0-486D-A97D-115674CC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285D4-1187-4489-815B-80AABD1C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C0B09-7416-49B9-82C3-C0B868FF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72F-8201-402C-97E2-2842AB51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FD5A8-4385-4F02-9C2A-F6C0CFDB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1DE2D-AD32-4325-8202-B8FB26FF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A8038-ABAC-479C-AA54-BD987DCF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51EA4-D1A3-47C5-87DA-481A7A63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644D7-8266-4AAE-B0D1-F2CDFB9A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BE7C4-ED32-488F-9BEF-CAA13BF9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6DD0E-5789-4A0C-BE5E-6709AA0C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A898F-88EA-48BB-81AB-A9ADB45F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C6B58-1D65-42D9-82D2-45D1861A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26E26-01B9-4EBA-B9AF-2BA80280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AF3-C214-4AC9-A6F3-92E99B43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53B5A-4B94-455F-9588-EA81B4D6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7AD9B-62AB-42C8-9078-E6B35CAD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D502D-FE9F-487D-A1D9-67098C3E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911B9-D095-440F-A18D-1A073410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B7CFF-47E0-48A2-9CF7-9030DD54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9A704-8F8B-4333-9A2F-AF109FAC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5A783-48CE-4F22-BE78-7548F918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41C4A-279A-4CA8-98F5-79E75708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40398-CBDB-4533-9755-6D0C4D4B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97DE0-B1FB-4938-BF80-B73B7799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A82-F8A7-46DE-BE32-103AE47A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11F96-F906-4025-BCF2-6E023F08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A6079-1179-4A2D-95A1-ECA7B776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91F4E-3C05-46E0-83E9-0F05440D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39E55-DD4A-43B1-93AE-4967C36D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5D40D-9FFA-4421-9D72-7B519D95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235E5-5F3C-4B79-9BBD-165973BB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1D592-77DA-4359-B0C0-897CEBA8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401A4-4F3F-4B0D-8F50-9533903C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24BCD-0BAC-47A8-A74A-F417617A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ED560-2971-465C-917C-DAE1173E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59F-F3F6-4525-A9E7-6C167826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987C5-E535-4C8C-A1A9-D9992BC4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A7DC4-6A43-49B1-A891-264DCFF3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C2D90-4D72-4CB4-8BF1-1238068E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E2F11-DB87-43EC-9329-C49F6874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4AA77-DDD6-4001-94B6-BBB9429F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A7608-F351-44D5-B9EE-80C29888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37E66-FE93-4524-8ACF-07AB5BCC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C863E-9A53-4125-89C8-FA2AA15D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81BD0-0086-4206-942C-C2115C9E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9D02F-7588-4433-A92B-B83A2435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1A8-0F2B-4DB7-8E56-786E2A9B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57064-CCE9-48F5-BB55-E200C64D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D2586-E5AB-4589-8087-2685F5D7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D4BC1-CE9D-4811-BC2E-504A3B0D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5B2A7-034D-4634-B5F5-D23B3E7D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80AA5-A833-4335-A41D-528ABA31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01C-E53A-4C63-AE97-D83B0F81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61C0-9E64-4D86-836C-686722ABF41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0B34-C89C-4AD2-B822-7F884859DF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2300-8523-47EA-B29E-8385922E6D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46E3-AC8C-41E7-9017-D95BA20CE5B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D98D-089E-4530-A170-F4DB6429A07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B530-33BC-4BC1-9979-C313A2845E3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39D4-8F91-490E-928E-446B37879D2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atassia Enimpa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Katrina Tulos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ustin Zearfo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dy Krissinger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5105520" y="457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2860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chemical reaction between compounds in which the elements in the reactants recombine to form two different compounds, each of the products having one element from each of the reactant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a positive ion, cation, and a negative ion, antion combin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us 4"/>
          <p:cNvSpPr/>
          <p:nvPr/>
        </p:nvSpPr>
        <p:spPr>
          <a:xfrm>
            <a:off x="1523880" y="5029200"/>
            <a:ext cx="1905120" cy="1828800"/>
          </a:xfrm>
          <a:prstGeom prst="pi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6"/>
          <p:cNvCxnSpPr/>
          <p:nvPr/>
        </p:nvCxnSpPr>
        <p:spPr>
          <a:xfrm>
            <a:off x="3733560" y="5791320"/>
            <a:ext cx="1524600" cy="2160"/>
          </a:xfrm>
          <a:prstGeom prst="straightConnector1">
            <a:avLst/>
          </a:prstGeom>
          <a:ln w="48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0" name="Minus 8"/>
          <p:cNvSpPr/>
          <p:nvPr/>
        </p:nvSpPr>
        <p:spPr>
          <a:xfrm>
            <a:off x="5486400" y="5791320"/>
            <a:ext cx="1981080" cy="152280"/>
          </a:xfrm>
          <a:prstGeom prst="pi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2514600" y="53341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0"/>
          <p:cNvSpPr/>
          <p:nvPr/>
        </p:nvSpPr>
        <p:spPr>
          <a:xfrm>
            <a:off x="5798160" y="5562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2" descr=""/>
          <p:cNvPicPr/>
          <p:nvPr/>
        </p:nvPicPr>
        <p:blipFill>
          <a:blip r:embed="rId2"/>
          <a:stretch/>
        </p:blipFill>
        <p:spPr>
          <a:xfrm>
            <a:off x="401760" y="1768320"/>
            <a:ext cx="8291520" cy="4638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Documents and Settings\cl12enimpahn\Local Settings\Temporary Internet Files\Content.IE5\6G601VPN\MPj04373680000[1].jpg"/>
          <p:cNvPicPr/>
          <p:nvPr/>
        </p:nvPicPr>
        <p:blipFill>
          <a:blip r:embed="rId3"/>
          <a:stretch/>
        </p:blipFill>
        <p:spPr>
          <a:xfrm>
            <a:off x="1066680" y="2819520"/>
            <a:ext cx="1981440" cy="2562120"/>
          </a:xfrm>
          <a:prstGeom prst="rect">
            <a:avLst/>
          </a:prstGeom>
          <a:ln w="0">
            <a:noFill/>
          </a:ln>
        </p:spPr>
      </p:pic>
      <p:cxnSp>
        <p:nvCxnSpPr>
          <p:cNvPr id="316" name="Straight Arrow Connector 10"/>
          <p:cNvCxnSpPr/>
          <p:nvPr/>
        </p:nvCxnSpPr>
        <p:spPr>
          <a:xfrm>
            <a:off x="3428640" y="3200400"/>
            <a:ext cx="1524600" cy="216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pic>
        <p:nvPicPr>
          <p:cNvPr id="317" name="Rectangle 12" descr=""/>
          <p:cNvPicPr/>
          <p:nvPr/>
        </p:nvPicPr>
        <p:blipFill>
          <a:blip r:embed="rId4"/>
          <a:stretch/>
        </p:blipFill>
        <p:spPr>
          <a:xfrm>
            <a:off x="3571920" y="1652760"/>
            <a:ext cx="6248520" cy="314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723920"/>
            <a:ext cx="81835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13d"/>
              </a:solidFill>
              <a:latin typeface="Corbel"/>
            </a:endParaRPr>
          </a:p>
        </p:txBody>
      </p:sp>
      <p:pic>
        <p:nvPicPr>
          <p:cNvPr id="319" name="Content Placeholder 3" descr="DoubleReplacement2.jpg"/>
          <p:cNvPicPr/>
          <p:nvPr/>
        </p:nvPicPr>
        <p:blipFill>
          <a:blip r:embed="rId1"/>
          <a:stretch/>
        </p:blipFill>
        <p:spPr>
          <a:xfrm>
            <a:off x="533520" y="2286000"/>
            <a:ext cx="8107200" cy="2611440"/>
          </a:xfrm>
          <a:prstGeom prst="rect">
            <a:avLst/>
          </a:prstGeom>
          <a:ln w="0">
            <a:noFill/>
          </a:ln>
        </p:spPr>
      </p:pic>
      <p:grpSp>
        <p:nvGrpSpPr>
          <p:cNvPr id="320" name="TextBox 4"/>
          <p:cNvGrpSpPr/>
          <p:nvPr/>
        </p:nvGrpSpPr>
        <p:grpSpPr>
          <a:xfrm>
            <a:off x="1133640" y="371520"/>
            <a:ext cx="6346800" cy="1672560"/>
            <a:chOff x="1133640" y="371520"/>
            <a:chExt cx="6346800" cy="1672560"/>
          </a:xfrm>
        </p:grpSpPr>
        <p:pic>
          <p:nvPicPr>
            <p:cNvPr id="321" name="TextBox 4" descr=""/>
            <p:cNvPicPr/>
            <p:nvPr/>
          </p:nvPicPr>
          <p:blipFill>
            <a:blip r:embed="rId2"/>
            <a:stretch/>
          </p:blipFill>
          <p:spPr>
            <a:xfrm>
              <a:off x="1133640" y="371520"/>
              <a:ext cx="634680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371600" y="609480"/>
              <a:ext cx="5867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7030a0"/>
                  </a:solidFill>
                  <a:latin typeface="Arial"/>
                </a:rPr>
                <a:t>Example!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3" name="Straight Arrow Connector 6"/>
          <p:cNvCxnSpPr/>
          <p:nvPr/>
        </p:nvCxnSpPr>
        <p:spPr>
          <a:xfrm flipH="1">
            <a:off x="4645800" y="839880"/>
            <a:ext cx="3960" cy="8388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324" name="Straight Arrow Connector 8"/>
          <p:cNvCxnSpPr/>
          <p:nvPr/>
        </p:nvCxnSpPr>
        <p:spPr>
          <a:xfrm flipH="1">
            <a:off x="7085880" y="761040"/>
            <a:ext cx="1143720" cy="10674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325" name="Straight Arrow Connector 10"/>
          <p:cNvCxnSpPr/>
          <p:nvPr/>
        </p:nvCxnSpPr>
        <p:spPr>
          <a:xfrm>
            <a:off x="837000" y="1066680"/>
            <a:ext cx="762840" cy="91512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Documents and Settings\cl12enimpahn\Local Settings\Temporary Internet Files\Content.IE5\84J2OIQR\MPj03901260000[1].jpg"/>
          <p:cNvPicPr/>
          <p:nvPr/>
        </p:nvPicPr>
        <p:blipFill>
          <a:blip r:embed="rId2"/>
          <a:stretch/>
        </p:blipFill>
        <p:spPr>
          <a:xfrm>
            <a:off x="2743200" y="2209680"/>
            <a:ext cx="3657600" cy="26100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28" name="TextBox 3"/>
          <p:cNvSpPr/>
          <p:nvPr/>
        </p:nvSpPr>
        <p:spPr>
          <a:xfrm rot="20256600">
            <a:off x="447480" y="60192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6231"/>
                </a:solidFill>
                <a:latin typeface="Arial"/>
              </a:rPr>
              <a:t>Example 2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0" y="1905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3" marL="1216080" indent="-182520" algn="ctr">
              <a:spcBef>
                <a:spcPts val="17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0000"/>
                </a:solidFill>
                <a:latin typeface="Corbel"/>
              </a:rPr>
              <a:t>KI  </a:t>
            </a:r>
            <a:r>
              <a:rPr b="0" lang="en-US" sz="6800" spc="-1" strike="noStrike">
                <a:solidFill>
                  <a:srgbClr val="000000"/>
                </a:solidFill>
                <a:latin typeface="Corbel"/>
              </a:rPr>
              <a:t>+ </a:t>
            </a:r>
            <a:r>
              <a:rPr b="0" lang="en-US" sz="6800" spc="-1" strike="noStrike">
                <a:solidFill>
                  <a:srgbClr val="ff0000"/>
                </a:solidFill>
                <a:latin typeface="Corbel"/>
              </a:rPr>
              <a:t>Pb(NO 3)</a:t>
            </a:r>
            <a:endParaRPr b="0" lang="en-US" sz="6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Potassium Iodide +Lead Nitrat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17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n a double replacement reaction, the two compounds react and new ones crea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Explosion 1 5"/>
          <p:cNvSpPr/>
          <p:nvPr/>
        </p:nvSpPr>
        <p:spPr>
          <a:xfrm>
            <a:off x="2971800" y="3505320"/>
            <a:ext cx="2895480" cy="2209680"/>
          </a:xfrm>
          <a:prstGeom prst="irregularSeal1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2057400" y="39625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llow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[ the new substance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3200400" y="3809880"/>
            <a:ext cx="213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1"/>
          <p:cNvSpPr/>
          <p:nvPr/>
        </p:nvSpPr>
        <p:spPr>
          <a:xfrm>
            <a:off x="3352680" y="3962520"/>
            <a:ext cx="213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6765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152280" y="160020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deos.howstuffworks.com/hsw/14750-simply-science-double-replacement-reactions-vide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: http://www.marymount.k12.ny.us/marynet/stwbwk04/04flash/zb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com/images?hl=en&amp;q=potassium+iodide&amp;gbv=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com/images?gbv=2&amp;hl=en&amp;safe=active&amp;q=lead+ni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12:37Z</dcterms:created>
  <dc:creator>cl12enimpahn</dc:creator>
  <dc:description/>
  <dc:language>en-US</dc:language>
  <cp:lastModifiedBy>cl12enimpahn</cp:lastModifiedBy>
  <dcterms:modified xsi:type="dcterms:W3CDTF">2009-02-18T20:53:28Z</dcterms:modified>
  <cp:revision>17</cp:revision>
  <dc:subject/>
  <dc:title>Double Cell Replacement</dc:title>
</cp:coreProperties>
</file>