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explode.wav" ContentType="audio/x-wav"/>
  <Override PartName="/ppt/media/image13.png" ContentType="image/png"/>
  <Override PartName="/ppt/media/image1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ADFC-0FDB-46DE-B0E6-6D871B23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D0D7-8423-49E8-9524-86424BD4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187-6ADB-40BC-AEB6-13E05B22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8A4D-956E-4230-AAB3-31176793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21F8-CEA9-459D-A10A-05EEABA9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3A30-22F4-4C86-A513-53CBB98C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9710-84FF-4C20-97CF-08920FFF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87F0-B59B-4F30-B2B6-BE79C763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651F-FB73-41AD-B9C1-0F0D7202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BD25-B148-4AAF-9A76-3FFE2DA5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C3C0-BC9E-4294-A7AD-97A4143E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CB6F-E3BF-4124-8931-D7667614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9FDC-D909-4FA3-A454-C2541321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88DB-5856-49EB-ACC1-68A5011A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6BBA-889A-4395-8F9B-CF9720D8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214F-C40F-4E89-AB8B-D0F50B3B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6569-6F3D-493F-A00B-48A11DF4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64D71-916C-40A3-BFC6-8E881815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A6382-EC0B-48B7-A2FC-5477C23B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B7F33-67DF-4C05-888C-52EC3B8C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0019F-B8FC-462A-B234-E757CF5C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25F77-240E-4CF7-9D92-82B481D9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83C-3E3F-433D-8411-16B4CD8E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11AC7-F7B0-4CB2-B9B5-55D587C0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594A0-A307-420E-8D4B-81426704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F079D-3DF4-4D09-8A48-17992174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281B2-6B62-492E-99D2-21CA43A9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748C6-B334-4885-A987-BDB8BB1E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85D96-EEC6-4F6A-8E6D-AC755E43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126F0-3037-45D0-93B2-C703785F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32B18-6C6E-4642-B862-5DE11E26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CFA96-3ABD-47C7-944F-B824C887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2BBAE-1035-43DC-9E11-3023B1D2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8153-305F-4EE2-A428-A7F01A21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53FA7-F43B-4AE7-A8C0-A7FB206D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DDCB5-D153-49E6-B065-69945AAD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01F45-FC65-4EA5-91C0-C6E39FE9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33159-31AB-4BD4-8E53-98D4FCF4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6A390-3862-456F-9032-73282230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C05D0-6624-4D43-8740-B030D8E0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FAE3C-C5FE-424E-A6C5-D93D676A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29768-93E0-4D87-BEF0-8B1829EC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C123B-A1C0-4D77-BA2A-F5CE4FA3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76CAA-67B0-408F-B971-EA39952A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F08C-2620-4C1C-8C9A-50ADFD86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BBA1C-6C44-4314-878E-844E7047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F3B6E-E5B7-42EF-84FD-F7A5F0F2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12130-BBB1-403F-A741-5ED1FCAD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2DE02-087B-4114-B521-05DD6D42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43D10-2C32-4567-A02B-F34D03AE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401AC-F3EA-4FED-BC61-46B10A33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2E6C6-EE13-46C8-BA10-C0C60613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2A926-8634-4C0F-852B-1CF1FDC8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02E08-52A1-4B6A-88CA-7CBDC422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58976-A1D7-4FFB-97AA-99151A22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6A35-E77F-4812-8A12-2E501A1E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9D50B-F3F5-4BB3-B96E-821B1946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C2CCB-3E7E-45CF-9505-0F1AED0E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85AE0-DE4A-4CA7-BF8D-E85EC3E4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1ABE5-9523-4E7D-B775-604E75D8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713AB-1ED2-499F-8399-A1E62456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FE853-AD58-4EF2-B5FE-B0722B89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7FAD6-F054-499E-9D6F-D2AA0B3C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B1E8A-1E89-41D0-B9B9-41534103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64CE3-FD2A-4CC3-ADA1-BC28EE6A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2621C-B8E8-41BC-B0E0-EEF8E2EA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9E39-EC3C-4D11-AC98-FDA2F626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89D6A-D3C1-4C50-8B68-5D9CA2AE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5A9F7-8B7F-4B6C-9F53-2D8BBD67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7AFA4-CCA8-484C-A647-2AE12D39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8984D-12E0-44A2-A5B8-C5392F9F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843E9-5D07-4C76-AD5D-B4BA3547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25FB9-02E3-4F68-B2C1-07D0740C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E1B65-4DC0-4CAF-B1BF-08045D8D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56DEB-7FAC-4551-ABFB-672B9999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F0D7A-9A21-413E-940D-8CA955FF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DB97C-C544-44DC-8A84-C72BAB7A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4566-35D4-4CAD-8246-040E6B4C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C7284-EA90-4D74-B4DB-63490116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18BB2-262B-4822-B6B3-8C1DEE31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40D5A-6A51-4898-8676-05CE37E0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CDD65-F9BC-42D1-AC28-DB2DF1AA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615BB-634B-49DA-8A4E-2133A933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1E4E-7E26-4039-ABAA-4ED32869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E6CB-D2A1-4059-BBC7-2738BFFC7C5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0F96-BDA9-44C9-BD18-C1E6F94EAD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A0C3-8F04-4EEE-8327-C861E99048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AFC9-82D5-4DEA-AE39-3C55837B1EF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C13A-BBC2-46BF-BE24-BC20CC41516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64E3-B763-4C9B-B394-BCE5BF8086E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CEF6-3D8B-4DBE-9247-5F9FC3064A6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atassia Enimpah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Katrina Tulos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ustin Zearfos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ody Krissinger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5105520" y="4572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228600" y="16002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chemical reaction between compounds in which the elements in the reactants recombine to form two different compounds, each of the products having one element from each of the reactants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n a positive ion, cation, and a negative ion, antion combin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us 4"/>
          <p:cNvSpPr/>
          <p:nvPr/>
        </p:nvSpPr>
        <p:spPr>
          <a:xfrm>
            <a:off x="1523880" y="5029200"/>
            <a:ext cx="1905120" cy="1828800"/>
          </a:xfrm>
          <a:prstGeom prst="pi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6"/>
          <p:cNvCxnSpPr/>
          <p:nvPr/>
        </p:nvCxnSpPr>
        <p:spPr>
          <a:xfrm>
            <a:off x="3733560" y="5791320"/>
            <a:ext cx="1524600" cy="2160"/>
          </a:xfrm>
          <a:prstGeom prst="straightConnector1">
            <a:avLst/>
          </a:prstGeom>
          <a:ln w="48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0" name="Minus 8"/>
          <p:cNvSpPr/>
          <p:nvPr/>
        </p:nvSpPr>
        <p:spPr>
          <a:xfrm>
            <a:off x="5486400" y="5791320"/>
            <a:ext cx="1981080" cy="152280"/>
          </a:xfrm>
          <a:prstGeom prst="pi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9"/>
          <p:cNvSpPr/>
          <p:nvPr/>
        </p:nvSpPr>
        <p:spPr>
          <a:xfrm>
            <a:off x="2514600" y="53341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0"/>
          <p:cNvSpPr/>
          <p:nvPr/>
        </p:nvSpPr>
        <p:spPr>
          <a:xfrm>
            <a:off x="5798160" y="55627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4" name="Content Placeholder 2" descr=""/>
          <p:cNvPicPr/>
          <p:nvPr/>
        </p:nvPicPr>
        <p:blipFill>
          <a:blip r:embed="rId2"/>
          <a:stretch/>
        </p:blipFill>
        <p:spPr>
          <a:xfrm>
            <a:off x="401760" y="1768320"/>
            <a:ext cx="8291520" cy="4638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C:\Documents and Settings\cl12enimpahn\Local Settings\Temporary Internet Files\Content.IE5\6G601VPN\MPj04373680000[1].jpg"/>
          <p:cNvPicPr/>
          <p:nvPr/>
        </p:nvPicPr>
        <p:blipFill>
          <a:blip r:embed="rId3"/>
          <a:stretch/>
        </p:blipFill>
        <p:spPr>
          <a:xfrm>
            <a:off x="1066680" y="2819520"/>
            <a:ext cx="1981440" cy="2562120"/>
          </a:xfrm>
          <a:prstGeom prst="rect">
            <a:avLst/>
          </a:prstGeom>
          <a:ln w="0">
            <a:noFill/>
          </a:ln>
        </p:spPr>
      </p:pic>
      <p:cxnSp>
        <p:nvCxnSpPr>
          <p:cNvPr id="316" name="Straight Arrow Connector 10"/>
          <p:cNvCxnSpPr/>
          <p:nvPr/>
        </p:nvCxnSpPr>
        <p:spPr>
          <a:xfrm>
            <a:off x="3428640" y="3200400"/>
            <a:ext cx="1524600" cy="216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triangle" w="med"/>
          </a:ln>
        </p:spPr>
      </p:cxnSp>
      <p:pic>
        <p:nvPicPr>
          <p:cNvPr id="317" name="Rectangle 12" descr=""/>
          <p:cNvPicPr/>
          <p:nvPr/>
        </p:nvPicPr>
        <p:blipFill>
          <a:blip r:embed="rId4"/>
          <a:stretch/>
        </p:blipFill>
        <p:spPr>
          <a:xfrm>
            <a:off x="3571920" y="1652760"/>
            <a:ext cx="6248520" cy="314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723920"/>
            <a:ext cx="81835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13d"/>
              </a:solidFill>
              <a:latin typeface="Corbel"/>
            </a:endParaRPr>
          </a:p>
        </p:txBody>
      </p:sp>
      <p:pic>
        <p:nvPicPr>
          <p:cNvPr id="319" name="Content Placeholder 3" descr="DoubleReplacement2.jpg"/>
          <p:cNvPicPr/>
          <p:nvPr/>
        </p:nvPicPr>
        <p:blipFill>
          <a:blip r:embed="rId1"/>
          <a:stretch/>
        </p:blipFill>
        <p:spPr>
          <a:xfrm>
            <a:off x="533520" y="2286000"/>
            <a:ext cx="8107200" cy="2611440"/>
          </a:xfrm>
          <a:prstGeom prst="rect">
            <a:avLst/>
          </a:prstGeom>
          <a:ln w="0">
            <a:noFill/>
          </a:ln>
        </p:spPr>
      </p:pic>
      <p:grpSp>
        <p:nvGrpSpPr>
          <p:cNvPr id="320" name="TextBox 4"/>
          <p:cNvGrpSpPr/>
          <p:nvPr/>
        </p:nvGrpSpPr>
        <p:grpSpPr>
          <a:xfrm>
            <a:off x="1133640" y="371520"/>
            <a:ext cx="6346800" cy="1672560"/>
            <a:chOff x="1133640" y="371520"/>
            <a:chExt cx="6346800" cy="1672560"/>
          </a:xfrm>
        </p:grpSpPr>
        <p:pic>
          <p:nvPicPr>
            <p:cNvPr id="321" name="TextBox 4" descr=""/>
            <p:cNvPicPr/>
            <p:nvPr/>
          </p:nvPicPr>
          <p:blipFill>
            <a:blip r:embed="rId2"/>
            <a:stretch/>
          </p:blipFill>
          <p:spPr>
            <a:xfrm>
              <a:off x="1133640" y="371520"/>
              <a:ext cx="634680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1371600" y="609480"/>
              <a:ext cx="5867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7030a0"/>
                  </a:solidFill>
                  <a:latin typeface="Arial"/>
                </a:rPr>
                <a:t>Example!                 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3" name="Straight Arrow Connector 6"/>
          <p:cNvCxnSpPr/>
          <p:nvPr/>
        </p:nvCxnSpPr>
        <p:spPr>
          <a:xfrm flipH="1">
            <a:off x="4645800" y="839880"/>
            <a:ext cx="3960" cy="83880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triangle" w="med"/>
          </a:ln>
        </p:spPr>
      </p:cxnSp>
      <p:cxnSp>
        <p:nvCxnSpPr>
          <p:cNvPr id="324" name="Straight Arrow Connector 8"/>
          <p:cNvCxnSpPr/>
          <p:nvPr/>
        </p:nvCxnSpPr>
        <p:spPr>
          <a:xfrm flipH="1">
            <a:off x="7085880" y="761040"/>
            <a:ext cx="1143720" cy="106740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triangle" w="med"/>
          </a:ln>
        </p:spPr>
      </p:cxnSp>
      <p:cxnSp>
        <p:nvCxnSpPr>
          <p:cNvPr id="325" name="Straight Arrow Connector 10"/>
          <p:cNvCxnSpPr/>
          <p:nvPr/>
        </p:nvCxnSpPr>
        <p:spPr>
          <a:xfrm>
            <a:off x="837000" y="1066680"/>
            <a:ext cx="762840" cy="91512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triangle" w="med"/>
          </a:ln>
        </p:spPr>
      </p:cxn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Documents and Settings\cl12enimpahn\Local Settings\Temporary Internet Files\Content.IE5\84J2OIQR\MPj03901260000[1].jpg"/>
          <p:cNvPicPr/>
          <p:nvPr/>
        </p:nvPicPr>
        <p:blipFill>
          <a:blip r:embed="rId2"/>
          <a:stretch/>
        </p:blipFill>
        <p:spPr>
          <a:xfrm>
            <a:off x="2743200" y="2209680"/>
            <a:ext cx="3657600" cy="261000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28" name="TextBox 3"/>
          <p:cNvSpPr/>
          <p:nvPr/>
        </p:nvSpPr>
        <p:spPr>
          <a:xfrm rot="20256600">
            <a:off x="447480" y="601920"/>
            <a:ext cx="4724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6231"/>
                </a:solidFill>
                <a:latin typeface="Arial"/>
              </a:rPr>
              <a:t>Example 2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0" y="1905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3" marL="1216080" indent="-182520" algn="ctr">
              <a:spcBef>
                <a:spcPts val="17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0000"/>
                </a:solidFill>
                <a:latin typeface="Corbel"/>
              </a:rPr>
              <a:t>KI  </a:t>
            </a:r>
            <a:r>
              <a:rPr b="0" lang="en-US" sz="6800" spc="-1" strike="noStrike">
                <a:solidFill>
                  <a:srgbClr val="000000"/>
                </a:solidFill>
                <a:latin typeface="Corbel"/>
              </a:rPr>
              <a:t>+ </a:t>
            </a:r>
            <a:r>
              <a:rPr b="0" lang="en-US" sz="6800" spc="-1" strike="noStrike">
                <a:solidFill>
                  <a:srgbClr val="ff0000"/>
                </a:solidFill>
                <a:latin typeface="Corbel"/>
              </a:rPr>
              <a:t>Pb(NO 3)</a:t>
            </a:r>
            <a:endParaRPr b="0" lang="en-US" sz="68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Potassium Iodide +Lead Nitrat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17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n a double replacement reaction, the two compounds react and new ones creat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Explosion 1 5"/>
          <p:cNvSpPr/>
          <p:nvPr/>
        </p:nvSpPr>
        <p:spPr>
          <a:xfrm>
            <a:off x="2971800" y="3505320"/>
            <a:ext cx="2895480" cy="2209680"/>
          </a:xfrm>
          <a:prstGeom prst="irregularSeal1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8"/>
          <p:cNvSpPr/>
          <p:nvPr/>
        </p:nvSpPr>
        <p:spPr>
          <a:xfrm>
            <a:off x="2057400" y="39625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ellow sub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[ the new substance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0"/>
          <p:cNvSpPr/>
          <p:nvPr/>
        </p:nvSpPr>
        <p:spPr>
          <a:xfrm>
            <a:off x="3200400" y="3809880"/>
            <a:ext cx="2133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1"/>
          <p:cNvSpPr/>
          <p:nvPr/>
        </p:nvSpPr>
        <p:spPr>
          <a:xfrm>
            <a:off x="3352680" y="3962520"/>
            <a:ext cx="213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6765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152280" y="160020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ideos.howstuffworks.com/hsw/14750-simply-science-double-replacement-reactions-video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: http://www.marymount.k12.ny.us/marynet/stwbwk04/04flash/zb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google.com/images?hl=en&amp;q=potassium+iodide&amp;gbv=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google.com/images?gbv=2&amp;hl=en&amp;safe=active&amp;q=lead+ni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8:12:37Z</dcterms:created>
  <dc:creator>cl12enimpahn</dc:creator>
  <dc:description/>
  <dc:language>en-US</dc:language>
  <cp:lastModifiedBy>cl12enimpahn</cp:lastModifiedBy>
  <dcterms:modified xsi:type="dcterms:W3CDTF">2009-02-18T20:53:28Z</dcterms:modified>
  <cp:revision>17</cp:revision>
  <dc:subject/>
  <dc:title>Double Cell Replacement</dc:title>
</cp:coreProperties>
</file>