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explode.wav" ContentType="audio/x-wav"/>
  <Override PartName="/ppt/media/image13.png" ContentType="image/png"/>
  <Override PartName="/ppt/media/image1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AD7-C59D-4FA0-8BB1-F419BA42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8EB-4A75-4E0D-85F6-2DE6434D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C6A-8408-4643-9FDA-8F4D86D6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9B9-11BD-4953-AA35-561F80B0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82A9-99BA-469C-8B24-6807B3AA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9CFE-616F-4A3F-AF7C-5AC1DAEF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CAB4-8B68-4427-97FA-9188AC2F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2B71-E69B-474D-A97B-26EBA55C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24D3-FC5F-4185-B753-01637ABE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1661-650F-4C94-8610-66C43605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981D-F1F1-461E-BCA4-876521F5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92F-1577-435A-9CC5-FFAD150C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37DA-E4C8-4252-B906-93CB04CF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B977-C3D2-4E76-9EA0-8BD58370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79D2-4FD3-4150-B8E3-FC1F5597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2D4C-E0FC-4BA4-AAF0-DB670204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04CA-D863-4970-B60A-99CEB1C1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E0B08-32DB-4BBD-BDF8-C8BAB6AB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87A4E-EC45-42BA-8166-D1CFB9D7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ED990-D1E8-48A9-832D-7CBC5015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A57D8-F3A9-45A4-849B-970CD937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AB03A-5C56-4873-A7CF-AB716BB3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A79-4C5C-4570-886D-41E46DF9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45393-16F3-40E7-805D-809AB8C7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9BC61-6163-4DFD-8CC4-593160F2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8F0B-DA53-4541-9661-14A6A0CF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35BAF-3F03-4829-A037-5411B7FF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4206A-3AB4-4D47-85E6-9E8688C8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8B2B9-CA5B-4541-81EE-41EFB91B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F2D8E-2A34-4964-9011-9B0D4B84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5E6DA-9DBA-4753-AAFB-A7B116FB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D49CC-713F-486E-B075-07CA2772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F8136-BE7C-46EF-8445-034D24F1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8A6-D22F-4C1E-BF28-2F4BD8D3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CABC9-74C5-46CA-9E06-132D09E8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4AD72-BD82-49E5-AA0A-FFF84C0A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141C3-F372-4800-9C4D-1188C907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835E2-45F3-404A-8CDF-79444752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21426-75C2-41BD-A9AF-0B892792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23004-2B07-4425-80FE-3C0F7626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0F346-1876-4676-8DD5-591B0DE7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DB94C-5BCB-4DFF-8988-B8A8C896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C62F1-A54B-49E6-AEDC-75CDE2D0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FCFC4-4653-4FAB-A005-A3380825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0E7-2615-42AA-82A8-F1B2737A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B25AA-3BC2-4F0B-B55E-31E9C8D3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027C3-2C01-46F6-A031-250D5782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5B11E-40B3-49B3-A9EC-153B1DC5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0725C-65E7-42F5-BE12-292874F2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1C7C8-4959-48EA-88F5-CFCA0953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048CC-F5C4-47F2-911B-458280B2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F5771-79D0-45FF-8876-86460B83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871B4-86A4-4FBD-996B-268A4E04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946E9-B9F6-42BD-BE04-89B47EEE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13907-1DF1-4EA8-BA2D-E00A9C05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6EC-ECFA-4301-9573-7292DE1F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1505C-DF43-48E6-AEFB-E057F0EE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1F314-E0EE-4C7F-90E3-A09916D4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EBE28-6137-415F-AB90-C6669558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257D2-4833-43D8-AC9B-FA5EEC11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D55E3-14E5-4FD2-94DD-C6D26680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211C7-E508-491F-8D8A-4BB132CC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51B5C-CB6A-4452-A2F6-A87DEF9E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60BDA-536A-4801-B2E4-F9A24BD0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2ABCE-A332-4019-A2A6-4C2B33ED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BF859-5314-4EF1-B513-4A1C8A9A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04B-7E20-4DC5-8BE8-8E176931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E2834-9D0C-450F-A075-EC5AC2B3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885FF-4AF0-4172-A831-472CB0C8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B65DB-1B72-4E86-B180-63541A70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A9257-DA68-401A-93C9-836CA119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FB236-210B-4FE2-B4FE-00316E04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09152-83D0-4FCB-894F-1A7413DE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B8757-DBF2-473C-98A5-D90667FB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58234-695E-4075-8DDD-C82F7189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5A3F8-B2EA-4178-AB24-FB3CDB55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481D1-5C77-4932-8DC6-1EE1AD94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FAD-DCF7-48B2-AB64-7474E248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BE359-B212-4AF4-8698-86EF21E6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F01D0-3B67-4E0C-8F1F-18C68138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75D06-95B8-4B1B-95AD-AE16DEE4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AEB06-32CE-4DBF-8B6C-C3504A70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FACCA-7050-4059-A577-723C79FC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12C7-0242-49B2-B433-B1638FA1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6975-D7DD-4F54-848A-CD47FB15229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3EFA-A517-4825-8B51-2FD0EA7239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5633-92AE-41E6-A3D0-0CCA120485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A3A8-6531-4310-9CA3-2BFCA3A37CF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B0A6-1943-4286-A8D1-7D458539437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9B12-E7B3-487A-A6D4-7BBE9B9D2D4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F3B9-5B3E-45BC-90E1-60FA8741F56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atassia Enimpah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Katrina Tulos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ustin Zearfos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ody Krissinger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5105520" y="457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228600" y="1600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chemical reaction between compounds in which the elements in the reactants recombine to form two different compounds, each of the products having one element from each of the reactant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a positive ion, cation, and a negative ion, antion combin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us 4"/>
          <p:cNvSpPr/>
          <p:nvPr/>
        </p:nvSpPr>
        <p:spPr>
          <a:xfrm>
            <a:off x="1523880" y="5029200"/>
            <a:ext cx="1905120" cy="1828800"/>
          </a:xfrm>
          <a:prstGeom prst="pi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6"/>
          <p:cNvCxnSpPr/>
          <p:nvPr/>
        </p:nvCxnSpPr>
        <p:spPr>
          <a:xfrm>
            <a:off x="3733560" y="5791320"/>
            <a:ext cx="1524600" cy="2160"/>
          </a:xfrm>
          <a:prstGeom prst="straightConnector1">
            <a:avLst/>
          </a:prstGeom>
          <a:ln w="48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0" name="Minus 8"/>
          <p:cNvSpPr/>
          <p:nvPr/>
        </p:nvSpPr>
        <p:spPr>
          <a:xfrm>
            <a:off x="5486400" y="5791320"/>
            <a:ext cx="1981080" cy="152280"/>
          </a:xfrm>
          <a:prstGeom prst="pi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2514600" y="53341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0"/>
          <p:cNvSpPr/>
          <p:nvPr/>
        </p:nvSpPr>
        <p:spPr>
          <a:xfrm>
            <a:off x="5798160" y="55627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2" descr=""/>
          <p:cNvPicPr/>
          <p:nvPr/>
        </p:nvPicPr>
        <p:blipFill>
          <a:blip r:embed="rId2"/>
          <a:stretch/>
        </p:blipFill>
        <p:spPr>
          <a:xfrm>
            <a:off x="401760" y="1768320"/>
            <a:ext cx="8291520" cy="4638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C:\Documents and Settings\cl12enimpahn\Local Settings\Temporary Internet Files\Content.IE5\6G601VPN\MPj04373680000[1].jpg"/>
          <p:cNvPicPr/>
          <p:nvPr/>
        </p:nvPicPr>
        <p:blipFill>
          <a:blip r:embed="rId3"/>
          <a:stretch/>
        </p:blipFill>
        <p:spPr>
          <a:xfrm>
            <a:off x="1066680" y="2819520"/>
            <a:ext cx="1981440" cy="2562120"/>
          </a:xfrm>
          <a:prstGeom prst="rect">
            <a:avLst/>
          </a:prstGeom>
          <a:ln w="0">
            <a:noFill/>
          </a:ln>
        </p:spPr>
      </p:pic>
      <p:cxnSp>
        <p:nvCxnSpPr>
          <p:cNvPr id="316" name="Straight Arrow Connector 10"/>
          <p:cNvCxnSpPr/>
          <p:nvPr/>
        </p:nvCxnSpPr>
        <p:spPr>
          <a:xfrm>
            <a:off x="3428640" y="3200400"/>
            <a:ext cx="1524600" cy="216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pic>
        <p:nvPicPr>
          <p:cNvPr id="317" name="Rectangle 12" descr=""/>
          <p:cNvPicPr/>
          <p:nvPr/>
        </p:nvPicPr>
        <p:blipFill>
          <a:blip r:embed="rId4"/>
          <a:stretch/>
        </p:blipFill>
        <p:spPr>
          <a:xfrm>
            <a:off x="3571920" y="1652760"/>
            <a:ext cx="6248520" cy="314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723920"/>
            <a:ext cx="81835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13d"/>
              </a:solidFill>
              <a:latin typeface="Corbel"/>
            </a:endParaRPr>
          </a:p>
        </p:txBody>
      </p:sp>
      <p:pic>
        <p:nvPicPr>
          <p:cNvPr id="319" name="Content Placeholder 3" descr="DoubleReplacement2.jpg"/>
          <p:cNvPicPr/>
          <p:nvPr/>
        </p:nvPicPr>
        <p:blipFill>
          <a:blip r:embed="rId1"/>
          <a:stretch/>
        </p:blipFill>
        <p:spPr>
          <a:xfrm>
            <a:off x="533520" y="2286000"/>
            <a:ext cx="8107200" cy="2611440"/>
          </a:xfrm>
          <a:prstGeom prst="rect">
            <a:avLst/>
          </a:prstGeom>
          <a:ln w="0">
            <a:noFill/>
          </a:ln>
        </p:spPr>
      </p:pic>
      <p:grpSp>
        <p:nvGrpSpPr>
          <p:cNvPr id="320" name="TextBox 4"/>
          <p:cNvGrpSpPr/>
          <p:nvPr/>
        </p:nvGrpSpPr>
        <p:grpSpPr>
          <a:xfrm>
            <a:off x="1133640" y="371520"/>
            <a:ext cx="6346800" cy="1672560"/>
            <a:chOff x="1133640" y="371520"/>
            <a:chExt cx="6346800" cy="1672560"/>
          </a:xfrm>
        </p:grpSpPr>
        <p:pic>
          <p:nvPicPr>
            <p:cNvPr id="321" name="TextBox 4" descr=""/>
            <p:cNvPicPr/>
            <p:nvPr/>
          </p:nvPicPr>
          <p:blipFill>
            <a:blip r:embed="rId2"/>
            <a:stretch/>
          </p:blipFill>
          <p:spPr>
            <a:xfrm>
              <a:off x="1133640" y="371520"/>
              <a:ext cx="634680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371600" y="609480"/>
              <a:ext cx="5867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7030a0"/>
                  </a:solidFill>
                  <a:latin typeface="Arial"/>
                </a:rPr>
                <a:t>Example!          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3" name="Straight Arrow Connector 6"/>
          <p:cNvCxnSpPr/>
          <p:nvPr/>
        </p:nvCxnSpPr>
        <p:spPr>
          <a:xfrm flipH="1">
            <a:off x="4645800" y="839880"/>
            <a:ext cx="3960" cy="83880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324" name="Straight Arrow Connector 8"/>
          <p:cNvCxnSpPr/>
          <p:nvPr/>
        </p:nvCxnSpPr>
        <p:spPr>
          <a:xfrm flipH="1">
            <a:off x="7085880" y="761040"/>
            <a:ext cx="1143720" cy="106740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325" name="Straight Arrow Connector 10"/>
          <p:cNvCxnSpPr/>
          <p:nvPr/>
        </p:nvCxnSpPr>
        <p:spPr>
          <a:xfrm>
            <a:off x="837000" y="1066680"/>
            <a:ext cx="762840" cy="91512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Documents and Settings\cl12enimpahn\Local Settings\Temporary Internet Files\Content.IE5\84J2OIQR\MPj03901260000[1].jpg"/>
          <p:cNvPicPr/>
          <p:nvPr/>
        </p:nvPicPr>
        <p:blipFill>
          <a:blip r:embed="rId2"/>
          <a:stretch/>
        </p:blipFill>
        <p:spPr>
          <a:xfrm>
            <a:off x="2743200" y="2209680"/>
            <a:ext cx="3657600" cy="261000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28" name="TextBox 3"/>
          <p:cNvSpPr/>
          <p:nvPr/>
        </p:nvSpPr>
        <p:spPr>
          <a:xfrm rot="20256600">
            <a:off x="447480" y="601920"/>
            <a:ext cx="472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6231"/>
                </a:solidFill>
                <a:latin typeface="Arial"/>
              </a:rPr>
              <a:t>Example 2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0" y="1905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3" marL="1216080" indent="-182520" algn="ctr">
              <a:spcBef>
                <a:spcPts val="17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0000"/>
                </a:solidFill>
                <a:latin typeface="Corbel"/>
              </a:rPr>
              <a:t>KI  </a:t>
            </a:r>
            <a:r>
              <a:rPr b="0" lang="en-US" sz="6800" spc="-1" strike="noStrike">
                <a:solidFill>
                  <a:srgbClr val="000000"/>
                </a:solidFill>
                <a:latin typeface="Corbel"/>
              </a:rPr>
              <a:t>+ </a:t>
            </a:r>
            <a:r>
              <a:rPr b="0" lang="en-US" sz="6800" spc="-1" strike="noStrike">
                <a:solidFill>
                  <a:srgbClr val="ff0000"/>
                </a:solidFill>
                <a:latin typeface="Corbel"/>
              </a:rPr>
              <a:t>Pb(NO 3)</a:t>
            </a:r>
            <a:endParaRPr b="0" lang="en-US" sz="6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Potassium Iodide +Lead Nitrat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17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n a double replacement reaction, the two compounds react and new ones crea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Explosion 1 5"/>
          <p:cNvSpPr/>
          <p:nvPr/>
        </p:nvSpPr>
        <p:spPr>
          <a:xfrm>
            <a:off x="2971800" y="3505320"/>
            <a:ext cx="2895480" cy="2209680"/>
          </a:xfrm>
          <a:prstGeom prst="irregularSeal1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2057400" y="39625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llow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[ the new substance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>
            <a:off x="3200400" y="3809880"/>
            <a:ext cx="2133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1"/>
          <p:cNvSpPr/>
          <p:nvPr/>
        </p:nvSpPr>
        <p:spPr>
          <a:xfrm>
            <a:off x="3352680" y="3962520"/>
            <a:ext cx="213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6765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152280" y="160020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deos.howstuffworks.com/hsw/14750-simply-science-double-replacement-reactions-vide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: http://www.marymount.k12.ny.us/marynet/stwbwk04/04flash/zb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google.com/images?hl=en&amp;q=potassium+iodide&amp;gbv=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google.com/images?gbv=2&amp;hl=en&amp;safe=active&amp;q=lead+ni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8:12:37Z</dcterms:created>
  <dc:creator>cl12enimpahn</dc:creator>
  <dc:description/>
  <dc:language>en-US</dc:language>
  <cp:lastModifiedBy>cl12enimpahn</cp:lastModifiedBy>
  <dcterms:modified xsi:type="dcterms:W3CDTF">2009-02-18T20:53:28Z</dcterms:modified>
  <cp:revision>17</cp:revision>
  <dc:subject/>
  <dc:title>Double Cell Replacement</dc:title>
</cp:coreProperties>
</file>