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137-2D61-4993-8F33-8BF1F990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AC6-C2BE-4B29-B799-87E3448E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84AD8-E667-49B0-B50B-E9A5CE25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46B7C-E539-41B1-BC26-0FD718B9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F7036-0854-4E41-8727-E7F2785C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AFFED-9917-40C4-A970-CBD2DBD4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9809C-7F32-4D94-B1A0-D89422A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560FE-DB0D-4BFD-AF13-769E258C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294CD-784C-4845-9F45-080DEF9C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20205-6120-4C59-B260-EA140E9C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1E869-C9B6-4A47-BF33-22BF7D51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CE13F-704C-40FC-BBDD-67C2E385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DC5-FC12-4AAB-A9AE-BB3E58C7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16638-A1E9-454D-AF5B-E448BEF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19906-96FE-4E55-B1E8-FA56F08B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B77E0-39BF-4CE6-AA3E-4CE936F7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99101-5509-4F92-99BD-CC52D5B2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FE955-C16C-426C-A11D-5F9B271E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930D2-D8D4-4867-9458-AE967130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3E1F1-B3A3-48EB-85D2-D101E00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68C06-9537-4AE5-9B2F-DFE79497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C174B-E11F-4411-82AA-468DA689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A6DCA-E103-495F-8E71-A6A94C9E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1D2-8C38-43C8-85F1-C02275F4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E0315-60EB-4DBF-9D9B-46252449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971F5-1A39-4565-B663-B126FB8B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C82CF-DF09-4A2F-8542-919797AD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F8A7D-3F24-4F8D-831B-8356C545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E6C98-AAA0-4B78-A7D3-DAFEEA5E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8F9F7-6788-4E43-B055-FD635EB7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98AAD-DD88-4F27-AC9E-D6B51532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43946-D217-48B9-A9D5-19D3BE89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3BFCD-4FE8-4D7C-A28C-EF041B00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F8C44-53D2-4575-AC0C-79D4F15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E3EA-FAE3-4E70-9795-BB10EAF9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E951A-3A46-4201-9863-16EDB989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1EE9D-090F-43EB-8D32-637CEBFC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28051-02DD-4251-89D3-F7AE4B89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0A85A-859C-4DC1-8143-E99865D1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A95A8-5E07-4EFE-9327-F0A11452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0B120-867F-4809-9FA4-54F77A7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BE3D1-B99F-4EDD-B0AC-C1E7C902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316F8-07DF-42D7-9ED7-982796EB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F01C2-0C7A-4E8E-8576-B6C1E225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5240B-2A3A-4AFB-A93E-5EB4F99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662C-B92A-4520-AE2E-1002663B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8DFB6-B112-45C6-AAE1-0C4E91D0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B3409-EC7B-493E-8A6A-6BDC1D8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7178E-58C5-477B-96D3-95FB980C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A5997-4145-48AB-9B52-96CF87C7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5EFBF-E80D-46AA-B888-375577CB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FAC7-6E63-4F6D-8742-3C0EB4D2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9550-E6DB-42B8-838E-B28F573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7BB8-2EFD-4AD0-98B4-B278330D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8652-C5A5-4A38-87CD-118645F0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A2B1-E085-4179-890D-57CD68C9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371-7A8F-4725-B705-6C73AEE1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3864-CE04-4F80-B9D0-D9FD4FB0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3D59-D0A3-4E6E-BFE3-A59DB8D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2C3D-12C1-4678-902B-C2FEF914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AD85-2D4E-4F80-B082-6B5920EB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9579-B49A-4210-8953-4624F245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0DF2-B0E7-4EEE-B79E-64E99940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9490-4FAF-42CC-8E39-566B897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4FE7-3D58-47AF-AB0A-53A7A37A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3A52-E726-45AB-B08A-97B454CE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BCBF-CCCA-4D12-B66A-DFF25811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1BF-C4BA-47A4-BC80-6D8C95C5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434E8-8696-4710-B8DD-D38A42F8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C390-1FBB-41B5-A5D0-CBA18DC3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11E4-0FE6-4794-8746-1687AD0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E043-EA5E-4940-9B89-C0409A28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CD84-F8A1-4054-949B-85341B17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373A-4633-48E6-B6A6-39D152D0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10879-7ADB-4D37-BAC8-5563A375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FCE3-2A1D-497F-927B-E6BC9102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E87B-FC84-4ECA-9ACA-A96D8945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DD9D-0999-42CD-9F94-69139AF4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8C4-6230-44E0-8DB8-472DD978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459D-B550-4A6A-883C-6B59A3F7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728D-274F-45D9-A241-6EC996D1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EEA7-C173-44E5-85C2-FA72487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D7C5-AB27-47B1-8790-04B371C7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41162-4BBF-4BCA-A8F6-9ECA976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C5EE-D3DB-4580-BA47-5745692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1F75-7BC8-4D48-8996-5FACEDB4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4270-FDF2-4E00-9E86-CCABC649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2C02-E89D-4C2E-8FE8-600FA79D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D0AA-D2C8-400A-B35F-520ABAFE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1EA-A69A-42F0-97D6-C44FFBC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43C9-920A-411C-9B50-BD5EFEA0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AA9A-0F2F-475E-AF32-E3DD4C4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DA935-3C8E-4071-9BC4-930E8AE2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1A3A3-C59A-413D-8570-FC518A6E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2FA1C-D9C8-4523-966A-F22C589B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4F0B-3FDB-446B-9177-28F7836D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1CB5C-5AF8-43A5-A913-B12F0EF1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2CB6-DCA6-4BFF-BC4E-FA0156C6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915AF-5146-4649-A060-3DAAC9A3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EC6F-430B-4264-A6B0-BA99B946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3D3-18EF-4538-8C65-2ABB6E6D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9ABD-53DB-4DEB-A70D-98FF0B56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9D014-E70C-45F1-BA52-26C4DED2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71BB1-AE9E-4388-B55E-4D165AC6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37C62-F7FC-459F-AAB2-6BEFB1E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84A5-B25E-480D-9A88-3ADBD89A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E5100-F05B-4AB0-B1AF-CB47E8E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38666-69FC-4AEC-8451-97E277D4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392E6-E705-47EE-8CBA-48C1B7F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B5E94-1171-4BE3-B7CF-505B4302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12E7-0D5C-4F33-B13F-B022484F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BB7-F939-43C9-BC76-251313F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20031-B08A-4918-8C44-215BF821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A211-DA77-4F11-9624-69D5E865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8CB54-E5B1-4B5A-913D-122A3807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516BD-D40C-4316-BE8B-FFF99D96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D93CC-FA29-4B3D-BE84-D5259985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812D7-47E0-4A79-9826-4CBF946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4A35-65FA-4AF2-A85F-F2F94EA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5567E-4AAD-4B8A-9568-72ACE3FA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9C0D-0496-42E8-B7F5-E2D51ED2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FAFB-6FF2-462B-AF50-F6E8062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2F2-681E-4A16-8868-F780A7E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CBDB-3356-4F89-B414-20CE747E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B33A5-235F-489D-B7C6-37BB3853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4F77B-A66D-4C86-AE53-062A33EA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A7EB1-7532-4CBF-94A4-2858EB7D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2D9EC-ED22-4885-84F3-1B0D5997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882F7-C9B5-4CBB-B08A-FCA9508B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C30D4-FF7F-4C27-9BB1-7E221789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F71C7-76C4-49F0-B40C-3A40AC67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C71E7-8FE8-4C1B-92D2-DF587168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5C9E-4651-4493-BC8E-9DED318A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FC7-434F-4108-ABBF-ED3CBC24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419FE-4478-4B90-A3D4-B6954AE4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55DAE-5EAA-40CF-BE26-F205CA99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578EA-01B0-4E5C-9D67-BD57A091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63085-6A3C-4602-876F-F7A1D837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4B2CA-A15B-46EF-84BB-0E2E7CA5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77BA-8581-4A1D-B012-610C4D31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00CE7-5A64-482C-821F-0B6BE02A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3B202-5862-4499-87E3-2CECB9C1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27367-8DAF-4D00-B0B1-30ACF3CA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2848B-717F-4061-AF38-3C8E4C30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C19F-EE83-4B79-8716-D86C60629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E31D-50CB-4F79-BFE4-29FD64B50B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880D-188C-4C0E-9E2E-8CCA700A5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9370-A4A2-46A2-8130-8F4DECE6A7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D4BD-7118-4CE7-9208-50502C560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442-762C-41F3-A561-D3370A815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21D2-1ED9-4CAC-BB91-199313D52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67B7-5EC8-4FC8-BC59-BF9683F38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223D-100D-4214-B1CE-10B292F860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32EB-176B-4779-BBF6-4F6326959C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6E1B-4C5C-49E9-80D2-290A1EC56C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88F9-C8EF-42B9-917E-C5F2254EE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itrogenorder.org/experiment/dblreplace/PbI3.gif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WHAT IS A DOUBLE REPLACEMENT REACTION?  LETS FIND OUT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VERI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KA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E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ARI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Double Replacement Reac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i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hemical reaction between two compounds where the positive ion of one compound is exchanged with the positive ion of another compou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g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‑‑‑‑&gt; Ag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reaction is between lead nitrate and potassium iodide. Both of these reaction form colorless solu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nitrogenorder.org/experiment/dblreplace/PbI3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olcano experime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3" descr="volcano.gif"/>
          <p:cNvPicPr/>
          <p:nvPr/>
        </p:nvPicPr>
        <p:blipFill>
          <a:blip r:embed="rId1"/>
          <a:stretch/>
        </p:blipFill>
        <p:spPr>
          <a:xfrm>
            <a:off x="3557520" y="2727360"/>
            <a:ext cx="1990800" cy="21715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5"/>
          <p:cNvSpPr/>
          <p:nvPr/>
        </p:nvSpPr>
        <p:spPr>
          <a:xfrm>
            <a:off x="2057400" y="1447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that shows decomposition, oxidation and rock cycles . It also shows Double Replacement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 Cit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hyperphysics.phy-astr.gsu.edu/hbase/chemical/reactype.html#c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thefreedictonary.co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howstuffworks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cornerstonevalues.org/img/volcano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960" y="16002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e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5:08:51Z</dcterms:created>
  <dc:creator>cl12dostickk</dc:creator>
  <dc:description/>
  <dc:language>en-US</dc:language>
  <cp:lastModifiedBy>cl12dostickk</cp:lastModifiedBy>
  <dcterms:modified xsi:type="dcterms:W3CDTF">2009-02-17T15:14:55Z</dcterms:modified>
  <cp:revision>10</cp:revision>
  <dc:subject/>
  <dc:title>Double Replacement Reaction</dc:title>
</cp:coreProperties>
</file>