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E87E0-78F7-453E-8D5A-0FF7801F2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4E140-DE5C-4F13-B5EE-DD1739E2D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D6E3429-6E31-4C64-A0FE-25D67BA0D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8B35BA0-416D-47C9-B99F-ABC137294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36B9B74-16F9-4FF7-9781-44AECC507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A5D9759-1A4D-43D6-BA29-A3D8D7BA6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36DF68A-AFF5-40FC-8F4B-AF0F9306E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87DBCEB-FA0F-4B58-9E54-579ABE332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2F82278-404E-40AA-BC5C-BC86E8FD3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5FF9AD0-D70A-457B-8C07-40F614A11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3E706DB-1E27-4C4D-AD5E-31DCDC61E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2067D8D-6BB7-4885-BF55-FE0A4ECF7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0656A-DE91-4484-B2D4-C9D0735AD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F6DA5C4-4756-4A98-BB19-800DAC608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EBBD73F-5BF0-4648-8627-38D230901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C77F652-8E04-458D-8C0E-A3E410141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F9A10FD-74DA-4240-8010-C000976CD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DEFBC4C-9B56-4A60-A0BB-4E1058D73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0724035-58EC-4CF6-BC0F-9AA926555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57E6130-1E80-4377-B624-B807DC5B8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50FFF73-49BA-4646-A049-F996F8355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2C6757E-AF96-4314-9A0F-2EC6EF75C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91CFCD9-6805-42F5-93ED-5231748EB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A0D24-2878-4DE1-BC8C-F0018AA77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8893577-E65E-473F-AE14-D2F790F50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13F9E7-490E-4C88-8AB3-0A440D5E7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BF181B-A3A1-426A-A9B0-CACE3E467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21A257-50A8-4BE1-B83D-13386A44A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9A2820-E446-44BB-A5B6-5D9F8C369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928002-85EA-48D4-9152-EF315EF90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5B1B5A-BCBA-411B-BA76-453AB067D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3AF483-5D43-44CD-9737-71F92F63E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40EED4-F043-4E5D-B5F1-EED3C48BB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3459B5-B461-4FD5-BED4-26F9A9C42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72B4E-C0C7-40D3-AE9A-4520DFC70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051256-F862-4AF5-8D0A-DAAC6EBAC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A61DBF-1CEA-43E3-AB1B-8403A3263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795F76-F315-444C-8C94-F3E6E77DB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6BF9F5E-F818-4BB2-BF0A-7A200632D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F576DC8-7355-4BDE-B10E-6D10F6E1B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FF1FCFA-630F-4BEC-BCA0-62BFBE8F4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A28CED2-7784-4749-BB1B-8B207A2F1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7433B47-5832-48EB-8EF2-2961B470C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F2E9B09-1389-4D62-B32C-CFDD94892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16758AB-3827-412C-8A40-A3F210977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E808C-8E19-41D0-9533-3102B1DEE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BD631A7-E8DA-4B43-8138-3535CFAA0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270011A-972E-4CE8-B959-0159164F8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7F3515B-AEBF-4D21-BAD9-80D7EE98D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F373A3E-A854-4732-BAF3-79C19C50D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3EA3CB3-4685-479F-9CD6-7F279BBC2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5A96D-6961-431F-9FC0-043AE6E18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876C7-9057-4A3C-AF96-50777ED01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7C9A3-C826-4D4A-B164-94377BB0C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5F74D-8A20-4C5A-B946-D1803CC08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5F36B-9BDA-43CE-89F8-2386E172E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0B524-BBE9-43F8-89FE-DCC68C5B3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8CE8D-D6DB-47DE-9A05-027856C52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27F59-8A91-44DC-8A40-34AD35B2A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F5EA6-E384-4529-AD7E-6CE3D4F4C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11D1B-E096-4DC2-BAE3-9D1E6C9EB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291F6-4A3E-457F-B7D2-20923C55A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89C607-69FF-416D-AD6A-18571DDE5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B60EF6-41FB-436D-8243-11FEC1AC7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66CF34-8598-4378-B2C4-F743CC593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A9E788-6DF3-45F3-B65A-B0E0C0746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2D450F-E827-47C5-A77A-EDC1A408B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ABBC8-7439-41BC-9C03-7F9FBD582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E9BDB1-90E5-4E2A-A2D6-3E4F46DC8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41558B-DDE3-44C1-BA3B-00E8832E2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2DD83A-93CD-4CA0-BC21-0B648D835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69228B-3FEB-4019-A972-6758A8C13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0FE157-26FA-4F8F-93B3-9981D2419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436626-2433-42AE-BD6C-AF2E7ED83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AC2C39-012B-4BB9-8085-4C2A683CF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C104A2-50A2-48F2-8565-9176194BA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1D21BF-92CB-4440-B2C1-75542E049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6EF4BD-7FDE-4606-8D52-A548CD5FB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E9BFA-760A-4390-BE19-D49DFA897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19FE1D-8D58-43D9-8CBF-9822D9CD7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57BFA5-B8D5-47FD-B354-322A64517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5AAB7F-0F62-4534-9DF0-02CC868C0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ED70B3-0B47-4F2B-86C9-CC90CB241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C74D89-5045-435D-B6EC-D098BD7E7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4E2053-7C4F-4509-84B8-13C296406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E4A6C6-68BB-4270-BA30-EF0CB981E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709E4D-3B28-4D55-BABF-5EBE333EC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FBE512-654D-4A94-9253-EDE40C3D7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549FCC-9BB7-4E42-B148-0FA2A524B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A6423-C6CD-44DD-AE99-007E266CE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B64E0A-ADFA-44FA-9E8E-4480374D9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990588-3909-4DE1-881A-904B2A8BF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13177A-AA55-48BE-817F-531A1F121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1AF150-8A4C-4925-9882-8B48040B5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140469-A1AE-4A7E-B7B7-9843432E2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3B97C1-303A-4B58-A1AD-687200350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799A0C-3B00-4601-BDEF-A845F6922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C82B4A-B372-4DAE-B024-C0A60D4CD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2F2182-9BA5-4295-87F0-B550F05F0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865DA6-D3CA-4904-BEB5-6D157DD64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42BE6-FD4F-4F4A-9A79-661E70C33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3BA142-CC07-4F00-AB02-DE856F606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36572E-F326-4DD6-8975-FE144EBA0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F66512-6B07-46A0-BDB9-1F907CF53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BCE881-2AD8-4B81-B473-C6A21EB9D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2484ED-94BC-47E6-85D9-E786410AF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0AFF94-D7AE-4527-8A62-0D722F0FC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CD891C-31AC-4FF6-842C-42CDF6FFC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385C94-FF05-4CBB-8ACF-BB1638E6F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1ED576-75BC-40AD-9CE5-CC2C37A58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287EC5-60F3-4663-B723-957190D76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08883-8BFF-4D58-9672-1AD4F9681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C07879-97D5-4C52-B68D-7B2FAB056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A2CB1A-F8AD-4ECD-957F-5E7AA7D80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0F728E-2E8D-4949-9890-AF59CA529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F1E64F-7EA8-4E8A-BF40-72D831514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88220D-EEFF-40D2-9788-1864E7C6B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30D9BA-0CA8-4B66-9CDF-DA8B89526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6C2884-98C7-4A8B-8C78-93B05EBB6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9AA1E4-EA75-486D-BD81-F14D13D11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BB5CF2-DC3F-40F5-AA40-5A97EDF90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C17EA2-7348-4C78-9358-232A666C4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99EA1-9ABA-4CDC-9D54-1F2281840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DC248F-864A-4CB6-A307-9C3A8E4C1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45659B-3DE3-414C-BFA3-76E7ADFDD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B7B86B-977C-4F94-AC2C-06318F388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691CEF-DF95-4FAB-AC12-D21A3F3E4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E2A43F-AC09-4EF3-816F-2CD258B69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31BA1D-C360-430B-883D-E2BBEA592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DDBE5E-226D-4208-A431-AE4CC491F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9CE70A-4C8C-482B-B620-264B7447B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4F6C2B-22EF-40AE-915F-DAA831DDA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0AE618-897E-4F74-B065-356A75ECB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E227D-2E87-457C-96A0-0B9D90895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87C2E8-A374-4ED0-B5FD-F9D3172A4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4EF254-98A9-49D2-9721-74835F665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569208-3F57-4079-BC5D-3599AB0A1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B1BE3F-E5C9-4488-80D9-D46034F85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4031E5-910A-45C2-B883-84609D195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22C8C1-CD9A-4A4F-BB20-19D49F35F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C4459B-CC24-45A8-889A-18099B888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5FEBD00-0304-49AA-B2AB-EEF6BCCED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74AA461-6665-46DC-AC33-3F4D4A797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9322CEB-844A-4FC9-BAB2-8E5DDB570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D540D-26AA-4333-BC60-B5F79306018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Straight Connector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24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26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27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Oval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Oval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1CB36-7962-46BC-8550-F3AE3645498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F3B36-3D4A-485B-B786-B46A95AAAC9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tangle 23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26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Straight Connector 27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Oval 28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Oval 29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58107-D50D-42EB-89F8-2FEDB09EB1D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24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6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28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9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D3549-AABD-42AF-96DD-493FC5BAD25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623A6-8D3D-4683-A40D-07E8E9B5AD3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24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25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26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27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28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29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30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31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457DC-9E3E-4270-9F51-B5C6DEFD41C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traight Connector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AF683-C92B-4CD3-A810-1A2E08C98DA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traight Connector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23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25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26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27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28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29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l 30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l 31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0D42A-60F4-47D4-BE5A-16BF5E3172B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14FE4-9BBC-4408-A3D9-581760B7B8E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26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8D93D-74D0-4899-9154-6C05BF6B1735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24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Straight Connector 28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Oval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Oval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FA23D-8802-4FC5-BC25-3171714333A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nitrogenorder.org/experiment/dblreplace/PbI3.gif" TargetMode="External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1371600" y="2895480"/>
            <a:ext cx="64008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46b86"/>
                </a:solidFill>
                <a:latin typeface="Georgia"/>
              </a:rPr>
              <a:t>WHAT IS A DOUBLE REPLACEMENT REACTION?  LETS FIND OUT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46b86"/>
                </a:solidFill>
                <a:latin typeface="Georgia"/>
              </a:rPr>
              <a:t>BY: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46b86"/>
                </a:solidFill>
                <a:latin typeface="Georgia"/>
              </a:rPr>
              <a:t>AVERII 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46b86"/>
                </a:solidFill>
                <a:latin typeface="Georgia"/>
              </a:rPr>
              <a:t>KALE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46b86"/>
                </a:solidFill>
                <a:latin typeface="Georgia"/>
              </a:rPr>
              <a:t>BRET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46b86"/>
                </a:solidFill>
                <a:latin typeface="Georgia"/>
              </a:rPr>
              <a:t>DARIN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16349"/>
                </a:solidFill>
                <a:latin typeface="Georgia"/>
              </a:rPr>
              <a:t>Double Replacement Reaction</a:t>
            </a:r>
            <a:endParaRPr b="0" lang="en-US" sz="42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What is it?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A chemical reaction between two compounds where the positive ion of one compound is exchanged with the positive ion of another compound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Example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53352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AgNO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Georgia"/>
              </a:rPr>
              <a:t>3(aq)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+ KCl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Georgia"/>
              </a:rPr>
              <a:t>(aq)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‑‑‑‑&gt; AgCl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Georgia"/>
              </a:rPr>
              <a:t>(s)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+ KNO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Georgia"/>
              </a:rPr>
              <a:t>3(aq)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s reaction is between lead nitrate and potassium iodide. Both of these reaction form colorless solutions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a3d6"/>
                </a:solidFill>
                <a:uFillTx/>
                <a:latin typeface="Georgia"/>
                <a:hlinkClick r:id="rId1"/>
              </a:rPr>
              <a:t>http://www.nitrogenorder.org/experiment/dblreplace/PbI3.gif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Volcano experiment 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13" name="Content Placeholder 3" descr="volcano.gif"/>
          <p:cNvPicPr/>
          <p:nvPr/>
        </p:nvPicPr>
        <p:blipFill>
          <a:blip r:embed="rId1"/>
          <a:stretch/>
        </p:blipFill>
        <p:spPr>
          <a:xfrm>
            <a:off x="3557520" y="2727360"/>
            <a:ext cx="1990800" cy="2171520"/>
          </a:xfrm>
          <a:prstGeom prst="rect">
            <a:avLst/>
          </a:prstGeom>
          <a:ln w="0">
            <a:noFill/>
          </a:ln>
        </p:spPr>
      </p:pic>
      <p:sp>
        <p:nvSpPr>
          <p:cNvPr id="614" name="TextBox 5"/>
          <p:cNvSpPr/>
          <p:nvPr/>
        </p:nvSpPr>
        <p:spPr>
          <a:xfrm>
            <a:off x="2057400" y="1447920"/>
            <a:ext cx="6095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s an example that shows decomposition, oxidation and rock cycles . It also shows Double Replacement Reac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Work Cited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6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http://hyperphysics.phy-astr.gsu.edu/hbase/chemical/reactype.html#c4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www.thefreedictonary.com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www.howstuffworks.com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http://cornerstonevalues.org/img/volcano.gif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228960" y="1600200"/>
            <a:ext cx="85345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The end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3T15:08:51Z</dcterms:created>
  <dc:creator>cl12dostickk</dc:creator>
  <dc:description/>
  <dc:language>en-US</dc:language>
  <cp:lastModifiedBy>cl12dostickk</cp:lastModifiedBy>
  <dcterms:modified xsi:type="dcterms:W3CDTF">2009-02-17T15:14:55Z</dcterms:modified>
  <cp:revision>10</cp:revision>
  <dc:subject/>
  <dc:title>Double Replacement Reaction</dc:title>
</cp:coreProperties>
</file>