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3.png" ContentType="image/png"/>
  <Override PartName="/ppt/media/image1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344-2280-46BD-9C01-8CFC07D8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447-2318-44C7-8DDB-731312C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B4A-E046-4237-B889-46ABF39A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A55-1B0C-4412-ADCE-EC0F740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6B1D-EDD8-4C20-8370-342B0AA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D03-2364-4D59-83F2-2D8C45D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1640-E4B5-4C9D-897C-0B4C7473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D1EE-8D71-4736-9E7E-2BE81C7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D87-AEAB-4985-BFE8-D7AC16DE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834D-6E4F-42FA-8C61-6AC49C8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5B8-862C-4BCF-A31D-DA1102F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6D0-083B-427F-A342-A2F61CC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159-FB73-4490-8611-FA26FC9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0D9-9F46-4443-A465-6E544F8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387-B9B4-4626-8DA7-5EEAE04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94CE-3511-4481-8B61-E8CF348A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89F0-38CC-4527-BD4A-9B405337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DA70-F3DC-44A7-8157-5372144B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DAA5-7FB6-4972-8020-7B87181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277D-2694-48BE-9E45-ECE647C9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7F2F-E84E-41E7-9199-DDB5CAC4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7E7B-AB8F-493D-A9EF-A191318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83F-FA88-4FC9-848E-157B70E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BEDB-6ED8-411F-876F-94948BE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C804-247A-491B-9968-5B10C880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8A8F-3348-4D0E-8ADE-F1A5682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E768-7A76-484C-B8B2-632B2BF4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2DD3-6481-4405-AA5C-55ADF96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4CC2-E025-4CEA-8BB9-85777E93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0162-3A06-47E0-AFE4-92C3B072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F42D-1BCF-4577-B492-C38A3A61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4654-8954-4D0F-9376-C1EFF3C8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1AAE-A138-4057-A972-B89D27E9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B2E-E57D-447E-938A-468D830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F661-4A47-4BDB-8F44-79EAED6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5884-C671-405D-A2A0-485A28B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E53B-6B82-417C-9A03-8172ACD5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8A31-B788-4C18-91EA-E5A4837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C4F9-56E9-4271-A458-E317FF8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2CD3-EC1A-41F5-A95B-AC3A809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F3B5-FDEF-4C27-9290-B4CBB86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D688-44F7-42EB-8002-7B807B37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C5E1-515F-48A8-854D-4DE4E193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2ED6-BA78-4E9B-BC9E-A7F00BC3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05D-2C75-47C1-9478-CFE23A2F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5412-4030-4641-AB6A-A590735D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C25C-739F-4B52-8310-F6BE2200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D4D6-C181-43A2-9DEB-BED0B10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6E7E-FC07-4DC1-A782-8B1FEA7E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9FD4-AEB1-47C2-9908-F2811876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2BD3-8024-498B-BAF8-51A57E9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8129-5029-4582-BE1D-99F5FA6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9607-A8A0-4072-9448-C840DAC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23AE-9646-4063-AF2C-7EC17C0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C2C8-8644-4254-8104-E6680EB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32B-84F6-441A-85AE-5F3B0BDE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D8BF-5C41-4470-827B-D2259927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716EB-075B-4C00-A415-01C91CAF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7456-D16E-43F0-8A3A-BEBE210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AD7A-B4E3-48A1-BABE-BF414CBA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697D-4AF6-4ACA-8EA7-18AEF7A8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B1C7E-3934-458B-9DDD-70C786B8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1371C-F9F6-49F4-9175-D7DD875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156E5-8DD6-4F1A-B711-A35DDA2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01DF-8A04-416D-B3DB-EE78CC7B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1EA9-A332-40AF-B3AC-07198EAF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3EB-9111-4EE7-A07D-7EC5A6E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DAD9-DBED-4BFB-B1D2-FD0FB4E0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B2C2-0E79-4191-B2D1-AB8E1B59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174D-75F0-4007-B8E5-08CC9759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59A7-D496-4DCB-9DD4-7A150A74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B58B-274B-4309-A49D-F7936783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54C1C-13FA-4562-AD14-D9B9EEA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9386-2E13-4E35-8A61-7D8421A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54C3F-BD1D-45C6-8B34-83D4591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3B00-20F8-4B5A-88EA-D0D6F8B4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ED03-71D9-4281-BC19-4B4B153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3C5-D92F-4DBC-B8F8-CE63C10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0A04-51C2-42CA-B629-CD5D237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41F1-3220-4AAD-A767-E319578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8A2C-70F2-43B1-8198-9FD2CBF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C10F-6397-4110-BB28-E42876F5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45FE-9038-4AB0-9A8C-77AC1E3C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3DE-84DF-4C9B-94E3-1405A35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20FD-7B5E-46C9-A05A-1EE4F587BA4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AFFA-B009-44D8-9ACB-2B9E27E272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845B-27A4-4EE9-A1E6-BAB160D38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FC3-ADEE-4408-AA58-5F6AB684332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E135-C93E-4D31-9C7C-BAEF67450ED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E7CC-6F9D-4F72-A491-7CD18E5CCB0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FD5-3EB8-4770-95D4-7DBE8D04BD8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assia Enimpa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atrina Tulos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ustin Zearf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dy Krissing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10552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6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hemical reaction between compounds in which the elements in the reactants recombine to form two different compounds, each of the products having one element from each of the reacta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a positive ion, cation, and a negative ion, antion combin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us 4"/>
          <p:cNvSpPr/>
          <p:nvPr/>
        </p:nvSpPr>
        <p:spPr>
          <a:xfrm>
            <a:off x="1523880" y="5029200"/>
            <a:ext cx="1905120" cy="182880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6"/>
          <p:cNvCxnSpPr/>
          <p:nvPr/>
        </p:nvCxnSpPr>
        <p:spPr>
          <a:xfrm>
            <a:off x="3733560" y="5791320"/>
            <a:ext cx="1524600" cy="2160"/>
          </a:xfrm>
          <a:prstGeom prst="straightConnector1">
            <a:avLst/>
          </a:prstGeom>
          <a:ln w="4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Minus 8"/>
          <p:cNvSpPr/>
          <p:nvPr/>
        </p:nvSpPr>
        <p:spPr>
          <a:xfrm>
            <a:off x="5486400" y="5791320"/>
            <a:ext cx="1981080" cy="152280"/>
          </a:xfrm>
          <a:prstGeom prst="pi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51460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8160" y="5562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2" descr=""/>
          <p:cNvPicPr/>
          <p:nvPr/>
        </p:nvPicPr>
        <p:blipFill>
          <a:blip r:embed="rId2"/>
          <a:stretch/>
        </p:blipFill>
        <p:spPr>
          <a:xfrm>
            <a:off x="401760" y="1768320"/>
            <a:ext cx="8291520" cy="463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cl12enimpahn\Local Settings\Temporary Internet Files\Content.IE5\6G601VPN\MPj04373680000[1].jpg"/>
          <p:cNvPicPr/>
          <p:nvPr/>
        </p:nvPicPr>
        <p:blipFill>
          <a:blip r:embed="rId3"/>
          <a:stretch/>
        </p:blipFill>
        <p:spPr>
          <a:xfrm>
            <a:off x="1066680" y="2819520"/>
            <a:ext cx="1981440" cy="2562120"/>
          </a:xfrm>
          <a:prstGeom prst="rect">
            <a:avLst/>
          </a:prstGeom>
          <a:ln w="0">
            <a:noFill/>
          </a:ln>
        </p:spPr>
      </p:pic>
      <p:cxnSp>
        <p:nvCxnSpPr>
          <p:cNvPr id="316" name="Straight Arrow Connector 10"/>
          <p:cNvCxnSpPr/>
          <p:nvPr/>
        </p:nvCxnSpPr>
        <p:spPr>
          <a:xfrm>
            <a:off x="3428640" y="3200400"/>
            <a:ext cx="1524600" cy="21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pic>
        <p:nvPicPr>
          <p:cNvPr id="317" name="Rectangle 12" descr=""/>
          <p:cNvPicPr/>
          <p:nvPr/>
        </p:nvPicPr>
        <p:blipFill>
          <a:blip r:embed="rId4"/>
          <a:stretch/>
        </p:blipFill>
        <p:spPr>
          <a:xfrm>
            <a:off x="3571920" y="1652760"/>
            <a:ext cx="6248520" cy="314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13d"/>
              </a:solidFill>
              <a:latin typeface="Corbel"/>
            </a:endParaRPr>
          </a:p>
        </p:txBody>
      </p:sp>
      <p:pic>
        <p:nvPicPr>
          <p:cNvPr id="319" name="Content Placeholder 3" descr="DoubleReplacement2.jpg"/>
          <p:cNvPicPr/>
          <p:nvPr/>
        </p:nvPicPr>
        <p:blipFill>
          <a:blip r:embed="rId1"/>
          <a:stretch/>
        </p:blipFill>
        <p:spPr>
          <a:xfrm>
            <a:off x="533520" y="2286000"/>
            <a:ext cx="8107200" cy="26114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4"/>
          <p:cNvGrpSpPr/>
          <p:nvPr/>
        </p:nvGrpSpPr>
        <p:grpSpPr>
          <a:xfrm>
            <a:off x="1133640" y="371520"/>
            <a:ext cx="6346800" cy="1672560"/>
            <a:chOff x="1133640" y="371520"/>
            <a:chExt cx="6346800" cy="1672560"/>
          </a:xfrm>
        </p:grpSpPr>
        <p:pic>
          <p:nvPicPr>
            <p:cNvPr id="321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371520"/>
              <a:ext cx="63468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71600" y="609480"/>
              <a:ext cx="5867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</a:rPr>
                <a:t>Example!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Straight Arrow Connector 6"/>
          <p:cNvCxnSpPr/>
          <p:nvPr/>
        </p:nvCxnSpPr>
        <p:spPr>
          <a:xfrm flipH="1">
            <a:off x="4645800" y="839880"/>
            <a:ext cx="3960" cy="8388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cxnSp>
        <p:nvCxnSpPr>
          <p:cNvPr id="324" name="Straight Arrow Connector 8"/>
          <p:cNvCxnSpPr/>
          <p:nvPr/>
        </p:nvCxnSpPr>
        <p:spPr>
          <a:xfrm flipH="1">
            <a:off x="7085880" y="761040"/>
            <a:ext cx="1143720" cy="10674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cxnSp>
        <p:nvCxnSpPr>
          <p:cNvPr id="325" name="Straight Arrow Connector 10"/>
          <p:cNvCxnSpPr/>
          <p:nvPr/>
        </p:nvCxnSpPr>
        <p:spPr>
          <a:xfrm>
            <a:off x="837000" y="1066680"/>
            <a:ext cx="762840" cy="9151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cl12enimpahn\Local Settings\Temporary Internet Files\Content.IE5\84J2OIQR\MPj03901260000[1].jpg"/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2610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 rot="20256600">
            <a:off x="447480" y="601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6231"/>
                </a:solidFill>
                <a:latin typeface="Arial"/>
              </a:rPr>
              <a:t>Example 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905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KI  </a:t>
            </a:r>
            <a:r>
              <a:rPr b="0" lang="en-US" sz="68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en-US" sz="6800" spc="-1" strike="noStrike">
                <a:solidFill>
                  <a:srgbClr val="ff0000"/>
                </a:solidFill>
                <a:latin typeface="Corbel"/>
              </a:rPr>
              <a:t>Pb(NO 3)</a:t>
            </a: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otassium Iodide +Lead Nitrat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17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 a double replacement reaction, the two compounds react and new ones crea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Explosion 1 5"/>
          <p:cNvSpPr/>
          <p:nvPr/>
        </p:nvSpPr>
        <p:spPr>
          <a:xfrm>
            <a:off x="2971800" y="3505320"/>
            <a:ext cx="2895480" cy="2209680"/>
          </a:xfrm>
          <a:prstGeom prst="irregularSeal1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2057400" y="3962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llow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the new substanc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3200400" y="3809880"/>
            <a:ext cx="213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352680" y="39625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52280" y="16002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s.howstuffworks.com/hsw/14750-simply-science-double-replacement-reactions-vide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: http://www.marymount.k12.ny.us/marynet/stwbwk04/04flash/zb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hl=en&amp;q=potassium+iodide&amp;gbv=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com/images?gbv=2&amp;hl=en&amp;safe=active&amp;q=lead+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12:37Z</dcterms:created>
  <dc:creator>cl12enimpahn</dc:creator>
  <dc:description/>
  <dc:language>en-US</dc:language>
  <cp:lastModifiedBy>cl12enimpahn</cp:lastModifiedBy>
  <dcterms:modified xsi:type="dcterms:W3CDTF">2009-02-18T20:53:28Z</dcterms:modified>
  <cp:revision>17</cp:revision>
  <dc:subject/>
  <dc:title>Double Cell Replacement</dc:title>
</cp:coreProperties>
</file>