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explode.wav" ContentType="audio/x-wav"/>
  <Override PartName="/ppt/media/image13.png" ContentType="image/png"/>
  <Override PartName="/ppt/media/image1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3FF-2441-4B9E-8577-8A51716E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490-FF08-4931-BDBC-40BB9E78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11E-019B-4D37-8792-02FFC702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842-AE5D-49E5-8CE9-4518D2D2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F3F-5E70-45D0-8AAA-ABA29EEB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F629-6E27-487B-A7CF-1ED562C7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19E1-F963-4630-8138-F24530BA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5D5E-2750-4057-B376-7D80028F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72E7-AF2C-4A8F-9B0B-37ABBED2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192D-0661-40B2-BFDE-25EFB185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24A3-7701-4F07-9029-527459C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30F-DBE3-4AE8-9387-55EBDF7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735B-EACF-4D54-9947-CE495554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0BF1-764D-475B-B6A0-583B7AE8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9C24-CE4F-4DD6-B3FD-86BC9342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A211-BE6A-49D8-8AC0-95A0B0E7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80C9-726A-485B-BB1E-B4D69B6D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14A5-634C-4921-885B-BA0A6B5D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A95F-B7A1-4776-87D1-0EFA8C7D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431D6-E4C7-403E-AD24-2CA32811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065D-46EF-4990-B3B2-E5D2AC9A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3BE9-3EF0-461F-B250-D9C61DF5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4B2-FD7E-473F-BAD2-56CF8F12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2D29-F4A2-41DC-9C27-01C95478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1604-5223-40C2-A18A-4359D443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CD774-D5A5-4AE8-99E5-42C7C61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7098-9594-4499-831B-40A7B063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DC457-AD50-48F5-901C-5F3A63AA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9354-479E-4641-9019-D2E75C7B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66ED-92DA-4F24-BCD1-B33851A5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77E3-B7E7-4432-9F00-F1BEE408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0D3D-73CA-4CB3-BF88-CB03A999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2075-46B6-40C1-8716-BAFE87C7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9BF-610A-44C3-9894-3905217E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FC0D-E6BB-4E97-880E-A4DF562F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6065-5D76-4FF2-8982-C0646231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0226E-BC16-40A4-97D9-0C03CF41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F142-4994-4E2C-B127-635A49F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677A0-8E0D-4867-98D5-FFFA5212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B6955-A7ED-4632-9AFB-10B53A0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012A-FBC0-4A18-BD81-60967128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C267-A7F7-4181-B0E0-7EB76C66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2351-8C24-41FD-BC11-8CE02E82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69FAF-1C73-4E65-905E-0EC3BECC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980-59BB-463C-9DBD-F29C5C11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FBD1E-8A66-4B10-99C6-58441748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4710-F4DD-44CA-BE34-39F72F25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E7E37-CD7E-4E02-B1DF-4C75E655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93AA4-730E-4218-82A1-000EDFAD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78BA9-526C-47BB-B8A0-CEE0299C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3E53-8F77-4038-A28C-B31D2EF3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B12AB-4070-4D0F-A263-DA1C64F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A9EF2-C21D-4FBD-BC6A-7F54F2D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9A96E-E2F8-45CD-853D-B8AF6459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5DC5-9295-45A8-8044-1E0757BE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535-51A9-45C2-A870-A296FA3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4191C-12A2-4F49-A4E3-5519F1E4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1E026-DE56-4CBA-85D7-B85EC452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D7134-F3A3-49C5-8704-B030506F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10FBD-3A88-4803-8FB1-C48030F5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1731D-E2AA-42F8-9850-91CD6D65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6CC2E-2B99-4DFD-869A-7A2F309D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14B8-F485-4751-9C07-49F2E08A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E4805-DA04-499B-B56C-FD98C47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C1522-820E-4659-9B32-626F5BC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93204-5A70-44FF-B76C-0FD978A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3C2-5E97-4FED-BEC7-7AB5932F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F46D-32E0-48EA-B391-531CF2B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26BEC-3109-4E48-9180-68F941D9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BA56D-A1D7-4B2E-B54F-9C69B391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A4A3F-A239-4C7D-8A45-607DA0B9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0035-39DA-4735-8C3B-60869411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345AA-C6E6-4C40-AAB7-640A8A80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7BBEA-C780-45C9-BC1A-1BF40162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D58B6-D683-43D8-91A4-D381BB2E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DE19-D9BD-43A8-AA11-C8FBA98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23D8E-A690-4EE6-976F-06ABA65D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3CA-017B-48DA-86BB-D1C9EB50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72987-D39A-4643-BBE7-1BF0837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36074-FAE3-484C-92B5-3B22548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60879-3733-4283-B600-7AA65C15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B1ADF-7D4B-411B-AC79-0AD4BED4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59638-4F1B-44C1-AE19-7C848398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C28-0FB8-4ACC-BA05-2A37CFE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7105-9CB5-46BB-AB17-C98D90225CE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6312-9880-441D-B708-DC94718A04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A5A0-CCB8-4207-9482-EDCEBF9D3A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C6CD-BE50-4F7D-AF9C-F7976449681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6185-F839-4762-8A8F-642326ED8B5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1E9A-1D4E-40C8-898C-C3E365322CA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0B6E-3D08-43C8-AF9A-F58B8D2C9A3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atassia Enimpa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atrina Tulos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ustin Zearfo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dy Krissinger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510552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6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hemical reaction between compounds in which the elements in the reactants recombine to form two different compounds, each of the products having one element from each of the reactant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a positive ion, cation, and a negative ion, antion combin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us 4"/>
          <p:cNvSpPr/>
          <p:nvPr/>
        </p:nvSpPr>
        <p:spPr>
          <a:xfrm>
            <a:off x="1523880" y="5029200"/>
            <a:ext cx="1905120" cy="182880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6"/>
          <p:cNvCxnSpPr/>
          <p:nvPr/>
        </p:nvCxnSpPr>
        <p:spPr>
          <a:xfrm>
            <a:off x="3733560" y="5791320"/>
            <a:ext cx="1524600" cy="2160"/>
          </a:xfrm>
          <a:prstGeom prst="straightConnector1">
            <a:avLst/>
          </a:prstGeom>
          <a:ln w="48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Minus 8"/>
          <p:cNvSpPr/>
          <p:nvPr/>
        </p:nvSpPr>
        <p:spPr>
          <a:xfrm>
            <a:off x="5486400" y="5791320"/>
            <a:ext cx="1981080" cy="15228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2514600" y="5334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5798160" y="5562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2" descr=""/>
          <p:cNvPicPr/>
          <p:nvPr/>
        </p:nvPicPr>
        <p:blipFill>
          <a:blip r:embed="rId2"/>
          <a:stretch/>
        </p:blipFill>
        <p:spPr>
          <a:xfrm>
            <a:off x="401760" y="1768320"/>
            <a:ext cx="8291520" cy="4638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Documents and Settings\cl12enimpahn\Local Settings\Temporary Internet Files\Content.IE5\6G601VPN\MPj04373680000[1].jpg"/>
          <p:cNvPicPr/>
          <p:nvPr/>
        </p:nvPicPr>
        <p:blipFill>
          <a:blip r:embed="rId3"/>
          <a:stretch/>
        </p:blipFill>
        <p:spPr>
          <a:xfrm>
            <a:off x="1066680" y="2819520"/>
            <a:ext cx="1981440" cy="2562120"/>
          </a:xfrm>
          <a:prstGeom prst="rect">
            <a:avLst/>
          </a:prstGeom>
          <a:ln w="0">
            <a:noFill/>
          </a:ln>
        </p:spPr>
      </p:pic>
      <p:cxnSp>
        <p:nvCxnSpPr>
          <p:cNvPr id="316" name="Straight Arrow Connector 10"/>
          <p:cNvCxnSpPr/>
          <p:nvPr/>
        </p:nvCxnSpPr>
        <p:spPr>
          <a:xfrm>
            <a:off x="3428640" y="3200400"/>
            <a:ext cx="1524600" cy="21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pic>
        <p:nvPicPr>
          <p:cNvPr id="317" name="Rectangle 12" descr=""/>
          <p:cNvPicPr/>
          <p:nvPr/>
        </p:nvPicPr>
        <p:blipFill>
          <a:blip r:embed="rId4"/>
          <a:stretch/>
        </p:blipFill>
        <p:spPr>
          <a:xfrm>
            <a:off x="3571920" y="1652760"/>
            <a:ext cx="6248520" cy="314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13d"/>
              </a:solidFill>
              <a:latin typeface="Corbel"/>
            </a:endParaRPr>
          </a:p>
        </p:txBody>
      </p:sp>
      <p:pic>
        <p:nvPicPr>
          <p:cNvPr id="319" name="Content Placeholder 3" descr="DoubleReplacement2.jpg"/>
          <p:cNvPicPr/>
          <p:nvPr/>
        </p:nvPicPr>
        <p:blipFill>
          <a:blip r:embed="rId1"/>
          <a:stretch/>
        </p:blipFill>
        <p:spPr>
          <a:xfrm>
            <a:off x="533520" y="2286000"/>
            <a:ext cx="8107200" cy="2611440"/>
          </a:xfrm>
          <a:prstGeom prst="rect">
            <a:avLst/>
          </a:prstGeom>
          <a:ln w="0">
            <a:noFill/>
          </a:ln>
        </p:spPr>
      </p:pic>
      <p:grpSp>
        <p:nvGrpSpPr>
          <p:cNvPr id="320" name="TextBox 4"/>
          <p:cNvGrpSpPr/>
          <p:nvPr/>
        </p:nvGrpSpPr>
        <p:grpSpPr>
          <a:xfrm>
            <a:off x="1133640" y="371520"/>
            <a:ext cx="6346800" cy="1672560"/>
            <a:chOff x="1133640" y="371520"/>
            <a:chExt cx="6346800" cy="1672560"/>
          </a:xfrm>
        </p:grpSpPr>
        <p:pic>
          <p:nvPicPr>
            <p:cNvPr id="321" name="TextBox 4" descr=""/>
            <p:cNvPicPr/>
            <p:nvPr/>
          </p:nvPicPr>
          <p:blipFill>
            <a:blip r:embed="rId2"/>
            <a:stretch/>
          </p:blipFill>
          <p:spPr>
            <a:xfrm>
              <a:off x="1133640" y="371520"/>
              <a:ext cx="63468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371600" y="609480"/>
              <a:ext cx="5867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"/>
                </a:rPr>
                <a:t>Example!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3" name="Straight Arrow Connector 6"/>
          <p:cNvCxnSpPr/>
          <p:nvPr/>
        </p:nvCxnSpPr>
        <p:spPr>
          <a:xfrm flipH="1">
            <a:off x="4645800" y="839880"/>
            <a:ext cx="3960" cy="8388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24" name="Straight Arrow Connector 8"/>
          <p:cNvCxnSpPr/>
          <p:nvPr/>
        </p:nvCxnSpPr>
        <p:spPr>
          <a:xfrm flipH="1">
            <a:off x="7085880" y="761040"/>
            <a:ext cx="1143720" cy="10674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25" name="Straight Arrow Connector 10"/>
          <p:cNvCxnSpPr/>
          <p:nvPr/>
        </p:nvCxnSpPr>
        <p:spPr>
          <a:xfrm>
            <a:off x="837000" y="1066680"/>
            <a:ext cx="762840" cy="9151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cl12enimpahn\Local Settings\Temporary Internet Files\Content.IE5\84J2OIQR\MPj03901260000[1].jpg"/>
          <p:cNvPicPr/>
          <p:nvPr/>
        </p:nvPicPr>
        <p:blipFill>
          <a:blip r:embed="rId2"/>
          <a:stretch/>
        </p:blipFill>
        <p:spPr>
          <a:xfrm>
            <a:off x="2743200" y="2209680"/>
            <a:ext cx="3657600" cy="26100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8" name="TextBox 3"/>
          <p:cNvSpPr/>
          <p:nvPr/>
        </p:nvSpPr>
        <p:spPr>
          <a:xfrm rot="20256600">
            <a:off x="447480" y="6019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6231"/>
                </a:solidFill>
                <a:latin typeface="Arial"/>
              </a:rPr>
              <a:t>Example 2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905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KI  </a:t>
            </a:r>
            <a:r>
              <a:rPr b="0" lang="en-US" sz="6800" spc="-1" strike="noStrike">
                <a:solidFill>
                  <a:srgbClr val="000000"/>
                </a:solidFill>
                <a:latin typeface="Corbel"/>
              </a:rPr>
              <a:t>+ </a:t>
            </a: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Pb(NO 3)</a:t>
            </a: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Potassium Iodide +Lead Nitrat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n a double replacement reaction, the two compounds react and new ones crea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Explosion 1 5"/>
          <p:cNvSpPr/>
          <p:nvPr/>
        </p:nvSpPr>
        <p:spPr>
          <a:xfrm>
            <a:off x="2971800" y="3505320"/>
            <a:ext cx="2895480" cy="2209680"/>
          </a:xfrm>
          <a:prstGeom prst="irregularSeal1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2057400" y="3962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llow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[ the new substanc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3200400" y="3809880"/>
            <a:ext cx="213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3352680" y="396252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52280" y="160020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s.howstuffworks.com/hsw/14750-simply-science-double-replacement-reactions-vide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: http://www.marymount.k12.ny.us/marynet/stwbwk04/04flash/zb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hl=en&amp;q=potassium+iodide&amp;gbv=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gbv=2&amp;hl=en&amp;safe=active&amp;q=lead+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2:37Z</dcterms:created>
  <dc:creator>cl12enimpahn</dc:creator>
  <dc:description/>
  <dc:language>en-US</dc:language>
  <cp:lastModifiedBy>cl12enimpahn</cp:lastModifiedBy>
  <dcterms:modified xsi:type="dcterms:W3CDTF">2009-02-18T20:53:28Z</dcterms:modified>
  <cp:revision>17</cp:revision>
  <dc:subject/>
  <dc:title>Double Cell Replacement</dc:title>
</cp:coreProperties>
</file>