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573-B026-4F05-A31F-680D9A44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358-7B24-4F66-860F-F009E998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FC5-A63A-4C6C-BF3D-9FC70336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A32-BAF0-4C94-A6AE-112A6B95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919-76A4-4053-B77E-3786BEF1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75C-A95E-4613-AB62-9EF28E28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4E7-893F-4254-84BE-C3A5ED5D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3F2-D5B2-448A-A365-559B315A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71B-BE10-4622-930E-D6239DF8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948-A549-4EFB-860B-B2E23DB8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693-D395-4B7E-A672-39E84C66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16C-3030-4EB1-85D1-1B3604A9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C126-14BE-4EAA-80D4-4B99D5C2B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nnah, Connor, B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osition is the separation of a chemical compound into elements or smaller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types of decomposition reactions: thermal, elecrolytic, and cataly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eneral formula for it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&gt; A+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Carbonates, when heated, form metallic oxides and 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CaO+Co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hydroxides, when heated, decompose into metallic oxides and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 →    Ca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 +  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al 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chemical reaction when a chemical substance breaks up into at least two chemical substances when he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. Calcium Carbonate&gt;Calcium Oxide and Carbon Di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&gt;CaO+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lysis 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osition of water into oxygen, and hydrogen gas due to an electric current being passed through th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in industrial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iles.chem.vt.ed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Science book, Prentice 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un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videos.howstuffworks.com/hsw/14755-simply-science-decomposition-reactions-video.ht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00:43Z</dcterms:created>
  <dc:creator>cl12klimkowskic</dc:creator>
  <dc:description/>
  <dc:language>en-US</dc:language>
  <cp:lastModifiedBy>cl12klimkowskic</cp:lastModifiedBy>
  <dcterms:modified xsi:type="dcterms:W3CDTF">2009-02-17T15:16:00Z</dcterms:modified>
  <cp:revision>9</cp:revision>
  <dc:subject/>
  <dc:title>Decomposition</dc:title>
</cp:coreProperties>
</file>