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135F-56BF-4597-B571-B74A57B6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0AE6-77DD-403B-B5D3-50E632DB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7D76-5FD8-4C19-AD6D-2739EB7D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1CC1-2DCA-43EB-9192-F9A223B2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1F24-39C1-4E14-9E94-CB7EE2C0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D42B-BB81-44E2-A9A0-E85B6B9D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5062-017C-4F74-B78F-591BF353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53CA-3D58-4309-BB8C-B9005748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9CCD-F72C-40BB-AF98-83C7DB21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38A9-226F-4CCA-8471-4658D70A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97BF-D1EE-41D4-B7C4-13D0F359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5440-CCBB-42EB-9BC7-1DE0B031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86F9-EDAD-415F-A67D-04A006E4C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com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nnah, Connor, Br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omposition is the separation of a chemical compound into elements or smaller compou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three types of decomposition reactions: thermal, elecrolytic, and catalyt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eneral formula for it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&gt; A+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Carbonates, when heated, form metallic oxides and C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C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gt;CaO+Co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hydroxides, when heated, decompose into metallic oxides and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(s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 →    Ca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(s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 +  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(g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mal Decom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chemical reaction when a chemical substance breaks up into at least two chemical substances when he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. Calcium Carbonate&gt;Calcium Oxide and Carbon Diox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C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&gt;CaO+C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lysis Decom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omposition of water into oxygen, and hydrogen gas due to an electric current being passed through the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used in industrial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 Ci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files.chem.vt.ed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Science book, Prentice H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iun.e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gle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videos.howstuffworks.com/hsw/14755-simply-science-decomposition-reactions-video.ht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5:00:43Z</dcterms:created>
  <dc:creator>cl12klimkowskic</dc:creator>
  <dc:description/>
  <dc:language>en-US</dc:language>
  <cp:lastModifiedBy>cl12klimkowskic</cp:lastModifiedBy>
  <dcterms:modified xsi:type="dcterms:W3CDTF">2009-02-17T15:16:00Z</dcterms:modified>
  <cp:revision>9</cp:revision>
  <dc:subject/>
  <dc:title>Decomposition</dc:title>
</cp:coreProperties>
</file>