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666-B2DD-4343-8A6C-2ABC08B2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049-EE8F-407D-A323-35D1F734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C25-A8A3-43FA-8907-ACE07586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76D-B20E-41EC-A3AC-F0591F96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01E-A074-46E7-A313-54C22AD6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88C-AF95-4812-91F8-A2378CE6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0B5-E709-46D2-A639-0F9F6374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760-90C8-4268-B7E7-1F4FB55C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E9F-E7E2-47F8-AF61-982414ED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899-D184-4D0B-BCEB-8C6133D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752-D7F7-4708-93F8-B04B5A7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9B1-12E5-49A8-95EF-9EFD199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3BF1-1989-4841-98E7-C737E10A7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nnah, Connor, B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ition is the separation of a chemical compound into elements or smaller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types of decomposition reactions: thermal, elecrolytic, and cataly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eneral formula for i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&gt; A+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Carbonates, when heated, form metallic oxides and 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CaO+Co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hydroxides, when heated, decompose into metallic oxides and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 →    Ca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 +  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al 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hemical reaction when a chemical substance breaks up into at least two chemical substances when h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Calcium Carbonate&gt;Calcium Oxide and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&gt;CaO+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lysis 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ition of water into oxygen, and hydrogen gas due to an electric current being passed through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industrial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iles.chem.vt.ed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Science book, Prentice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un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ideos.howstuffworks.com/hsw/14755-simply-science-decomposition-reactions-video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00:43Z</dcterms:created>
  <dc:creator>cl12klimkowskic</dc:creator>
  <dc:description/>
  <dc:language>en-US</dc:language>
  <cp:lastModifiedBy>cl12klimkowskic</cp:lastModifiedBy>
  <dcterms:modified xsi:type="dcterms:W3CDTF">2009-02-17T15:16:00Z</dcterms:modified>
  <cp:revision>9</cp:revision>
  <dc:subject/>
  <dc:title>Decomposition</dc:title>
</cp:coreProperties>
</file>