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E63-4145-44EE-925C-115DE807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E48-17AC-46CB-B01E-7CE18D34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103-8470-4821-90EC-B22BCEBC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59A-ACBB-4A5E-965D-7DA1757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A9C-9706-4DD1-8809-D01EAAB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683-7742-4143-810F-B192BFC8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B15-A514-44C3-B018-B75A7BDE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B57-F677-4219-B3BE-42373842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5A3-98AC-4F78-A45F-72947C8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450-8389-408A-A4B7-260B3B9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337-B4C5-42A8-A826-27C10845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95D-DBE6-4258-9199-BEE1799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3D4-AB7C-44E2-9123-27DAF7C68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nnah, Connor, B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is the separation of a chemical compound into elements or smaller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types of decomposition reactions: thermal, elecrolytic, and cataly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eral formula for i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&gt; A+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Carbonates, when heated, form metallic oxides and 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CaO+C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hydroxides, when heated, decompose into metallic oxides a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→    Ca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+  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hemical reaction when a chemical substance breaks up into at least two chemical substances when h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Calcium Carbonate&gt;Calcium Oxide and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&gt;CaO+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lysis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of water into oxygen, and hydrogen gas due to an electric current being passed through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industrial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les.chem.vt.ed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Science book, Prentice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un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ideos.howstuffworks.com/hsw/14755-simply-science-decomposition-reactions-video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00:43Z</dcterms:created>
  <dc:creator>cl12klimkowskic</dc:creator>
  <dc:description/>
  <dc:language>en-US</dc:language>
  <cp:lastModifiedBy>cl12klimkowskic</cp:lastModifiedBy>
  <dcterms:modified xsi:type="dcterms:W3CDTF">2009-02-17T15:16:00Z</dcterms:modified>
  <cp:revision>9</cp:revision>
  <dc:subject/>
  <dc:title>Decomposition</dc:title>
</cp:coreProperties>
</file>