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EF60-1BF2-4FCB-B677-2A1431323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3AD8-9EA3-45E1-B7DF-5A2119884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5D5-9C55-4229-A909-4C403397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C06-F1DD-4D8E-A76B-EED9B812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E50-1519-4D10-A270-5E28EFE3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EB2-7A9C-4E42-92EB-8B744E5E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86AB-1EEF-44B4-AA44-B01B934A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8C1-6E20-4871-B2D8-64A572B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1BD7-1EE6-4105-9326-60544A9C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035D-C2DC-48B3-8820-DDEC7C4A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CAC4-F0A1-4F4F-A2D4-87D58A7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7DC8-C759-49BA-992F-FF307412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D80C-C911-4097-B54B-EDE8FF4D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6B8-B2D2-4AD1-8E09-A8D33DBE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C890-A83B-4098-B064-26BC6F94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DED0-54F0-420B-B518-B3E3F360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0EEE-5902-412E-9931-5F1D6F34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1ABD-CA60-49E4-A394-6764DDCC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009D-9758-4C15-862B-F5BC0FDC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B8399-A364-4E0B-A0D1-30294997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F0132-E473-477C-A428-CDC9CEDE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3F7A0-639A-44CC-8AB4-3D471C74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097D1-3E4A-4183-868F-9C1B7B24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553D6-779A-4BA0-85CA-6C9A28AD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DE8-8229-4AC0-8A65-452469AE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70730-8854-444F-B89A-0938928E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688E5-A9A8-478D-A684-D91A8E6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DE738-ADB5-41EE-8816-B69ED21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92030-1DA7-4A82-8B76-F33F7FF9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9393E-30B4-4C33-B479-E84349CC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550C3-3870-43E2-B0B0-E84E7366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B630A-AFCE-4372-8EF9-DD77BE71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17CB-0BAA-4811-9EEF-B6305440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E220-269A-429A-8276-96E54541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313B-0B9D-4C3F-9B5B-ADD4FF86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260-0D73-4FFB-831C-7D387EA7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F017-A407-4D29-B6AD-6B636CC4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ED1A-8240-498A-BE71-5CCFC146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9C49-4F89-4102-918E-85CE0440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FABB-0266-4561-AB10-7D3C9528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748B1-E1C8-4FCB-ABC3-DCC67BEF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5F5D-B0CC-4908-AA96-CEB76C6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C661B-0C63-471E-AA04-BCE1E50F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ADAD-0CC5-4E62-811E-6AD69629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7ADF-E402-41CC-A664-1CB3E6AE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1A03D-18DB-4745-A781-5886E2AB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26C-0CC6-41FC-8362-68E371EC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37F3F-941F-4844-B3AB-DE6F5E64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C2D81-BDCC-4EBE-A9D0-1B711254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03E88-C8F3-43DD-B5CA-1296AF17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CBF67-CD79-4115-94E0-A559630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A6665-D350-4F6B-8656-6189C13F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EEA77-A69A-487E-A8F2-01D4159F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DD283-B460-41B5-AD80-BC85BF4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A0CE1-C5DC-45AD-A91D-257E434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D2584-D50F-4FF7-BA03-9B228C07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89B55-7E1E-4564-964B-53AC212F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86D-640D-4560-ACB8-9E3FA4F2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C4AB3-31BF-443F-8E25-4312E23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5407A-49D3-46D0-AA94-D170BBC5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1C64B-3855-4EC0-9EEF-92B4079C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6E85F-3CAC-425E-A996-AA8F6AD8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33C61-CDC3-4D4C-BD2F-3F0562DB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A4764-38E5-47E3-8C6D-7751659A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18994-A842-46AB-A435-9130DA0B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F1415-E315-4639-8494-491620D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26571-F828-4CDA-A23E-E3E8986E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7DFCF-9068-4F5F-96A3-48EA1B2D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0E2-AE0B-488C-AC7F-0CBC7809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1A613-982C-452E-90F7-92B13F1D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68E9C-F4F5-499D-A3B7-1912DFF0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9EDA0-3B0F-464A-90B5-91A2EF38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0A3BD-FC10-4CC6-87C0-F8DC8158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5F458-4357-48E7-9C0B-D8DBE6C8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6F859-EF67-4AA6-9DC6-EA0A93CA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0AEFA-6D3A-4FF6-BE2E-AB8050B6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DF539F-E96D-4912-A017-E15FDF04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BEF26-4AB8-46CC-95C7-43246C87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02D3A-FE5E-4D6F-9D8F-2F96B3A2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FC2-9981-435E-8B92-79BB619B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30598-47FD-4F14-B42C-210F7DC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5F9DF-04FE-4963-AF50-EA5BD914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20E87-35E2-41E6-8FBE-F249CAB9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1A9E6-2347-4085-9203-6EA1DB04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F31DB-FA80-4405-AAC5-1E5A2231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065-4B4A-48B2-80F3-A72685B5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52F-0422-4695-A8B4-498ACE9C83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5461-73EC-460B-AAE4-1BB41BDEB6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0D48-52EF-4884-BBB2-C1DE7E3BE6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CB3B-D73C-47F7-99FC-8B5284E224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3788-8179-4F1C-81BF-7A37AF9AD0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9EA4-4D89-4816-B3E9-0966E59553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B902-C0EC-4EA4-8DB3-549796156B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discovery/29165-assignment-discovery-chemical-reactions-video.htm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SYNTHESIS</a:t>
            </a:r>
            <a:r>
              <a:rPr b="1" lang="en-US" sz="6500" spc="-1" strike="noStrike">
                <a:solidFill>
                  <a:srgbClr val="ff0066"/>
                </a:solidFill>
                <a:latin typeface="Century Schoolbook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REACTION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Paige Anspach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Nick Meas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Carter Peck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entury Schoolbook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Century Schoolbook"/>
              </a:rPr>
              <a:t>SYNTHESIS REACTION DEFINITION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when there is a combination of two or more substances and a compound resul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also a chemical reaction in which two or more substances react to form a single substan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It is the combining of the constituent elements of separate material or abstract entilies into a single or unified entr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EXAMPLE OF SYNTHESI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REACTION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n example of a synthesis reaction is hydrogen and oxygen reacting to form wat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2H2+O2---------2H2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Another example that can be described is the synthesis of sodium Chloride with this equ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2Na + Cl2 -------2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This is a general equation for Synthesis reaction  i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+B------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MOVIE OF SYNTHESIS REA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videos.howstuffworks.com/discovery/29165-assignment-discovery-chemical-reactions-video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52:24Z</dcterms:created>
  <dc:creator>cl12anspachp</dc:creator>
  <dc:description/>
  <dc:language>en-US</dc:language>
  <cp:lastModifiedBy>cl12anspachp</cp:lastModifiedBy>
  <dcterms:modified xsi:type="dcterms:W3CDTF">2009-02-18T20:23:19Z</dcterms:modified>
  <cp:revision>9</cp:revision>
  <dc:subject/>
  <dc:title>Synthesis Reaction </dc:title>
</cp:coreProperties>
</file>