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51AD-3329-45C0-9154-466D98ACD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24EB-55D5-40A9-9B6A-C91DC99A0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56F9-4C08-444E-8221-585560E3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79E-F980-4AC2-801E-94582D49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7B5-D2D9-424C-BD1A-BD2752F2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0BB9-E5DE-4296-9183-E040DFF3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5A64-72BA-4D8A-9A20-CC93663E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A5B8-9E23-4CB5-A01B-4C9D3D69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0097-2086-44A4-BA01-1048579E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DAEF-193C-4360-BC25-CDBF1958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544D-06BA-4AC2-817E-4E028076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7E8C-E4F5-41E2-8691-F11CC489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1891-BE23-4045-8903-2B823999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75C-2445-4CFC-82B6-BB584FE6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E9F6-935C-43E1-9B52-C1C54387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9E9E-DF4F-4030-B966-7565A3AF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0240-8FE6-4D27-9F21-3632CA47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EC40-A67B-4799-AABB-FC19401D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E9B9-7B67-42E2-870B-DCE4E53A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01E6D-CBF4-4324-9CEC-DC893A8A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DD442-B603-423B-8F07-74AE82C8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21BCBE-CEFB-4B0C-8F92-30B07AEA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0E57E-00A9-4A39-B04B-F1213385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D9A8C-FB04-4F95-801A-61DEB0EE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736-6C70-4CD1-8D97-B9885E9F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CFC0C-F877-41FE-A4CC-9277BCCB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943DF-8749-49D3-94FB-A7BCB064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E41C5-00FE-4C89-B764-7926FAC8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A59E5-FA05-4ADD-8EEE-E6108BEC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9FFAD-AB72-4078-BA23-8C764992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87D7E-F5A9-42E8-80AE-97939D4F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E4FD6-119A-4609-8788-ACFBACC8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F358F-30F7-424F-A0C7-624C25BF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B0DA5-82B1-45F8-8BFB-6926B544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7C0ED-AA90-4BC3-BB4B-FA208186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A6D-C7B7-4832-9A03-2B3529D1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E71C1-A881-4AAB-BD5E-D8D57172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D0EF0-761D-4C81-80B8-B4673224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97949-D53B-463B-9699-DBB366E6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68AEE-37C2-4D98-84E6-986E01FD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7724B-9277-40E2-B97A-52AB9254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63607-8DCB-47F3-86E3-0D01EA9C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200F6-4A4A-49C8-A70E-286BB6F7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05F15-A90B-4E90-83F8-1849B94A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6FF74-3463-4ED9-94EC-F67623E2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7ACAB2-243D-46A2-806B-5E143248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D6D-A33F-4CB8-889C-3B221904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B39DC5-5CE8-4406-96EA-5E2DE60E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6D4861-FA5F-4196-AF1D-24EA40D9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3964BB-8BA7-4CD7-B75E-85D60204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895080-F9F6-477F-8716-0ABB93FF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45B57-8E6D-43D8-8567-34B7B681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54E43-ABFE-47AB-9A76-F4B42380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977B9A-802D-484A-806E-403ABAE5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FE7E44-4254-444C-91C2-9910901F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03959F-CFCC-495A-BFB1-18923FA0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3A547F-4F4D-484A-9265-6078338E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646-7809-41FF-A215-F3051F15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58D26E-B235-42A9-BC2E-6A2B5FEB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FE63A9-A52D-4FE3-894A-1703FACC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ADD903-4F72-478D-B1D9-6FCDE260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A9F0D7-45F1-4B6E-B289-7A06D739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224343-075F-40C2-9FA1-462AD930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36F208-F4C7-4B61-8E88-7C4E9AF7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C88B85-A63F-481F-8609-B2C7D684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F8CB84-EA62-4D72-83A3-E7E4A10D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32127-056A-4FE7-A90F-AF0DA25A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FC54D-12CA-4AEA-B49A-D74C8D6C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4DC5-9DBE-46EB-9A78-C3FB584D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33CFD5-018F-40CD-80D8-89BF56FD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6EACD3-392F-41FA-9F4E-A83E7ED3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47967C-93C3-441A-AA41-EB863495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A1B041-57CC-4BEF-B79D-5C4978B8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F3FE39-E4E7-402E-A532-8C65665E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153AE-FE39-475E-A1EB-80CB45A9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CF4D24-C489-4414-843B-60F7870E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2E2A2D-A7B9-4A2A-BF8F-0C73CBD1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C75A74-10B3-4827-BF18-C529E490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A199C0-C095-464B-8A11-0F06DB41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4ED-D882-4ECA-9AAA-83E43E4D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C5282B-D62E-4AFC-A67C-FA46C4E0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460790-F7D0-438D-9AF2-4C319C90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1565A-DC3F-44E8-83E3-651B06A0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C68378-E6F3-410B-9AC1-B7EFF276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FEA509-3B90-44FA-9FAD-EFCC405B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4D8-86DA-454E-B734-71CD71D9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9175-9A6D-4F7F-828E-FFEB231E251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5678-BE18-43CA-A997-96BC598710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1B66-FB3D-4C24-A289-AF32FF6F74C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B94A-FE4B-4975-90B8-1AA933DC80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B928-D0E6-478F-B919-D41A9C5641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8ABE-03C1-450A-B6C0-513F035AC0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D1A2-0790-487F-9A06-6F0867F7DD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ideos.howstuffworks.com/discovery/29165-assignment-discovery-chemical-reactions-video.htm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Century Schoolbook"/>
              </a:rPr>
              <a:t>SYNTHESIS</a:t>
            </a:r>
            <a:r>
              <a:rPr b="1" lang="en-US" sz="6500" spc="-1" strike="noStrike">
                <a:solidFill>
                  <a:srgbClr val="ff0066"/>
                </a:solidFill>
                <a:latin typeface="Century Schoolbook"/>
              </a:rPr>
              <a:t> </a:t>
            </a:r>
            <a:r>
              <a:rPr b="1" lang="en-US" sz="6600" spc="-1" strike="noStrike">
                <a:solidFill>
                  <a:srgbClr val="ff0066"/>
                </a:solidFill>
                <a:latin typeface="Century Schoolbook"/>
              </a:rPr>
              <a:t>REACTION 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637"/>
                </a:solidFill>
                <a:latin typeface="Century Schoolbook"/>
              </a:rPr>
              <a:t>Paige Anspach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637"/>
                </a:solidFill>
                <a:latin typeface="Century Schoolbook"/>
              </a:rPr>
              <a:t>Nick Mease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637"/>
                </a:solidFill>
                <a:latin typeface="Century Schoolbook"/>
              </a:rPr>
              <a:t>Carter Peck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entury Schoolbook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8637"/>
                </a:solidFill>
                <a:latin typeface="Century Schoolbook"/>
              </a:rPr>
              <a:t>SYNTHESIS REACTION DEFINITIONS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Schoolbook"/>
              </a:rPr>
              <a:t>Synthesis Reaction is when there is a combination of two or more substances and a compound resul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Schoolbook"/>
              </a:rPr>
              <a:t>Synthesis Reaction is also a chemical reaction in which two or more substances react to form a single substanc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Schoolbook"/>
              </a:rPr>
              <a:t>It is the combining of the constituent elements of separate material or abstract entilies into a single or unified entr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Century Schoolbook"/>
              </a:rPr>
              <a:t>EXAMPLE OF SYNTHESI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ff0066"/>
                </a:solidFill>
                <a:latin typeface="Century Schoolbook"/>
              </a:rPr>
              <a:t>REACTION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An example of a synthesis reaction is hydrogen and oxygen reacting to form wate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2H2+O2---------2H2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entury Schoolbook"/>
              </a:rPr>
              <a:t>Another example that can be described is the synthesis of sodium Chloride with this equ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entury Schoolbook"/>
              </a:rPr>
              <a:t>         </a:t>
            </a:r>
            <a:r>
              <a:rPr b="0" lang="en-US" sz="2400" spc="-1" strike="noStrike">
                <a:solidFill>
                  <a:srgbClr val="ffc000"/>
                </a:solidFill>
                <a:latin typeface="Century Schoolbook"/>
              </a:rPr>
              <a:t>2Na + Cl2 -------2NaC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This is a general equation for Synthesis reaction  i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         </a:t>
            </a: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A+B------A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 MOVIE OF SYNTHESIS REAC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videos.howstuffworks.com/discovery/29165-assignment-discovery-chemical-reactions-video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8:52:24Z</dcterms:created>
  <dc:creator>cl12anspachp</dc:creator>
  <dc:description/>
  <dc:language>en-US</dc:language>
  <cp:lastModifiedBy>cl12anspachp</cp:lastModifiedBy>
  <dcterms:modified xsi:type="dcterms:W3CDTF">2009-02-18T20:23:19Z</dcterms:modified>
  <cp:revision>9</cp:revision>
  <dc:subject/>
  <dc:title>Synthesis Reaction </dc:title>
</cp:coreProperties>
</file>