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6D37-5452-4AD8-A04A-0DB68267E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5C22-3F77-418A-96D7-6ABB19E1E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3A0-D9EC-432E-BE1F-329CEB6C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83F4-C796-4F23-834B-40AD5C6C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0B19-4741-4CDF-B504-87C91FB4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3CA1-1592-4DDB-BBE0-1F07C42D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2D29-EE79-4454-BBF8-57B8AB78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6728-91BF-412C-8A6E-06885428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589F-CC6A-477F-915E-B2F4D403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2B8C-57C6-4319-8BCD-96178ED1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E9D2-5BA6-4C8A-B5FE-59A0DD0A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FFDE-67FA-49C5-AFE1-7D971920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D295-6F96-4D86-B597-03A79557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6D3-700B-4F79-8513-E23AF34E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BCA6-7C26-4FFB-BDF8-1E671605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C1CB-3C6B-400D-A4F0-CD7E9E68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75C4-65FA-4D5E-8726-349DC7D2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DA78-612C-47C3-8962-A3383D90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9708-00AE-42AD-B3B8-C75E4F43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57EF7-6C55-499D-AE8E-35C5B64A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D6ADF-9D03-420A-B8E4-206C0529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E586E7-09CB-4C60-B26C-2C32E8BA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3FB435-A8B6-43AE-9F6D-23ED1113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38004-3F54-48E1-80D6-F2E52E94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B14-33CD-4686-A39D-1D925DD2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0A4BD1-FDA3-4EA9-BA3E-48D6063E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37865-CAB1-4BB4-BFF3-2D63BFBF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6AF0B-2EE0-480D-B760-D1E73252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EED56-A01A-4DC6-BE40-656CC8B1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CB86B-13E2-45FC-B2B7-46A740C5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E95521-5E9D-46B1-828B-2BC07D79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C95314-354F-4AB3-93FC-80A9D0BC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3C6D1-B67B-43ED-A4D8-B4258236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6983D-7B02-445F-B321-D56D569D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16292-E38B-47D6-9D0A-12F17870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BD5-3B80-406A-A6FB-BD148979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DEC67-C934-4AEF-A77F-776D7235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A7A23-542F-4B53-BD80-9410096C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0E6E6-CAF7-4D9B-A716-9C359A1B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AE0FD-22A4-492A-B854-AA2C8A80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D0989-6F84-407D-B392-CD6D68DE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6B25E-DA2A-457A-AF58-1A981776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C67BC-EC72-4E84-B50A-96097116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972F2-9CC8-4700-AF26-35DC203D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16808-C9B9-42C2-BE06-D359944E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110FD4-B32B-443D-8EC6-687EEDA8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BA3-673F-4561-9653-7E8A24F8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68343-75A8-4008-8441-31283C0B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298C62-796D-49C3-B0EE-FE5A4FEF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83640-69F2-4680-A410-A57510E3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6F8C69-CC03-4810-BABD-10C6E235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33B375-EBEA-441F-B416-2E30CDC1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172280-7DC3-44EE-99BA-1BE21BA8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589E2-1063-4420-8742-45BC638E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495AC3-6B76-4EAF-9F31-0EDDC8A2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5F9D2-BC2B-42A4-827E-74C2C84B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2150B-7E97-423E-8E36-3C522492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F59-0398-438C-BF86-43116343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858552-C263-4162-A5E1-B94E4C94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5069F2-3C53-431F-BEED-22916F4E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2E40BA-9AEC-4828-9D43-FC874D50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FD2A4-6CF1-4CEE-9C33-A79504D1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C3AEB8-61AA-434B-A08A-65A8C11B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8A60BB-055E-4764-AFD9-14C653E1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A7F7D7-E311-4F2E-881E-23830DF6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206C4-DB24-40F0-8C07-439446F1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DF54DD-6752-4680-B892-0AC725C3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F3D4BC-E103-4098-B250-2A7E1C66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D4ED-A540-4100-B717-05BFA9CD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B1DFA9-3E82-4BDE-B486-F608380B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90FDE-8F5A-4A44-957F-58564C2B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BCC77D-30BC-42DA-BBC2-3E61B8D7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837724-FF9A-42D2-B30F-51F6234F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02157-0612-40A0-89CB-E0894C13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9D5338-2A39-4B94-8769-0F752500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4207EF-D51A-4F58-874A-A8A179C2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61ED91-3394-4D8C-85CB-7AF090E0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B75031-4508-4AD8-A8E9-85649010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4C8E99-5381-40DC-A3E6-5800E08B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19E-0F39-4DD2-BAFA-B74E448C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CEBDA3-F59A-4333-A0F2-0032CF29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4DA182-8CAD-47F0-942F-E9DFA9A9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210085-30F5-4BE1-A110-1071EDBC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3132F0-4B82-436E-A367-8272F103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12FD65-F8E3-4409-A69D-A227697F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D4A-1A41-405A-A45D-73930529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D33F-C382-4469-B344-4E862F1C5E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4078-2139-432A-87D1-82557F4DF9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5009-79E7-4D6B-BBA1-969CC61E80A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E05A-D891-43A3-A03C-12B71B0B9E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6509-B144-4C96-8617-5F95292728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A505-41B8-4A7D-9076-A6BE8CAC47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93BE-3FAF-4B8F-B5AC-71FAF77DCF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ideos.howstuffworks.com/discovery/29165-assignment-discovery-chemical-reactions-video.htm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Century Schoolbook"/>
              </a:rPr>
              <a:t>SYNTHESIS</a:t>
            </a:r>
            <a:r>
              <a:rPr b="1" lang="en-US" sz="6500" spc="-1" strike="noStrike">
                <a:solidFill>
                  <a:srgbClr val="ff0066"/>
                </a:solidFill>
                <a:latin typeface="Century Schoolbook"/>
              </a:rPr>
              <a:t> </a:t>
            </a:r>
            <a:r>
              <a:rPr b="1" lang="en-US" sz="6600" spc="-1" strike="noStrike">
                <a:solidFill>
                  <a:srgbClr val="ff0066"/>
                </a:solidFill>
                <a:latin typeface="Century Schoolbook"/>
              </a:rPr>
              <a:t>REACTION 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637"/>
                </a:solidFill>
                <a:latin typeface="Century Schoolbook"/>
              </a:rPr>
              <a:t>Paige Anspach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637"/>
                </a:solidFill>
                <a:latin typeface="Century Schoolbook"/>
              </a:rPr>
              <a:t>Nick Mease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637"/>
                </a:solidFill>
                <a:latin typeface="Century Schoolbook"/>
              </a:rPr>
              <a:t>Carter Peck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entury Schoolbook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8637"/>
                </a:solidFill>
                <a:latin typeface="Century Schoolbook"/>
              </a:rPr>
              <a:t>SYNTHESIS REACTION DEFINITIONS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Schoolbook"/>
              </a:rPr>
              <a:t>Synthesis Reaction is when there is a combination of two or more substances and a compound resul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Schoolbook"/>
              </a:rPr>
              <a:t>Synthesis Reaction is also a chemical reaction in which two or more substances react to form a single substanc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Schoolbook"/>
              </a:rPr>
              <a:t>It is the combining of the constituent elements of separate material or abstract entilies into a single or unified entr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Century Schoolbook"/>
              </a:rPr>
              <a:t>EXAMPLE OF SYNTHESI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ff0066"/>
                </a:solidFill>
                <a:latin typeface="Century Schoolbook"/>
              </a:rPr>
              <a:t>REACTION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An example of a synthesis reaction is hydrogen and oxygen reacting to form wate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2H2+O2---------2H2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entury Schoolbook"/>
              </a:rPr>
              <a:t>Another example that can be described is the synthesis of sodium Chloride with this equ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entury Schoolbook"/>
              </a:rPr>
              <a:t>         </a:t>
            </a:r>
            <a:r>
              <a:rPr b="0" lang="en-US" sz="2400" spc="-1" strike="noStrike">
                <a:solidFill>
                  <a:srgbClr val="ffc000"/>
                </a:solidFill>
                <a:latin typeface="Century Schoolbook"/>
              </a:rPr>
              <a:t>2Na + Cl2 -------2NaC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This is a general equation for Synthesis reaction  i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         </a:t>
            </a: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A+B------A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 MOVIE OF SYNTHESIS REAC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videos.howstuffworks.com/discovery/29165-assignment-discovery-chemical-reactions-video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8:52:24Z</dcterms:created>
  <dc:creator>cl12anspachp</dc:creator>
  <dc:description/>
  <dc:language>en-US</dc:language>
  <cp:lastModifiedBy>cl12anspachp</cp:lastModifiedBy>
  <dcterms:modified xsi:type="dcterms:W3CDTF">2009-02-18T20:23:19Z</dcterms:modified>
  <cp:revision>9</cp:revision>
  <dc:subject/>
  <dc:title>Synthesis Reaction </dc:title>
</cp:coreProperties>
</file>