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46FD-93EE-4125-884E-54DE474981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AC88-3158-479C-BC88-B2DF586B26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6F87-76F9-4325-9F09-A385423E0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1ECA-0DF8-425E-B39E-DF698B1F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73E7-E8E8-406D-B04B-E483E2DAB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9266-EB58-4BB7-A5F8-06C6C9834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82F8-DC4B-490A-B51B-1043E33C1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04885-7371-41C6-BFA3-3B3DDC4D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D97F-F595-4466-A827-6D8C4324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8863-A4BE-4530-8F2C-B1D48DC3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823E-56BD-4E0B-9A37-754DBE09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F954-121C-4306-80A2-9E9042CB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85A1-430A-4177-8AF5-A83146FB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C535-E224-40A8-99FE-0B34FB02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A52B-6177-4872-8571-449D512A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4E82-E14F-4EB4-B44F-D16A8C7E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72CC-F575-4007-98A2-38C9B364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382F-7E1D-4A4F-BDD6-6109CE4AE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51C0-12BC-4B08-B75F-0BD9B579A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0DEC02-5719-4911-B062-81583DB5E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A80EA2-4E17-43C9-A909-E242AA8D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E01C84-9719-401E-83C9-753D4BC3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7FD75B-0EFD-40BF-B6F4-CE289AAE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67E887-BE6B-49FA-8CB4-34316B04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D02F-A68B-4FED-8472-CD40E091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C50F68-0146-4754-B5FD-B71E12A9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0E12E4-0808-4CC3-91AC-BF2C51EE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F87553-9088-4959-8305-8A9B9138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CC8D8F-1409-4965-8225-B7BB0E9E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16D977-9C0E-4380-8A42-E89088ED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860D5D-C6D6-453F-96F9-411E18D3E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2C6F9B-BB21-4676-8975-D295ADE9F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FB230-88C6-4911-9CF1-3A3A51BBC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3A838-6470-4FB0-8C2E-7FB56E12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123C7-9AAB-4A93-9522-C5A97BF2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7644-3AFC-445B-99F1-E0C7EFFB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D518F-A5FC-4F62-84AD-C17B68F7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EBA4E-6CFA-4011-A803-E8ACE1CB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9036A-58C4-4190-8A4B-7EA1625F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2D3EB-E915-4746-AC9B-9172B946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2D7FC-2993-454D-A5B7-5D2BC66A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7909E-D7F8-401C-B145-5E42560A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4650F-61C3-4299-80B1-C6878CDA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91E7B-12A7-40FD-ACA5-CAF674F79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DD2EB-ED33-40FD-BF90-CF2112296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0271A1-090D-4E31-83C9-859AC1A9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3EB6-F09F-4785-B5F3-CD448033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DF53B9-61D1-48EA-A845-74EA168C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070A4E-6D26-460B-9566-10E0A938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DDDC59-6A8F-49CB-BA36-055534AB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FEB9C5-CB1E-4966-93BB-A983E15C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AE04EB-0805-4C79-B660-D2FC1450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9D6E01-E1E0-47E9-8BA7-8C691781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2F97EF-F542-4633-8074-F8C0F00B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9BF55A-75F0-4065-A9E4-E5B8E139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5814B9-EF09-4100-AAFF-A358DAFC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61DEC6-182F-41D4-A2ED-7B32C6BA1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588D-0DF2-4CB2-9A46-EE893769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833730-6F47-4821-A0B2-C62FFD7D4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B024C8-DDF4-4F63-9792-E78A333FF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483271-F3BD-4201-BB7E-42859B63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6FA5C1-32B6-4A9B-9912-6F6A4D37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3AD4C0-E742-49B3-94AE-30169AFE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FF8404-61C1-46F2-BE5C-C2B043BC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B1EE81-EEB2-4E87-975D-41A83506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0269A4-A1BD-4F46-9E55-BBEE1067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8C5545-70C0-4FD2-8DC7-2991E3A8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092BFA-E327-4360-A195-82D0236A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D1D9-150C-42EA-95D3-BF9DCAF3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26DBC1-AF19-45B2-AAC2-1F4A2D43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0E1208-7A50-4353-90CB-6708A07E9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4B9799-38FE-434B-A641-1F6C5474D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3791D8-0EAD-4E6F-8B95-2B566E287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3C8A6C-B553-4D7A-A6AB-20947248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8A75C9-4147-42CA-AB94-B6E197CB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7D04F2-7B83-4479-9129-055643E3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56DC60-0E4B-41C3-8715-83F53FBC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F9A8B6-6C0F-46C7-BF21-CC5E647E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69C9E0-DDAA-443B-875A-30DF6D3D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96EB-AE77-4BBB-B492-B3BEC1F2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9EE49E-C6DA-4EDE-BD25-C1F0A479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6BDBE6-4274-4092-BD5C-6EABD454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528A56-F7A9-4F18-B8F9-F1D63D61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714C0C-09FE-4D33-8A09-9032DE69F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5DB14B-BD0F-4F33-ADF2-5C5C1B55C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BCFA-32D0-4B92-AC91-D58A1345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1AA4-5B01-45F6-8899-B0E00813F23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29A6-6412-4342-AEB3-CB8E065CE5B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5155-BDEC-4FCF-BE5A-169BBF7434B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6643-DB7E-4594-BC54-6EBCDDAB3B4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EEEC-4389-49BC-9077-8020667A7A3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3EE3-73D9-4431-8160-D633B44B129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4745-4FE5-4743-9EDD-284B29AEFB4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videos.howstuffworks.com/discovery/29165-assignment-discovery-chemical-reactions-video.htm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Century Schoolbook"/>
              </a:rPr>
              <a:t>SYNTHESIS</a:t>
            </a:r>
            <a:r>
              <a:rPr b="1" lang="en-US" sz="6500" spc="-1" strike="noStrike">
                <a:solidFill>
                  <a:srgbClr val="ff0066"/>
                </a:solidFill>
                <a:latin typeface="Century Schoolbook"/>
              </a:rPr>
              <a:t> </a:t>
            </a:r>
            <a:r>
              <a:rPr b="1" lang="en-US" sz="6600" spc="-1" strike="noStrike">
                <a:solidFill>
                  <a:srgbClr val="ff0066"/>
                </a:solidFill>
                <a:latin typeface="Century Schoolbook"/>
              </a:rPr>
              <a:t>REACTION 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8637"/>
                </a:solidFill>
                <a:latin typeface="Century Schoolbook"/>
              </a:rPr>
              <a:t>Paige Anspach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8637"/>
                </a:solidFill>
                <a:latin typeface="Century Schoolbook"/>
              </a:rPr>
              <a:t>Nick Mease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8637"/>
                </a:solidFill>
                <a:latin typeface="Century Schoolbook"/>
              </a:rPr>
              <a:t>Carter Peck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Century Schoolbook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8637"/>
                </a:solidFill>
                <a:latin typeface="Century Schoolbook"/>
              </a:rPr>
              <a:t>SYNTHESIS REACTION DEFINITIONS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entury Schoolbook"/>
              </a:rPr>
              <a:t>Synthesis Reaction is when there is a combination of two or more substances and a compound result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entury Schoolbook"/>
              </a:rPr>
              <a:t>Synthesis Reaction is also a chemical reaction in which two or more substances react to form a single substanc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entury Schoolbook"/>
              </a:rPr>
              <a:t>It is the combining of the constituent elements of separate material or abstract entilies into a single or unified entry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Century Schoolbook"/>
              </a:rPr>
              <a:t>EXAMPLE OF SYNTHESI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ff0066"/>
                </a:solidFill>
                <a:latin typeface="Century Schoolbook"/>
              </a:rPr>
              <a:t>REACTION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entury Schoolbook"/>
              </a:rPr>
              <a:t>An example of a synthesis reaction is hydrogen and oxygen reacting to form water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entury Schoolbook"/>
              </a:rPr>
              <a:t>  </a:t>
            </a:r>
            <a:r>
              <a:rPr b="0" lang="en-US" sz="2400" spc="-1" strike="noStrike">
                <a:solidFill>
                  <a:srgbClr val="ff0066"/>
                </a:solidFill>
                <a:latin typeface="Century Schoolbook"/>
              </a:rPr>
              <a:t>2H2+O2---------2H2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entury Schoolbook"/>
              </a:rPr>
              <a:t>Another example that can be described is the synthesis of sodium Chloride with this equat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entury Schoolbook"/>
              </a:rPr>
              <a:t>         </a:t>
            </a:r>
            <a:r>
              <a:rPr b="0" lang="en-US" sz="2400" spc="-1" strike="noStrike">
                <a:solidFill>
                  <a:srgbClr val="ffc000"/>
                </a:solidFill>
                <a:latin typeface="Century Schoolbook"/>
              </a:rPr>
              <a:t>2Na + Cl2 -------2NaC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entury Schoolbook"/>
              </a:rPr>
              <a:t>This is a general equation for Synthesis reaction  i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entury Schoolbook"/>
              </a:rPr>
              <a:t>         </a:t>
            </a:r>
            <a:r>
              <a:rPr b="0" lang="en-US" sz="2400" spc="-1" strike="noStrike">
                <a:solidFill>
                  <a:srgbClr val="ff0066"/>
                </a:solidFill>
                <a:latin typeface="Century Schoolbook"/>
              </a:rPr>
              <a:t>A+B------AB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 MOVIE OF SYNTHESIS REACTION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http://videos.howstuffworks.com/discovery/29165-assignment-discovery-chemical-reactions-video.ht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8:52:24Z</dcterms:created>
  <dc:creator>cl12anspachp</dc:creator>
  <dc:description/>
  <dc:language>en-US</dc:language>
  <cp:lastModifiedBy>cl12anspachp</cp:lastModifiedBy>
  <dcterms:modified xsi:type="dcterms:W3CDTF">2009-02-18T20:23:19Z</dcterms:modified>
  <cp:revision>9</cp:revision>
  <dc:subject/>
  <dc:title>Synthesis Reaction </dc:title>
</cp:coreProperties>
</file>