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2BA-8E42-4A40-8EE7-6362A126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171-493A-44F1-A79E-5D488B28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A81-4755-498A-9204-942E2B51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9DF-82D0-402B-A2DE-851DF01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68E-E3E9-4439-B99F-1EBF4054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151-161E-4316-BD9B-65DCAFD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342-9F85-41BB-9750-624238B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DCE-ECA4-48BB-9579-7676CB29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B20-AB2B-4F92-9C7E-EF01A92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ACB-206D-4BAC-B47C-A8F56CA3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F8A-5126-42D8-BDA3-7B291BA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1BD-8062-4680-9600-A18C189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37C7-96DD-48C6-968A-870A6173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videos.tv/video/9936-brainiac-alkali-metal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ombustion Reac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 m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uclear-explos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ing you speak of, combustion 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A combustion reaction is a very rapid release of energy created by combining a fuel and oxy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312408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s and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daily lives we see many different forms of combustion re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mat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ing a Bunsen bur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l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applications for combustion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2514600" cy="215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91320" y="3809880"/>
            <a:ext cx="214776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int of the power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ustion reaction is the release (exothermic) of energy. Boom! This happens when oxygen is combined with a fuel (such as petroleum). Whoo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videos.tv/video/9936-brainiac-alkali-metal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od, the bad, and the ug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nd incomplete reactions. Complete reactions are much cleaner reactions with a hydrocarbon. Incomplete reactions are dirty reactions with a more pollutant by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35053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00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iencevideos.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gh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iun.e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7:41:24Z</dcterms:created>
  <dc:creator>Mary Beth Barron</dc:creator>
  <dc:description/>
  <dc:language>en-US</dc:language>
  <cp:lastModifiedBy>Mary Beth Barron</cp:lastModifiedBy>
  <dcterms:modified xsi:type="dcterms:W3CDTF">2009-03-04T23:23:18Z</dcterms:modified>
  <cp:revision>3</cp:revision>
  <dc:subject/>
  <dc:title>Combustion Reactions</dc:title>
</cp:coreProperties>
</file>