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4810-C5A4-460B-9D38-899790F54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0172-851F-4023-8CF1-FD986D2A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8BB1-F6B5-4A0B-9844-F2E472554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8F01-D15E-40E1-9556-94DE7171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7F54-3887-4FA1-8726-28E687F3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33D4-B3F4-45C8-8F64-BE51DD8A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1E0B-91A0-495F-8408-D91B48A3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DBBF-AFAC-4828-BAA8-33636EB9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EF96-FC65-46BE-AF80-730AF004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FE59-F8EE-4015-9C90-6DBEAA69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9413-C72E-4E74-A329-9D26BAEE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439E-A27E-4540-996C-228A2E0C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741A-B495-40E8-BA97-5BA1E8B2A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ciencevideos.tv/video/9936-brainiac-alkali-metals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Combustion Reac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h m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nuclear-explosi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thing you speak of, combustion rea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A combustion reaction is a very rapid release of energy created by combining a fuel and oxyg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3124080" cy="2335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095880" y="3505320"/>
            <a:ext cx="20005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ustion reactions and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ur daily lives we see many different forms of combustion reac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ing a match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ing a Bunsen burn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3200400"/>
            <a:ext cx="1528920" cy="2286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495680" y="32767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ful flam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applications for combustion re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tainment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itary us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3886200"/>
            <a:ext cx="2666880" cy="2516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809880"/>
            <a:ext cx="2514600" cy="2151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691320" y="3809880"/>
            <a:ext cx="2147760" cy="16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int of the power poin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bustion reaction is the release (exothermic) of energy. Boom! This happens when oxygen is combined with a fuel (such as petroleum). Whoos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ciencevideos.tv/video/9936-brainiac-alkali-metal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od, the bad, and the ugl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and incomplete reactions. Complete reactions are much cleaner reactions with a hydrocarbon. Incomplete reactions are dirty reactions with a more pollutant byprodu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4114800"/>
            <a:ext cx="3505320" cy="2030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952880" y="3657600"/>
            <a:ext cx="2500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sciencevideos.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ight.wikispace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.image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ww.iun.ed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7:41:24Z</dcterms:created>
  <dc:creator>Mary Beth Barron</dc:creator>
  <dc:description/>
  <dc:language>en-US</dc:language>
  <cp:lastModifiedBy>Mary Beth Barron</cp:lastModifiedBy>
  <dcterms:modified xsi:type="dcterms:W3CDTF">2009-03-04T23:23:18Z</dcterms:modified>
  <cp:revision>3</cp:revision>
  <dc:subject/>
  <dc:title>Combustion Reactions</dc:title>
</cp:coreProperties>
</file>