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63E0C-D330-47F9-8F70-1EF9FF0C0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5193D-835F-4791-8B28-0A741353E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96C38-9A51-4901-BBEF-6FE4BF242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3F40A-2707-43A6-817A-4DA401C18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B064B-4563-4FBE-B310-693ED61FB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9E1FF-61D8-450C-9524-216FA2CDB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E8922-B4CD-4166-8724-D064E1E68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0FEAB-B0D5-4029-B3D2-5E779EAF7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90C6F-0D3C-4FE7-9DDE-9669F1C7E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7FEFC-C9BF-418D-ACF7-476C0496B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DFBCE-B137-4DC3-A305-9B3746CB8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709F1-5850-4238-9682-7038EC907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70EFF-368D-4F6E-980F-612E4D6628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sciencevideos.tv/video/9936-brainiac-alkali-metals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300"/>
                </a:solidFill>
                <a:latin typeface="Arial"/>
              </a:rPr>
              <a:t>Combustion Reaction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2952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Oh my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nuclear-explosion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is thing you speak of, combustion react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cc33"/>
                </a:solidFill>
                <a:latin typeface="Arial"/>
              </a:rPr>
              <a:t>A combustion reaction is a very rapid release of energy created by combining a fuel and oxyge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685800" y="3581280"/>
            <a:ext cx="3124080" cy="23353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6095880" y="3505320"/>
            <a:ext cx="200052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bustion reactions and you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our daily lives we see many different forms of combustion reaction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ing a match!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ing a Bunsen burner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286000" y="3200400"/>
            <a:ext cx="1528920" cy="22860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495680" y="3276720"/>
            <a:ext cx="213372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eful flame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5345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are many applications for combustion reac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tertainment!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litary use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ustri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762120" y="3886200"/>
            <a:ext cx="2666880" cy="25160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3962520" y="3809880"/>
            <a:ext cx="2514600" cy="21513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6691320" y="3809880"/>
            <a:ext cx="2147760" cy="16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point of the power point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ombustion reaction is the release (exothermic) of energy. Boom! This happens when oxygen is combined with a fuel (such as petroleum). Whoosh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ciencevideos.tv/video/9936-brainiac-alkali-metals.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ood, the bad, and the ugly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and incomplete reactions. Complete reactions are much cleaner reactions with a hydrocarbon. Incomplete reactions are dirty reactions with a more pollutant byprodu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914400" y="4114800"/>
            <a:ext cx="3505320" cy="20304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952880" y="3657600"/>
            <a:ext cx="250056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ww.sciencevideos.t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light.wikispaces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gle.images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www.iun.ed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2T17:41:24Z</dcterms:created>
  <dc:creator>Mary Beth Barron</dc:creator>
  <dc:description/>
  <dc:language>en-US</dc:language>
  <cp:lastModifiedBy>Mary Beth Barron</cp:lastModifiedBy>
  <dcterms:modified xsi:type="dcterms:W3CDTF">2009-03-04T23:23:18Z</dcterms:modified>
  <cp:revision>3</cp:revision>
  <dc:subject/>
  <dc:title>Combustion Reactions</dc:title>
</cp:coreProperties>
</file>