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7F1-897D-452D-BA93-AF38AA32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6CE-478E-4C6D-9E2A-FB102390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247-C133-495E-94BF-D2947F1B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F16-6407-4B90-95D5-3448FEFE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2FA2-8715-48C1-BAFB-6BC4F96D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19DB-B65C-4E11-888E-748B2353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B511-F1CF-47A1-A297-4E95BE07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E106-92C3-435D-9E65-931BEDB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02AA-FE7A-4FF8-A7C4-ACFD846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A6EB-E0A6-407E-84FF-EDAD8D9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36D7-F0D4-44DC-87C7-0214AED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334-919F-4694-BA31-9A56994E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9CF-6197-4DEE-9B51-48CC1DD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77AB-54FB-4891-9D6A-E2259E1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6929-E09A-45C8-892B-B4A7D4AD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059D-19DA-4EE4-99CA-ACA9594F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A983-12F3-4C47-9716-C481DC8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6D8F-AFE8-46FF-B4B8-0FBE646C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72DC-1ECC-4714-9326-0B71C7EB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19EA-D37B-4AAC-8682-1825752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2576-1204-4DF7-BFAA-A4E74EC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6D8B-EA63-4917-ABAE-41B32C1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941-A4C7-4A89-A76F-4A70C96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F4AB-9157-4E18-BDD6-1894F5B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5D31-AD02-4C33-B788-5827E6B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5B4C-CDDA-46E2-9523-2A8BC39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7D7B-9D4D-4075-ADAD-5724C0E2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6B76-C7D6-4457-934E-49C63C40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8409-3861-4730-B325-C67CB698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0103-496D-4F79-A096-9710048E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59CC-78E4-4017-9371-E9C6C54F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1F530-F320-4FA9-BC0D-691B7B6B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6503-965C-4C3D-A729-9FCCF049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796-A993-4F55-BC2C-979FDEF1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E666-6315-414D-8C54-6C643788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8C4D-D509-4329-8BD4-03F282E9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5827-4550-4444-81F4-249ECCDA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F35E-0612-4AFD-A34D-DAED95E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694D-07F0-4D93-947A-2F39C718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EAAB-E843-40F6-8D2B-A8351F2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85D1-C7DE-4D08-951A-B40067D0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13BA-2ED0-4EA2-BA7E-E59EDC96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DC6A-BF0F-43AF-BACE-D2BDAE3D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693E-2B8A-4830-9D79-BAEE8623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1C1-E200-4B54-8FE8-6E3C822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C1EBC-0289-46D0-A30E-D179761B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7FB1-192C-4D2A-88E5-A0255C5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5536-AC42-4DC6-8695-1C83D86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AAE6-79CF-41DC-971A-8FA21BFE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92FD-D966-420E-BE22-8B314BA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7587-91C1-4B3F-8B55-B0B395D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01587-155F-4AA6-9DD7-810EC89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3D52-09B5-452B-8CB8-7EA9344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F88F-5FE1-4D97-A008-FA7CD838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E279-8582-4A60-B600-CFA7BAFF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55A-73C6-46A4-B897-34077BCA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DD2E-42ED-49C6-AC5F-79AF127B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FAA1A-3D94-40AD-9847-81FAEE3D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AAB63-9D82-4AC0-88CB-6F03FFFD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5AB9-335A-4156-A4C2-A11A8152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9AF5-B298-40F0-9A54-58B327A5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D83E-CA07-41A2-9A20-2EB30C1F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65F21-122C-4FBD-AA73-A61EAF5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F6D5-7071-45D6-8275-852BE0B0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51BE-FDC4-48BD-B5AF-E1634D7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D096-F34B-4704-B34F-F010C92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B1F-4150-4EE4-B36F-C6617BD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72192-12A8-4325-AD2C-9247AFD3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15B9-675B-41B5-B384-A4794B84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3AF3-1FEC-43B7-ABCF-4ED76063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592-F56B-4B02-B332-AD73F748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CE9-17CD-4BAE-9BF3-D0ABA72F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3867-D865-4816-8542-93C5C9FF11B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FA5-6E8F-4917-A3F6-9144FA6080B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C7E-AAB9-4992-BF5B-C263B8F54D8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1E4-894C-4A5A-A9C6-55026F484A8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702-3CAD-44A2-B485-B3CCA94124B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0D6B-F6B1-48D9-B5B0-9A6D59A1740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un.edu/~cpanhd/C101webnotes/chemical%20reactions/combustion.html" TargetMode="External"/><Relationship Id="rId2" Type="http://schemas.openxmlformats.org/officeDocument/2006/relationships/hyperlink" Target="http://www.files.chem.vt.edu/RVGS/ACT/notes/Types_of_Equations.html#Hydrocarb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33240" y="1951200"/>
            <a:ext cx="7236000" cy="2047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 rot="541800">
            <a:off x="4068360" y="4028760"/>
            <a:ext cx="3813120" cy="685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xplain a Combus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20358000">
            <a:off x="511200" y="3020760"/>
            <a:ext cx="2824200" cy="211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aerospaceweb.org/question/propulsion/jet/combustion.gif"/>
          <p:cNvPicPr/>
          <p:nvPr/>
        </p:nvPicPr>
        <p:blipFill>
          <a:blip r:embed="rId2"/>
          <a:stretch/>
        </p:blipFill>
        <p:spPr>
          <a:xfrm rot="817800">
            <a:off x="3625920" y="278460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2d050"/>
                </a:solidFill>
                <a:latin typeface="Franklin Gothic Book"/>
              </a:rPr>
              <a:t>What is Combustion Reaction?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Rectangle 5" descr=""/>
          <p:cNvPicPr/>
          <p:nvPr/>
        </p:nvPicPr>
        <p:blipFill>
          <a:blip r:embed="rId3"/>
          <a:stretch/>
        </p:blipFill>
        <p:spPr>
          <a:xfrm>
            <a:off x="195120" y="1365120"/>
            <a:ext cx="5212080" cy="264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hat are some real-life examples of combustion reac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eople are or a cand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urn wood to make a f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 rot="4722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are combustion reactions used in our daily liv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fire everyday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burning pa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ning tr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12318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How could you describe a combustion reaction to someone who didn't have chemistry a very good background i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ction in which oxygen reacts with another element or compound (generally a hydrocarbon) to produce energy in the form of heat and l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0060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rganic molecules combust the reaction products are carbon dioxide and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  Types of Chemical Reactions!!!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bustion with a hydrocarbon produces carbon dioxide a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ty combustion with a hydrocarbon produces carbon or carbon monoxide also carbon diox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Source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iun.edu/~cpanhd/C101webnotes/chemical%20reactions/combustio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files.chem.vt.edu/RVGS/ACT/notes/Types_of_Equations.html#Hydro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3:56Z</dcterms:created>
  <dc:creator>cl12colonja</dc:creator>
  <dc:description/>
  <dc:language>en-US</dc:language>
  <cp:lastModifiedBy>cl12colonja</cp:lastModifiedBy>
  <dcterms:modified xsi:type="dcterms:W3CDTF">2009-02-19T13:53:29Z</dcterms:modified>
  <cp:revision>13</cp:revision>
  <dc:subject/>
  <dc:title>Combustion Reactions</dc:title>
</cp:coreProperties>
</file>