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94E-2124-4F8B-BF06-E77A71CD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31B-7A1C-4F0B-B5B0-76F70748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A20-F771-49CE-A069-0BDD50D7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A55-AD98-4B7E-8A5A-F085BFB4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40F5-39B2-4F03-9EE7-28C6442F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A8F2-BF10-4154-AD8C-46FCF6D2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7CF7-D678-457F-8775-EA00A73B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6FDA-4747-4B3B-8DA2-CBFCF68F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6E6A-727A-4213-8622-300D0958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69C6-D67B-437E-B290-89FB28B5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D77B-F2CE-4C6C-ABC9-E391349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038-7400-45B1-9BD6-F32814C6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5D77-56D1-4BAD-8075-DA37C213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D3D9-CAE6-4200-9690-C50CF353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DD1-D760-48A5-AAC8-642C17A1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99C-E5EC-4CD4-ADF7-3ECDA5E8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9CB4-6E95-462B-913C-D41B36A1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6C55-1302-4F85-BA0A-923B5563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A85F-8C79-40CA-9D08-76CB03DA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A87C-7B49-4243-9E13-D4349FA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4CA5-539C-4D5D-848E-51C47D49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89AF-ADEC-4367-A1F4-8DEF6274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50D-794F-41C5-822B-5F882459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6B1F-FE26-46A2-8560-CC4AFB99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F6BB-F27F-445C-A031-F55C53B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4F46-3A18-4849-BEE4-D862DBF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89BA-42B0-4505-A139-7DBFC30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AC8E-C435-45EC-9B58-E3D185A2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1A26-0A5C-4C77-BBF9-C0BC8BAB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679B-9591-40B0-B226-29F86BC7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352A-893B-496E-B3E9-DF503EEC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BE87-94FD-4AEF-A5ED-241D181A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7882D-2F53-432D-BD7F-AA443031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9DF-E2B2-4302-96E3-ED3ED28D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F027-BA69-416C-9AF8-BF9F2E5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01DB-D24F-4BAA-8B8F-771F6FF2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226E-FA7F-4330-AAC1-38C66829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0816-C7A3-4B27-8A28-1D7886F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8517-6DA3-4BFF-9976-9EDD2ED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D94E-EF46-4C46-BB7B-AC2C18B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7C7D-1ED0-4A2B-A553-7B04FA78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5F22-FA00-4A2E-9F55-7D562633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259D-C702-462A-B2BB-6D0B1E04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8E0A-2A34-454B-A99D-ACCDCC64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411-2952-418F-8E5D-5E856AC0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63127-A599-4755-912D-4D09DBEF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94FF-355C-4E13-94AB-A067F23C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B6D0-F516-4170-811F-E843A70F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2F3F7-2A44-404D-9CA7-E9D17782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B5F2-F601-4B94-9D40-BC81D065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762B2-8AF6-4FB7-9DEC-F18C984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8196-C55F-4102-8524-5B8C2F1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F8EE9-FDBB-4FD7-8718-B7B38433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25C9-E595-4C28-9E3A-FDD91EED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3287-250B-477B-8D10-9D939E15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C09-5EE1-4F6C-833F-4A3AAF28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179D-BC79-4620-9A42-E681B268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505A4-01E5-498F-9524-4D2CEF51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2B36-44E7-4D38-A635-E69EE59F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A5CC-60DA-478E-95CD-D8F6E1F5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0CCE-C389-42ED-9C46-AD5A80B0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826E-A167-4631-82BD-5F2AF166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74970-9881-4989-B961-A4BBBDB8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E38B2-C8C3-4CD6-8072-10417DB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47E2-11DA-4289-8F18-7ED84B61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15B16-C732-4358-93EE-A4964D96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3FE-3483-421C-8B8B-65CFE28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AE14E-61AD-4D91-A13F-0BA55495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1C6A1-D9D9-405B-A712-A389CDF6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5473-2233-4308-B9A8-476AE03C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242-04C9-44A3-88F7-D653F50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708-A336-491C-956A-31AED88C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BE14-096E-48DD-971A-69A6DCD2556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AE5A-CF1E-406D-85BD-0593870515E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2D1-DE47-4111-8B9B-5079334DA2A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D5F0-0F24-4D4C-B566-3CD879054F6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876A-D599-4443-A6BC-943E6248C9E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A26A-A3D6-4DF9-94FB-E77C3036B2D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un.edu/~cpanhd/C101webnotes/chemical%20reactions/combustion.html" TargetMode="External"/><Relationship Id="rId2" Type="http://schemas.openxmlformats.org/officeDocument/2006/relationships/hyperlink" Target="http://www.files.chem.vt.edu/RVGS/ACT/notes/Types_of_Equations.html#Hydrocarbon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33240" y="1951200"/>
            <a:ext cx="7236000" cy="2047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 rot="541800">
            <a:off x="4068360" y="4028760"/>
            <a:ext cx="3813120" cy="685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xplain a Combus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20358000">
            <a:off x="511200" y="3020760"/>
            <a:ext cx="2824200" cy="211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aerospaceweb.org/question/propulsion/jet/combustion.gif"/>
          <p:cNvPicPr/>
          <p:nvPr/>
        </p:nvPicPr>
        <p:blipFill>
          <a:blip r:embed="rId2"/>
          <a:stretch/>
        </p:blipFill>
        <p:spPr>
          <a:xfrm rot="817800">
            <a:off x="3625920" y="2784600"/>
            <a:ext cx="5238720" cy="3000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2d050"/>
                </a:solidFill>
                <a:latin typeface="Franklin Gothic Book"/>
              </a:rPr>
              <a:t>What is Combustion Reaction?</a:t>
            </a: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Rectangle 5" descr=""/>
          <p:cNvPicPr/>
          <p:nvPr/>
        </p:nvPicPr>
        <p:blipFill>
          <a:blip r:embed="rId3"/>
          <a:stretch/>
        </p:blipFill>
        <p:spPr>
          <a:xfrm>
            <a:off x="195120" y="1365120"/>
            <a:ext cx="5212080" cy="264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hat are some real-life examples of combustion reac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08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people are or a cand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urn wood to make a fi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 rot="4722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are combustion reactions used in our daily live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use fire everyday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burning pa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ning tr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http://www.cescg.org/CESCG-2003/SLeal/images/wood_on_fire_poly2_perspShape_tmp.jpg"/>
          <p:cNvPicPr/>
          <p:nvPr/>
        </p:nvPicPr>
        <p:blipFill>
          <a:blip r:embed="rId1"/>
          <a:stretch/>
        </p:blipFill>
        <p:spPr>
          <a:xfrm rot="1231800">
            <a:off x="4267080" y="2490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6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Book"/>
              </a:rPr>
              <a:t>How could you describe a combustion reaction to someone who didn't have chemistry a very good background i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reaction in which oxygen reacts with another element or compound (generally a hydrocarbon) to produce energy in the form of heat and l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0060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organic molecules combust the reaction products are carbon dioxide and wa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2  Types of Chemical Reactions!!!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combustion with a hydrocarbon produces carbon dioxide and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ty combustion with a hydrocarbon produces carbon or carbon monoxide also carbon diox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Source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iun.edu/~cpanhd/C101webnotes/chemical%20reactions/combustion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files.chem.vt.edu/RVGS/ACT/notes/Types_of_Equations.html#Hydrocar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53:56Z</dcterms:created>
  <dc:creator>cl12colonja</dc:creator>
  <dc:description/>
  <dc:language>en-US</dc:language>
  <cp:lastModifiedBy>cl12colonja</cp:lastModifiedBy>
  <dcterms:modified xsi:type="dcterms:W3CDTF">2009-02-19T13:53:29Z</dcterms:modified>
  <cp:revision>13</cp:revision>
  <dc:subject/>
  <dc:title>Combustion Reactions</dc:title>
</cp:coreProperties>
</file>