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584C-1DFE-41BA-A4CB-B37549F5D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EBF4-70A8-464E-829C-EFF0725FC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A721-EFD2-45A9-9943-C49F799D8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9CC3-0EA2-438E-AD9D-AE05CD4E1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44156-DAB4-4F4C-950B-DA6953A3F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7E5B3-E78E-416C-BF4E-1150CC19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9121A-764F-4791-90F1-7D1C01FD2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743EF-3E54-4B9A-AB89-63E9FF4A8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8DC93-81D3-446C-A844-9C2C05FA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A0EAE-7B59-467B-9F6D-4DA9ADD27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ADF41-1844-435A-A4B8-D8F96C99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0421-FF3E-4E48-8725-04E2FF09F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8FDC7-8C47-4352-91F2-DF78375C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A454C-BF0D-40BF-AA14-E46DDB21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790AB-45A3-429D-BB97-92BEBE427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AA05D-0E69-4818-AF78-49F321E57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8B50E-4E52-49F8-B76E-475793F41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BBB83-8986-4A08-87C9-3F5099B25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33F88-4BC7-4A31-8A95-865F9141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B1302-C1E8-461F-8BCB-3E395A573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B74AB-6A42-4CDA-96BA-BE323BBD8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7584F-F53F-445F-B0E7-1C4C33FE1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2769-AC5B-4AB9-B23A-8207157E6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7D141-E628-4BDF-A0D1-D1AF5A5FB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F46A6-F55E-4C08-8157-13225437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335ED-45F0-4E5A-9F51-D42A67FA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B502F-A01E-4CD1-8218-CC5F3CEA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DE9B1-84A1-4E33-896A-F0C1CE2AB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5747E-2B58-4170-B4E3-DB781046B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42F42-E1CC-4D5A-85AA-CDEBBDFD5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BEE31-49AB-4976-8883-17A2D16C9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7520A-2468-4609-9DAD-D7FC2230B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63105-495D-469D-95CB-7B7AEB8A9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AC3B-6B67-4E56-92A5-F631F4F2A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35C66-70E2-483D-A090-C5A4E8638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971D6-5173-479F-B6E6-6CF97538D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B5678-20BF-4209-AD48-FC5FE3250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B6937-5D25-4FAC-B79E-D9228936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AEAC4-2A09-452F-8F54-72215C49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8BE88-1EE4-4FD6-918A-60BF0195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D8E5E-06B6-4BC3-9A8C-2137AC996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0C572-D5C6-4E20-9A2F-D56AA19A2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66D79-BAEA-4E66-9C71-AE6A9ACA9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22FA1-347B-42F5-A991-8B87112BB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BDF1-4730-4265-9639-3341B6E8B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EC57F-2F4A-46B4-855F-1815DA708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FEEED-05DA-476E-B2B5-A7D198703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9AE82-59C2-47B1-8E03-399A245FF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EF343-8074-4941-B6C2-4910D118F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648CE-80A8-45FD-B4A2-E64811C16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E7C76-1CC0-4EF1-AAB0-950A0FDD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BCA50-3230-4439-AE11-904BC44F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05BCA-DB8B-46EB-9B6C-E21B535E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D6F76-C54E-4D51-B741-DBB690EE7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27A6B-45E9-468D-A140-73CE8D9BE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FFF7-5981-42D5-9A60-15ABD6E38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51BDD-8D53-4E24-9D0B-FB4BF165A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2BE96-8D09-4BC6-81AE-D862C745D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64676-09A0-4983-8583-308B0C9CC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5D8F5-C906-4135-89DB-EB3CAD90D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ACC02-3B8C-4CA2-AFC2-B71E0D24F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EB302-B4FB-4C8D-8FB6-F5986349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EE5FE-4415-4D04-9BCB-025AAE66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ACD46-89A6-4DDA-AC70-DEF1CD94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99693-B214-4D57-A0DE-734F5FAD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3BB03-46C4-4082-9CA5-E598C232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4AE7-A9F4-4E70-8F2E-7B2E6988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333A3-A393-49A5-8C97-664781C09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45DFA-EDEE-4361-96D5-79B95BF16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5AC2F-211A-41FE-B567-AF6D25A43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CAED-C468-4C72-8B0A-440F8738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B5D2-CAD2-49B1-B969-A0175027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59991-1DB7-4FDB-B877-14BC8EE5CEB3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988CE-B7BB-41F1-B01B-40C7E26400D9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4743A-4B4D-4DC6-AFBB-D4C24DD3D4CA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D4FAA-4A40-4464-BAF1-1FBB00A427FD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4AB56-E0C5-490B-A819-C2BCEF1B34FA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8A5EC-5096-49A8-A10B-52C06DFB1642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iun.edu/~cpanhd/C101webnotes/chemical%20reactions/combustion.html" TargetMode="External"/><Relationship Id="rId2" Type="http://schemas.openxmlformats.org/officeDocument/2006/relationships/hyperlink" Target="http://www.files.chem.vt.edu/RVGS/ACT/notes/Types_of_Equations.html#Hydrocarbon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633240" y="1951200"/>
            <a:ext cx="7236000" cy="204768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 rot="541800">
            <a:off x="4068360" y="4028760"/>
            <a:ext cx="3813120" cy="68580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xplain a Combustion 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6" descr="http://www.cescg.org/CESCG-2003/SLeal/images/wood_on_fire_poly2_perspShape_tmp.jpg"/>
          <p:cNvPicPr/>
          <p:nvPr/>
        </p:nvPicPr>
        <p:blipFill>
          <a:blip r:embed="rId1"/>
          <a:stretch/>
        </p:blipFill>
        <p:spPr>
          <a:xfrm rot="20358000">
            <a:off x="511200" y="3020760"/>
            <a:ext cx="2824200" cy="21175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" descr="http://www.aerospaceweb.org/question/propulsion/jet/combustion.gif"/>
          <p:cNvPicPr/>
          <p:nvPr/>
        </p:nvPicPr>
        <p:blipFill>
          <a:blip r:embed="rId2"/>
          <a:stretch/>
        </p:blipFill>
        <p:spPr>
          <a:xfrm rot="817800">
            <a:off x="3625920" y="2784600"/>
            <a:ext cx="5238720" cy="300024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92d050"/>
                </a:solidFill>
                <a:latin typeface="Franklin Gothic Book"/>
              </a:rPr>
              <a:t>What is Combustion Reaction?</a:t>
            </a:r>
            <a:endParaRPr b="0" lang="en-US" sz="41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59" name="Rectangle 5" descr=""/>
          <p:cNvPicPr/>
          <p:nvPr/>
        </p:nvPicPr>
        <p:blipFill>
          <a:blip r:embed="rId3"/>
          <a:stretch/>
        </p:blipFill>
        <p:spPr>
          <a:xfrm>
            <a:off x="195120" y="1365120"/>
            <a:ext cx="5212080" cy="2646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What are some real-life examples of combustion reactions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8088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people are or a cand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 burn wood to make a fir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6" descr=""/>
          <p:cNvPicPr/>
          <p:nvPr/>
        </p:nvPicPr>
        <p:blipFill>
          <a:blip r:embed="rId1"/>
          <a:stretch/>
        </p:blipFill>
        <p:spPr>
          <a:xfrm rot="472200">
            <a:off x="4267080" y="249048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How are combustion reactions used in our daily lives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5238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ople use fire everyday 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ople burning pap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rning tras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6" descr="http://www.cescg.org/CESCG-2003/SLeal/images/wood_on_fire_poly2_perspShape_tmp.jpg"/>
          <p:cNvPicPr/>
          <p:nvPr/>
        </p:nvPicPr>
        <p:blipFill>
          <a:blip r:embed="rId1"/>
          <a:stretch/>
        </p:blipFill>
        <p:spPr>
          <a:xfrm rot="1231800">
            <a:off x="4267080" y="249048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53280" cy="163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Franklin Gothic Book"/>
              </a:rPr>
              <a:t>How could you describe a combustion reaction to someone who didn't have chemistry a very good background in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762120" y="20574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a reaction in which oxygen reacts with another element or compound (generally a hydrocarbon) to produce energy in the form of heat and ligh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800600" y="20574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organic molecules combust the reaction products are carbon dioxide and wat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2  Types of Chemical Reactions!!!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 algn="ctr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n combustion with a hydrocarbon produces carbon dioxide and wa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26708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omple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 algn="ctr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rty combustion with a hydrocarbon produces carbon or carbon monoxide also carbon dioxid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 algn="ctr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Sources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1"/>
              </a:rPr>
              <a:t>http://www.iun.edu/~cpanhd/C101webnotes/chemical%20reactions/combustion.htm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2"/>
              </a:rPr>
              <a:t>http://www.files.chem.vt.edu/RVGS/ACT/notes/Types_of_Equations.html#Hydrocarb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3:53:56Z</dcterms:created>
  <dc:creator>cl12colonja</dc:creator>
  <dc:description/>
  <dc:language>en-US</dc:language>
  <cp:lastModifiedBy>cl12colonja</cp:lastModifiedBy>
  <dcterms:modified xsi:type="dcterms:W3CDTF">2009-02-19T13:53:29Z</dcterms:modified>
  <cp:revision>13</cp:revision>
  <dc:subject/>
  <dc:title>Combustion Reactions</dc:title>
</cp:coreProperties>
</file>