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57A8-FFDA-4B7F-B424-8CF76C6B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1EE-6B2B-48B6-A5F1-52F4D070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05D-785A-479A-BCCC-CE508929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BF5E-AB35-46FE-BE06-D862FE14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4D47-22B8-4E08-AB0F-56CC994E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70D6-DDCE-4081-894A-57FFAFF2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878D-EDFC-4C28-A2E2-92A6457A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1CBB-9B3C-4E96-885D-C3665397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22DF-F24C-4D37-B78A-10BC15AD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E9ED-B02D-4E10-B190-EDC15EB3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D49C-FBBC-4077-B2E6-085FCA4A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924-0BF0-4374-A867-D3F60170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CCB8-5303-42A0-BA11-CF4B79AA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87ED-A9B9-4D4A-9DA2-C9714D1C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5211-C6D6-4748-BF66-9D80E5CE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6C4F-2121-4FC1-A367-E362B692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7C4C-E9B9-4A89-BC06-04A028A5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6ADCA-440E-4D81-B0A7-046D762E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D9B78-43FD-4769-90D5-71335307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49B69-6F5D-437C-9268-85AC8514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CB61A-97D7-4776-9D0F-948E2826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AE5ED-887C-42BF-A8B4-A480D19A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C64-3AF1-4CA8-90F5-AAE4BAE2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40D90-F383-4C67-A56B-A6E74CBF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E43AD-8F10-43AB-AE47-ED3055D6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82735-066E-4650-B2AB-B119E44B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08B5D-F6B7-4687-B38A-0318E4CC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FC22D-784B-4521-B4AA-16E4DB7F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01D84-2728-431A-9548-A9278640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F9746-E73B-40F5-B6F1-DF149023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B0D23-5A00-4959-97C4-7E7413FD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463F5-23E0-43F6-BAB8-824997C9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8C196-4556-442C-8A25-98A3D749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3239-9386-41CF-B13D-9E6D6F91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B5C22-A729-4725-A84C-D175AF04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8411E-0943-4FE4-B9BE-F0B4C0ED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A0C4A-D70C-4D0E-9111-0C7A6DEA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1B1D3-098E-42AF-83B1-B7BB86C9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56ED9-F99A-4F59-8B9A-91EDB2AA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4C386-E7D3-4A3B-8700-BDAA8664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53D06-5EAE-4130-B411-3999C06C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ACCFA-0FB5-4135-A988-22C37524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6D183-9552-4527-A4E4-9A26A52F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60887-1CBE-48E7-A113-05A2809C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FABF-7260-4B71-A8F3-4E8CD4D7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C89A5-0250-4AA8-AB5D-AB4B6541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0EDE7-C8F3-4CB3-8471-7EC9F333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9A447-CBF7-45D6-83B9-AFA76B6B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33191-525D-4282-B5E3-60ED0EBC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38BA9-03AB-4777-8727-E5710636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2DD9E-7001-4B9C-BF84-C3494E59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E557B-A44B-401B-B68D-CE59DF0E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6C952-DC3B-4540-B8A1-949C39DB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9347F-D551-46C6-936C-56B0D9D5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CE502-53CE-4DF5-BDE2-7906B3FB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30DE-E89D-4DE1-9E75-E7510BF1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4AEAB-5EE8-4773-BA73-1F106539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39CA3-07FA-428E-90A7-35285DB3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DA200-3D91-4A4A-871C-BE0DD17F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83F1D-A73A-4784-BAFD-C4D5256E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5E828-8C71-4535-A200-CB68E417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A5993-34A7-470B-BDA2-FB2D94AA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70FF6-42F0-4824-A3BA-AAD5701A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36494-B46C-4370-92FB-B4D0BDA9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144C7-D6C9-4930-B8A8-5D27C1BE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EC70E-2D5A-45FF-BEA7-1CBC9656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F569-0A43-46B1-8107-27DA2B58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8D017-64B5-474A-A2E6-1F42BB7F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55106-570C-45F4-A7E8-7F76D9CD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C5F0A-3F2E-4ACE-A2D1-99127299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36AF-CAD9-470B-A19F-DC94739E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1BF9-023E-43FF-946F-7FE8A843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B489-55D2-441B-8EB8-95043FC7FA5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DAAF-45F5-4532-910B-CCD799AB832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5724-B18F-4384-B8E5-A214134758A1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D42D-E57D-46C5-BB45-C2F2F41DC0B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4E40-FC02-4A42-A664-7C9563CF6B8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0F89-D1CE-4960-A0B5-529C923E4F1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un.edu/~cpanhd/C101webnotes/chemical%20reactions/combustion.html" TargetMode="External"/><Relationship Id="rId2" Type="http://schemas.openxmlformats.org/officeDocument/2006/relationships/hyperlink" Target="http://www.files.chem.vt.edu/RVGS/ACT/notes/Types_of_Equations.html#Hydrocarbon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633240" y="1951200"/>
            <a:ext cx="7236000" cy="20476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 rot="541800">
            <a:off x="4068360" y="4028760"/>
            <a:ext cx="3813120" cy="6858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xplain a Combustion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http://www.cescg.org/CESCG-2003/SLeal/images/wood_on_fire_poly2_perspShape_tmp.jpg"/>
          <p:cNvPicPr/>
          <p:nvPr/>
        </p:nvPicPr>
        <p:blipFill>
          <a:blip r:embed="rId1"/>
          <a:stretch/>
        </p:blipFill>
        <p:spPr>
          <a:xfrm rot="20358000">
            <a:off x="511200" y="3020760"/>
            <a:ext cx="2824200" cy="2117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http://www.aerospaceweb.org/question/propulsion/jet/combustion.gif"/>
          <p:cNvPicPr/>
          <p:nvPr/>
        </p:nvPicPr>
        <p:blipFill>
          <a:blip r:embed="rId2"/>
          <a:stretch/>
        </p:blipFill>
        <p:spPr>
          <a:xfrm rot="817800">
            <a:off x="3625920" y="2784600"/>
            <a:ext cx="5238720" cy="30002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92d050"/>
                </a:solidFill>
                <a:latin typeface="Franklin Gothic Book"/>
              </a:rPr>
              <a:t>What is Combustion Reaction?</a:t>
            </a:r>
            <a:endParaRPr b="0" lang="en-US" sz="41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9" name="Rectangle 5" descr=""/>
          <p:cNvPicPr/>
          <p:nvPr/>
        </p:nvPicPr>
        <p:blipFill>
          <a:blip r:embed="rId3"/>
          <a:stretch/>
        </p:blipFill>
        <p:spPr>
          <a:xfrm>
            <a:off x="195120" y="1365120"/>
            <a:ext cx="5212080" cy="2646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What are some real-life examples of combustion reaction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08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people are or a cand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 burn wood to make a fi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 rot="472200">
            <a:off x="4267080" y="24904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How are combustion reactions used in our daily lives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5238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use fire everyday 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burning pap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rning tra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http://www.cescg.org/CESCG-2003/SLeal/images/wood_on_fire_poly2_perspShape_tmp.jpg"/>
          <p:cNvPicPr/>
          <p:nvPr/>
        </p:nvPicPr>
        <p:blipFill>
          <a:blip r:embed="rId1"/>
          <a:stretch/>
        </p:blipFill>
        <p:spPr>
          <a:xfrm rot="1231800">
            <a:off x="4267080" y="24904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63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Book"/>
              </a:rPr>
              <a:t>How could you describe a combustion reaction to someone who didn't have chemistry a very good background in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62120" y="20574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reaction in which oxygen reacts with another element or compound (generally a hydrocarbon) to produce energy in the form of heat and ligh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800600" y="20574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organic molecules combust the reaction products are carbon dioxide and wa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2  Types of Chemical Reactions!!!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n combustion with a hydrocarbon produces carbon dioxide and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ompl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ty combustion with a hydrocarbon produces carbon or carbon monoxide also carbon dioxi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Sources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www.iun.edu/~cpanhd/C101webnotes/chemical%20reactions/combustion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http://www.files.chem.vt.edu/RVGS/ACT/notes/Types_of_Equations.html#Hydrocarb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3:53:56Z</dcterms:created>
  <dc:creator>cl12colonja</dc:creator>
  <dc:description/>
  <dc:language>en-US</dc:language>
  <cp:lastModifiedBy>cl12colonja</cp:lastModifiedBy>
  <dcterms:modified xsi:type="dcterms:W3CDTF">2009-02-19T13:53:29Z</dcterms:modified>
  <cp:revision>13</cp:revision>
  <dc:subject/>
  <dc:title>Combustion Reactions</dc:title>
</cp:coreProperties>
</file>