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DF2-E2FD-450F-9A28-621FCFD5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905-3AF6-4097-AAB1-BE96012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261-E121-494A-9FA8-D2C306A4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E56-1806-43B2-9267-A79AEAC7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396-F249-41F0-BCC0-68EFCA6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1D5-EDA0-4B89-B038-880031E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310-C6BA-4C9B-8084-A2DA3F7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822-90E6-4176-9EED-34DB5C63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ED6-E930-412D-B4D6-5702E5C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963-90EF-432D-B2EB-9A28FB8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1C9-49C9-4D92-868A-3AC2ABB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6A2-83A0-4824-BFEF-1205FCF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22AC-430E-4F8F-AB72-87367AE7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videos.tv/video/9936-brainiac-alkali-metal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mbustion Rea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 m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clear-explos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ing you speak of, combustion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A combustion reaction is a very rapid release of energy created by combining a fuel and oxy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12408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s and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daily lives we see many different forms of combustion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mat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Bunsen bur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l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applications for combustion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14600" cy="215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91320" y="3809880"/>
            <a:ext cx="21477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int of the power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ustion reaction is the release (exothermic) of energy. Boom! This happens when oxygen is combined with a fuel (such as petroleum). Whoo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videos.tv/video/9936-brainiac-alkali-metal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od, the bad, and the ug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incomplete reactions. Complete reactions are much cleaner reactions with a hydrocarbon. Incomplete reactions are dirty reactions with a more pollutant by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35053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00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iencevideos.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gh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iun.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7:41:24Z</dcterms:created>
  <dc:creator>Mary Beth Barron</dc:creator>
  <dc:description/>
  <dc:language>en-US</dc:language>
  <cp:lastModifiedBy>Mary Beth Barron</cp:lastModifiedBy>
  <dcterms:modified xsi:type="dcterms:W3CDTF">2009-03-04T23:23:18Z</dcterms:modified>
  <cp:revision>3</cp:revision>
  <dc:subject/>
  <dc:title>Combustion Reactions</dc:title>
</cp:coreProperties>
</file>