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503-4DA7-450C-A927-E28DD520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830-016F-45A4-8892-3C5BA3A4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D0E-6B53-416E-9F9A-433EDF5D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8C2-FBDD-4E36-8100-B4ACA8E3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1A3-52B0-42DA-911B-4B66F268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2FC-7866-415A-8033-3E3F3BF2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BC5-7D85-45EB-B728-B9B9BD67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006-2A2F-4053-8142-5266C373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322-2339-40EC-96AE-70852CAB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2B1-4AB4-4E97-8CA8-C6DF695D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3BB-CE77-4E93-88B9-EBEAB61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400-E505-480F-9037-5BAD5B90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06E5-55AA-4C4F-A9F0-C91B80ECC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videos.tv/video/9936-brainiac-alkali-metal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ombustion Reac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h m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uclear-explos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ing you speak of, combustion re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A combustion reaction is a very rapid release of energy created by combining a fuel and oxy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312408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s and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daily lives we see many different forms of combustion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mat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Bunsen bur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15289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l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applications for combustion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tainment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u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2514600" cy="215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91320" y="3809880"/>
            <a:ext cx="214776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int of the power poi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ustion reaction is the release (exothermic) of energy. Boom! This happens when oxygen is combined with a fuel (such as petroleum). Whoo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videos.tv/video/9936-brainiac-alkali-metal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od, the bad, and the ug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nd incomplete reactions. Complete reactions are much cleaner reactions with a hydrocarbon. Incomplete reactions are dirty reactions with a more pollutant by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350532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500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ciencevideos.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gh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.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ww.iun.e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7:41:24Z</dcterms:created>
  <dc:creator>Mary Beth Barron</dc:creator>
  <dc:description/>
  <dc:language>en-US</dc:language>
  <cp:lastModifiedBy>Mary Beth Barron</cp:lastModifiedBy>
  <dcterms:modified xsi:type="dcterms:W3CDTF">2009-03-04T23:23:18Z</dcterms:modified>
  <cp:revision>3</cp:revision>
  <dc:subject/>
  <dc:title>Combustion Reactions</dc:title>
</cp:coreProperties>
</file>