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54B9-47C5-440A-AFB2-EC4E3BA7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766-AC72-4828-9266-AE36238C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E575-7387-407E-AB57-39324F77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B699-0DE4-4DCB-A83E-DCDFB7CC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68E9-6F46-42CD-972E-9DC7BEAB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09B2-74E3-4F57-8168-8CD10D37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B16A-C241-4C41-87D0-6D738FDA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82C8-0C03-44B7-BDD8-84A7DB5E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7BCA-88E3-4375-8385-D4C6F4BB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5FB0-0A87-4A3A-976C-68322E96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3A93-AEFA-48E8-BE2D-DDE7BFFC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376E-E94D-4783-ADE0-E9F67ED4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D399-1474-486A-B497-474962D1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4E2D-6929-4ACB-8962-4522C016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9D71-B913-4DB5-9C6D-E640D720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FC6E-D5E1-4CE6-B7CB-31166F4E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0E92-CACE-47FD-82FC-B9F473DE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D173C-9C0E-4062-B1C9-87629579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DED4A-EDF8-4734-A694-721D54F4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26FBA-1B9A-4066-A743-1715CC12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4FF27-B02A-4AA1-9F41-341CA77E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9FF02-FBC1-47BE-920C-97316ADE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722F-C137-4669-BFC7-820277D1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84A42-98E6-412B-B287-E9191CEC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C9287-082E-4890-8692-A003E65F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78055-0F32-4148-8C13-9851C586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97CCE-8A2B-4180-9D55-2F2A36C7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617ED-0D0A-4E69-8490-88120D67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4A404-63CE-4BB1-8456-0BE0E047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80CAB-CCA2-4FFC-A5DD-F1B02E87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710E8-FB43-4899-B38C-7F6DF6C5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928D9-763A-4D76-8FC0-843BD885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F94C2-62A2-4C82-B73F-9109D72C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1519-3BE2-4319-AA9A-34B7F8B4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D6A53-8BFC-4A45-87F7-85D1A6D0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F3002-FC1E-439F-8FD3-390412A1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5719D-0BCA-4EDE-AD21-4BC9F7CA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64847-F226-497C-A825-F9D84C24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0C228-751C-42CD-89EA-DF3CCE83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A2782-1E77-451C-89F5-1FE56A4C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C3CEB-6E26-4954-8AC0-63B16123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518B5-55D1-4160-8A2E-996BC46A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59249-FDF0-4BAE-97BE-00D7F860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78A44-C0C3-4876-9D7D-6A7F8B25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50BB-AA1F-4C53-AE54-84FC60D4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C7445-EF38-4347-94E9-A2074964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BA5AF-B317-4014-BC8F-564BD092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BDD41-AB1E-47CB-9B94-36F26702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D2CA3-42CA-49F5-8593-2B6C1D7D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B1EA7-62C5-4E8D-A4C1-8666CFF9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95EDF-CDDB-4C17-9DEB-FA63546E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BA26E-9B50-43E3-ACED-DB3FC203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CB466-13CC-4E1D-80C3-E5CA8A28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A614B-D07C-485B-AB63-CA7CADBD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CB03D-65F3-4455-8F64-1335D387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6010-A13F-4116-A302-8FD6E2B4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2F340-B38F-425A-94CD-0CBDBDEC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00647-4DF6-4859-9B2E-9570C239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2E292-719C-4FAC-976E-9F85072B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52880-1F89-4494-B4DA-DBA721A3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384CB-7B70-48AA-A840-2090EAC5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55143-161B-46ED-8330-DDC7B3F1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4DDA5-B6B0-4909-81B4-33AF608E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28CD2-FC74-4124-9AB6-13C15B83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1515D-CEB4-4B71-988B-142404A4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BB38C-804D-4E08-BADD-2C07790B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017A-9A4D-4454-89D9-9A084740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40C05-4E61-4047-A9F7-A53CBB01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C00CB-6061-4341-91C7-671AD140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53533-555B-418C-9664-23C621F8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F91F-5EB4-407B-8776-F943BC4F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B65B-9A1D-4AC6-B96A-9191DE86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8041-E40E-40BA-8857-9DDB886998B4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4FBD-A2B6-4857-AF78-D45B1BA512FF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DF24-CD52-49A8-BC51-BE8A905B24AA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F2AB-985C-41D3-8EBC-D6F6EFAAD63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22B8-3606-430E-858D-583FC99EC0B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8F42-0A1D-4E1E-8D21-41F00FA7F394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un.edu/~cpanhd/C101webnotes/chemical%20reactions/combustion.html" TargetMode="External"/><Relationship Id="rId2" Type="http://schemas.openxmlformats.org/officeDocument/2006/relationships/hyperlink" Target="http://www.files.chem.vt.edu/RVGS/ACT/notes/Types_of_Equations.html#Hydrocarbon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633240" y="1951200"/>
            <a:ext cx="7236000" cy="20476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 rot="541800">
            <a:off x="4068360" y="4028760"/>
            <a:ext cx="3813120" cy="6858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xplain a Combustion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http://www.cescg.org/CESCG-2003/SLeal/images/wood_on_fire_poly2_perspShape_tmp.jpg"/>
          <p:cNvPicPr/>
          <p:nvPr/>
        </p:nvPicPr>
        <p:blipFill>
          <a:blip r:embed="rId1"/>
          <a:stretch/>
        </p:blipFill>
        <p:spPr>
          <a:xfrm rot="20358000">
            <a:off x="511200" y="3020760"/>
            <a:ext cx="2824200" cy="2117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http://www.aerospaceweb.org/question/propulsion/jet/combustion.gif"/>
          <p:cNvPicPr/>
          <p:nvPr/>
        </p:nvPicPr>
        <p:blipFill>
          <a:blip r:embed="rId2"/>
          <a:stretch/>
        </p:blipFill>
        <p:spPr>
          <a:xfrm rot="817800">
            <a:off x="3625920" y="2784600"/>
            <a:ext cx="5238720" cy="300024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92d050"/>
                </a:solidFill>
                <a:latin typeface="Franklin Gothic Book"/>
              </a:rPr>
              <a:t>What is Combustion Reaction?</a:t>
            </a:r>
            <a:endParaRPr b="0" lang="en-US" sz="41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9" name="Rectangle 5" descr=""/>
          <p:cNvPicPr/>
          <p:nvPr/>
        </p:nvPicPr>
        <p:blipFill>
          <a:blip r:embed="rId3"/>
          <a:stretch/>
        </p:blipFill>
        <p:spPr>
          <a:xfrm>
            <a:off x="195120" y="1365120"/>
            <a:ext cx="5212080" cy="2646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What are some real-life examples of combustion reaction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08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people are or a cand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 burn wood to make a fi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 rot="472200">
            <a:off x="4267080" y="24904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How are combustion reactions used in our daily lives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5238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use fire everyday 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burning pap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rning tra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http://www.cescg.org/CESCG-2003/SLeal/images/wood_on_fire_poly2_perspShape_tmp.jpg"/>
          <p:cNvPicPr/>
          <p:nvPr/>
        </p:nvPicPr>
        <p:blipFill>
          <a:blip r:embed="rId1"/>
          <a:stretch/>
        </p:blipFill>
        <p:spPr>
          <a:xfrm rot="1231800">
            <a:off x="4267080" y="24904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63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Book"/>
              </a:rPr>
              <a:t>How could you describe a combustion reaction to someone who didn't have chemistry a very good background in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62120" y="20574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reaction in which oxygen reacts with another element or compound (generally a hydrocarbon) to produce energy in the form of heat and ligh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800600" y="20574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organic molecules combust the reaction products are carbon dioxide and wa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2  Types of Chemical Reactions!!!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n combustion with a hydrocarbon produces carbon dioxide and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ompl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ty combustion with a hydrocarbon produces carbon or carbon monoxide also carbon dioxi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Sources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www.iun.edu/~cpanhd/C101webnotes/chemical%20reactions/combustion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http://www.files.chem.vt.edu/RVGS/ACT/notes/Types_of_Equations.html#Hydrocarb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3:53:56Z</dcterms:created>
  <dc:creator>cl12colonja</dc:creator>
  <dc:description/>
  <dc:language>en-US</dc:language>
  <cp:lastModifiedBy>cl12colonja</cp:lastModifiedBy>
  <dcterms:modified xsi:type="dcterms:W3CDTF">2009-02-19T13:53:29Z</dcterms:modified>
  <cp:revision>13</cp:revision>
  <dc:subject/>
  <dc:title>Combustion Reactions</dc:title>
</cp:coreProperties>
</file>