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121D-633A-4FC6-8E94-DEA461A0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D0E0-8F61-4683-9E36-1429D2A6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481-3652-4DCE-B081-EDA879B9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E9AA-D396-430A-9BF1-163BE9EC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08CD-79B2-45EA-90D3-3ED38CD0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2039-3457-4AAF-B1C5-ADA14D56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BB04-73EB-460E-9A9F-A73FC79A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117E-3B9E-489A-AB97-42E7EA4D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F508-0513-4A03-96B7-09A2DAB7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1D55-B2FF-44DC-AA37-9809526E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209B-B6D1-4112-86BF-F833487C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CE6-4F56-41C6-A828-E144B12F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6540-AD18-4C14-A3E6-A528DE6F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5535-315C-48AD-978E-30B23BFA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7411-219A-4ED1-8135-F4E646E4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C917-CBA0-44A9-9B5D-D3FA62BD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E798-FFA7-4957-8051-AA1D9D00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50F9C-DE5E-4338-B410-D6F6DE62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5A60E-F49E-437D-948F-ADD3FF50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8AAC1-D816-440A-AA0C-C5F4ACD8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72A81-01D5-4860-86B3-E758AF76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25185-52DF-45EC-84CC-1C02B580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D26-973E-4F69-B571-BABA9DD0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0FA7A-2F1A-42C0-934D-40279DA6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B1557-028A-4E18-8312-6C7E91CC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92511-D748-44B9-9A05-213098D1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7559-EFED-4149-A308-A4036F90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68C30-0DAF-4632-8A41-C1520807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73CA7-18B5-4779-92C5-1B0C790C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BFA07-1BEF-4034-A80E-34B1A4CE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3696C-D8F3-4ED6-AE96-9037A9B7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654BC-4C77-4E37-B3D4-BA06B506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6551B-6A33-46BF-B821-C719ECD8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506F-45D0-4A2D-9BE6-23FCD152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352B7-30F1-4C14-AF9F-575D9F8B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A3499-2A59-4168-BB8A-464469CF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636B1-05BB-4901-831B-2B0C0FC8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A716E-F662-41D6-AC98-AD763446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3FDD7-2C05-450C-899F-BC56EC03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4FB0E-D652-4407-BDBB-4AF1A077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7CD9C-88E3-43E6-A9AB-EB79556D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68C1A-46DB-4FC7-B052-634989E9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F096E-FA8E-44B7-8678-C29154A9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BE4D2-2907-48A7-ACF1-8920995E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3D6-4472-4E17-A1B7-F6023242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D12A2-D5FC-4798-9CF4-BFE3677E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1DE2D-6D9E-4E14-8726-D2F0B691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75867-8862-44EC-82F3-AC423CF2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0D3DB-C357-4185-B7E8-919B2F1E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481A1-EF22-4D1E-8D0D-05E08F3D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9D5E2-9B0F-4B5C-B66A-67A386E9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0BC97-9791-4626-8B32-4549BEA5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BB8BB-BF07-4D29-A83C-E98FC662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25076-3790-48C0-8B63-7BBF29D2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D656A-8354-495A-8F95-28CA7BB3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A749-F366-4FF1-A89A-F18A996F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0FF6F-2CD5-4A29-A5D4-3950C30D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75CC0-7B17-4672-884F-97827F06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66517-D8FF-43EA-B54F-EEC1E6E6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EA466-7836-474E-B094-27EA28F3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99922-4B84-490E-839B-F761568B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D11CA-2941-4C2A-8A19-2E7235D9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E441A-50C8-46D4-89C8-0A4FFB93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4698F-7DB4-4442-A2F4-F325763E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81D82-73F2-4D52-8614-D8026A5D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0B5A4-F793-44AE-840A-B86DCA7D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D22-B3CE-41C2-9381-D4EDAB76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798FB-8F32-4B35-B344-8453E862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22667-FF75-4D00-83F1-F1286466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D664B-7D6C-4D7E-AD1F-BB82113E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8EC9-8B0F-4023-AB6F-9E7114CB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30F8-20AE-4EFA-804C-1DDDAF45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2430-98BE-440A-B037-C4048EC6772B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61C8-FA1F-43FC-B266-52DC208C54E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C91C-CF63-455B-8FEB-9D242F1346E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94F7-37AB-40AB-923B-C949C85D120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75D7-83E6-4F3E-A6EF-BF438B9D691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AEDE-7850-4808-9B52-D54C02F78091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un.edu/~cpanhd/C101webnotes/chemical%20reactions/combustion.html" TargetMode="External"/><Relationship Id="rId2" Type="http://schemas.openxmlformats.org/officeDocument/2006/relationships/hyperlink" Target="http://www.files.chem.vt.edu/RVGS/ACT/notes/Types_of_Equations.html#Hydrocarbon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633240" y="1951200"/>
            <a:ext cx="7236000" cy="20476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 rot="541800">
            <a:off x="4068360" y="4028760"/>
            <a:ext cx="3813120" cy="6858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xplain a Combustion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http://www.cescg.org/CESCG-2003/SLeal/images/wood_on_fire_poly2_perspShape_tmp.jpg"/>
          <p:cNvPicPr/>
          <p:nvPr/>
        </p:nvPicPr>
        <p:blipFill>
          <a:blip r:embed="rId1"/>
          <a:stretch/>
        </p:blipFill>
        <p:spPr>
          <a:xfrm rot="20358000">
            <a:off x="511200" y="3020760"/>
            <a:ext cx="2824200" cy="2117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http://www.aerospaceweb.org/question/propulsion/jet/combustion.gif"/>
          <p:cNvPicPr/>
          <p:nvPr/>
        </p:nvPicPr>
        <p:blipFill>
          <a:blip r:embed="rId2"/>
          <a:stretch/>
        </p:blipFill>
        <p:spPr>
          <a:xfrm rot="817800">
            <a:off x="3625920" y="2784600"/>
            <a:ext cx="5238720" cy="30002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92d050"/>
                </a:solidFill>
                <a:latin typeface="Franklin Gothic Book"/>
              </a:rPr>
              <a:t>What is Combustion Reaction?</a:t>
            </a:r>
            <a:endParaRPr b="0" lang="en-US" sz="41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9" name="Rectangle 5" descr=""/>
          <p:cNvPicPr/>
          <p:nvPr/>
        </p:nvPicPr>
        <p:blipFill>
          <a:blip r:embed="rId3"/>
          <a:stretch/>
        </p:blipFill>
        <p:spPr>
          <a:xfrm>
            <a:off x="195120" y="1365120"/>
            <a:ext cx="5212080" cy="2646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What are some real-life examples of combustion reaction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08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people are or a cand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burn wood to make a fi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 rot="472200">
            <a:off x="4267080" y="24904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How are combustion reactions used in our daily lives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5238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use fire everyday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burning pap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rning tra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http://www.cescg.org/CESCG-2003/SLeal/images/wood_on_fire_poly2_perspShape_tmp.jpg"/>
          <p:cNvPicPr/>
          <p:nvPr/>
        </p:nvPicPr>
        <p:blipFill>
          <a:blip r:embed="rId1"/>
          <a:stretch/>
        </p:blipFill>
        <p:spPr>
          <a:xfrm rot="1231800">
            <a:off x="4267080" y="24904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63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Book"/>
              </a:rPr>
              <a:t>How could you describe a combustion reaction to someone who didn't have chemistry a very good background in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2120" y="20574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reaction in which oxygen reacts with another element or compound (generally a hydrocarbon) to produce energy in the form of heat and ligh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800600" y="20574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organic molecules combust the reaction products are carbon dioxide and wa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2  Types of Chemical Reactions!!!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n combustion with a hydrocarbon produces carbon dioxide and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omp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ty combustion with a hydrocarbon produces carbon or carbon monoxide also carbon dioxi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Sources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www.iun.edu/~cpanhd/C101webnotes/chemical%20reactions/combustion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://www.files.chem.vt.edu/RVGS/ACT/notes/Types_of_Equations.html#Hydrocarb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3:53:56Z</dcterms:created>
  <dc:creator>cl12colonja</dc:creator>
  <dc:description/>
  <dc:language>en-US</dc:language>
  <cp:lastModifiedBy>cl12colonja</cp:lastModifiedBy>
  <dcterms:modified xsi:type="dcterms:W3CDTF">2009-02-19T13:53:29Z</dcterms:modified>
  <cp:revision>13</cp:revision>
  <dc:subject/>
  <dc:title>Combustion Reactions</dc:title>
</cp:coreProperties>
</file>