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18.png" ContentType="image/png"/>
  <Override PartName="/ppt/media/image9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8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4C92-08C5-47C1-AB80-E69A081D1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A2C2-873A-4F36-BD06-6FACB4D057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DDD5-0EF7-403E-9BA4-68343A744C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648F-FCEE-4611-B170-2D89920E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889F-79D3-4929-9778-CB56A53C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BD4938-3AC4-4344-8784-6BEADDBD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D1BC79-019C-4E37-B7FC-863D16E9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F197DA-FEC7-4711-B374-10AA905B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DCFBC6-C960-4A9E-AAA9-ABF964AC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5FB4DE-FBFA-4A02-87A5-3DDED15C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709878-9FFF-4594-A3C0-475E12AC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C9345B-302E-4365-9863-64D73DF3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733814-E06B-4E98-9950-A24AA146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53405A-B862-446A-A107-3B978DF0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1F7-C447-4D2C-AB0D-7E5B561B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3D1-267A-44F9-874C-95F9296F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FC137-A1E4-4E71-B448-B63E692E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F8CA8-7EC1-47EA-BB9C-F62E4B45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CB40F-DE52-43B3-A96E-49361739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F7C63-F2A4-4D1E-840D-D76B5DD3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26079-FB3A-48D2-9133-6F38CD8E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74935-4E85-41F9-90D3-46FEE17F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C628E-BA72-4D45-BC51-C346C979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319-D4A1-4176-A28C-AD40E279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6E94E-BE24-447A-865B-48FCFCE6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E6C64-2C98-40E9-873D-552D0FA2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18A9D-DA4D-4254-862B-868C9D40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A1482-ED2F-43F1-895D-D70DA64E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451F2-76AE-4560-9219-AA7B9187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8B842-3A6E-4EDF-8E4C-38D687AA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F057D-A4EF-4FB9-806D-5DA343D9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8351-F91C-4E7F-BD8D-254D276E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9452A-5100-434B-AC7D-943B1BE9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B8295-7A7C-4485-99EA-1D870C58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062-7CA8-4382-A881-6EDEE3F7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EC5F7-0162-445C-B18F-2DF16443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C39AB-D05F-4469-A68F-5FD4BB13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EDFD5-2872-47F9-AA8B-227AB011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38EBC-513E-4137-803C-AA529DD7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EFF49-0043-48F2-BD94-69F71941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B7E43-12DE-4580-9058-CC2D1C0B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E379B-7CC6-42F1-B295-59351582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59B662-0CDE-47D2-993F-BAA135FA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90205A-862F-420E-AA3D-D0458BDB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5A32A7-2DE0-4BCA-993B-BF4ABE50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09B-64E9-4B6C-827A-06E2FFA4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599F78-B5CA-439A-AB41-F5797A51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C7DD81-8A14-4F81-BD52-607B059D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7114E2-3456-4A79-AB8D-C235EF80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C300F8-33BF-41A9-9467-8937CCE8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CC6A6-3F0A-4972-A016-BF457ED3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2D79DE-285D-45F9-8538-65DFBF8B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232391-4258-40E5-BAAF-A685BF62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D6E74F-CB92-4792-9AC6-7069866C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2E0840-FDB3-4388-93D8-0CC5AFD6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04268-B525-4E63-9484-1FED3045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FA0-FA47-4DBA-A517-EC26E2F9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C32FD-C63B-42E9-BA90-C4230C51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B310E-AEAF-40C5-8F28-B40D1FA0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15B0D-C225-492F-82E9-9422D66C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47D0F-2D56-437C-8152-79F7B70A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BE8A3-BEA5-409C-A351-976EC3E2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F7196-C7FA-4FC7-951A-D69C74E9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2F154-9CBF-4E91-9F45-2B2F4A29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F310C-2A68-4909-9A71-3EAFC7C0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6E58D-4083-43B2-9801-CFAFFAFE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690D1-9197-4B2B-99EE-12239F88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DC7-71CD-4FF0-AA4B-E7DEA539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0A2D8-FF1B-48A2-9E4B-ED67CE1A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760B5-DF2F-4034-953E-635A960D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A77D9-4801-4F1A-A884-A05D78A1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0DDBD-2AB5-4821-A1A6-A58072E5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409BF-9D7C-4B49-841C-22F05465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6C552-D6A3-4B68-9D7F-A15A91F5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2DA6F-9AFE-45A2-8BF0-922B54CA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F16CB-671E-43E4-A2C0-1CD6B2F1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88986-E43B-4F37-B807-A719D846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2C23A-5049-4BF9-9179-5DAA969C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F8B6-14AC-4C94-A290-9A26BB99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047C5-2CD6-4421-B5FD-179E3E1E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9846B-2582-4EB1-BE1E-C1728C01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C2019-FEA0-44C9-86A5-62B47DD8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63E45-7B48-483B-8E8B-789650E6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BC3A7-D2E3-438A-B460-E516B54D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5BAAB-8E74-4DD3-B09A-1D6E1797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BD8BA-733C-4561-81B2-DC761716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11E26-E4BE-431C-8FFE-E216DFF3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A8675-B932-40AB-AAEC-33C7A551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86C03-7EDF-436D-AE8A-C4796F17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C8C-2B5B-49C4-BDF4-693FE435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59262-7433-4359-B5C7-83EAD48F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02983-001E-4DC2-B735-34D9E8D7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C1865-858D-4C2B-941F-D73C2A43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1AB06-C8AB-49AA-A6FB-0D9E0F62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1E220-1259-4DE5-B7B3-C810B603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392FA0-4A4A-4E5B-AF67-CE5DACF9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36BA6E-0444-4840-A1BA-BDDAE6C3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F1BAD9-5689-4C2B-BD1E-A739354F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2104E0-25BF-4A7A-BC68-12635F3A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5BE837-3E2E-4B3C-8FC7-5ECB7EB8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57B-C668-4785-854E-5AE27430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8595BE-0B88-4C90-BA84-7F35088E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D8FF47-63F0-43FC-9A1A-6DA07AA3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E81306-5A98-4803-BC45-60F6B967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B19DAC-EE76-4795-A1F6-4E77A479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63E573-AC09-4B43-A86E-FA20B9C2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D01D54-4798-4D37-BE49-4CCC3A40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31A795-1802-40FA-BBAF-E8350A0B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1990C1-FD32-4CD9-BCF5-DCD954FA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D06DD4-6980-45D9-96A4-C863D26B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F54C5D-3687-4F5B-8B61-86A3F549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3DF9-7DDD-4AA2-BB8B-09AC692FB62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6877-A5FB-4290-B17C-5AAAC85FC05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7B68-9006-4F32-91D2-E6FE2B587BB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05C4-5235-4949-8571-49616FBF327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F26F-7230-40D4-8503-0FC8FA266BF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C0EC-86E1-4BF4-A2AF-DA2A47E5B7D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BDF4-2946-4B1E-9336-54C0348BB3A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DFFC-CE4C-42FA-B512-A61AC0D44A2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04EA-87BC-4A39-81E1-0A1CB002121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y Zach Smith, Joe Vargas, and Tyler Her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cids are a species which deals with supplying protons or hydrogen ions but also accept electron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ses are a chemical species that supplies electrons with hydroxide ions and can accept proton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y are corrosive (burns you skin)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y have a sour tast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y have a pH of less than 7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amples of acid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ydrochloric Aci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ulfuric aci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Nitric Aci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orrosive they also burn your skin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oapy feel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as a pH of more than 7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mples of Base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odium Hydroxid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alcium Hydroxid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gnesium Hydroxid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mmonia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9" name="Picture 2" descr="C:\Documents and Settings\cl12smithz\Local Settings\Temporary Internet Files\Content.IE5\L7U47SJM\MCj04126420000[1].wmf"/>
          <p:cNvPicPr/>
          <p:nvPr/>
        </p:nvPicPr>
        <p:blipFill>
          <a:blip r:embed="rId2"/>
          <a:stretch/>
        </p:blipFill>
        <p:spPr>
          <a:xfrm>
            <a:off x="5334120" y="2514600"/>
            <a:ext cx="31035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378000" y="249120"/>
            <a:ext cx="856440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neutralization reaction is a specific type of double replacement reaction that occurs when and acid reacts with a base, producing a solution of salt and water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f it was baseball the pitcher would be the acid and the catcher would be the base.  The ball would be the Hydroge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oton. When the catcher would catch the ball that would be the reactio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any bleaches, soaps, toothpastes, and cleaning agents use acids and bas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emon, limes, and grapefruits are citric acid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me common bases are baking soda, ammonia, vinegar, and antacid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6" name="Picture 4" descr="C:\Documents and Settings\cl12smithz\Local Settings\Temporary Internet Files\Content.IE5\6G601VPN\MCj02153720000[1].wmf"/>
          <p:cNvPicPr/>
          <p:nvPr/>
        </p:nvPicPr>
        <p:blipFill>
          <a:blip r:embed="rId2"/>
          <a:stretch/>
        </p:blipFill>
        <p:spPr>
          <a:xfrm>
            <a:off x="5486400" y="4191120"/>
            <a:ext cx="2890800" cy="20001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C:\Documents and Settings\cl12smithz\Local Settings\Temporary Internet Files\Content.IE5\6G601VPN\MCj03356420000[1].wmf"/>
          <p:cNvPicPr/>
          <p:nvPr/>
        </p:nvPicPr>
        <p:blipFill>
          <a:blip r:embed="rId3"/>
          <a:stretch/>
        </p:blipFill>
        <p:spPr>
          <a:xfrm>
            <a:off x="914400" y="4800600"/>
            <a:ext cx="2743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n acid-base reaction or neutralization reaction happens when a base and an acid mix to produce a salt and water mix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0" name="Picture 6" descr="C:\Documents and Settings\cl12smithz\Local Settings\Temporary Internet Files\Content.IE5\L7U47SJM\MCj03980670000[1].wmf"/>
          <p:cNvPicPr/>
          <p:nvPr/>
        </p:nvPicPr>
        <p:blipFill>
          <a:blip r:embed="rId2"/>
          <a:stretch/>
        </p:blipFill>
        <p:spPr>
          <a:xfrm>
            <a:off x="1447920" y="4038480"/>
            <a:ext cx="1904760" cy="1933560"/>
          </a:xfrm>
          <a:prstGeom prst="rect">
            <a:avLst/>
          </a:prstGeom>
          <a:ln w="0">
            <a:noFill/>
          </a:ln>
        </p:spPr>
      </p:pic>
      <p:pic>
        <p:nvPicPr>
          <p:cNvPr id="421" name="Rectangle 5" descr=""/>
          <p:cNvPicPr/>
          <p:nvPr/>
        </p:nvPicPr>
        <p:blipFill>
          <a:blip r:embed="rId3"/>
          <a:stretch/>
        </p:blipFill>
        <p:spPr>
          <a:xfrm>
            <a:off x="3255840" y="3932280"/>
            <a:ext cx="2273400" cy="19321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Documents and Settings\cl12smithz\Local Settings\Temporary Internet Files\Content.IE5\84J2OIQR\MCj01128680000[1].wmf"/>
          <p:cNvPicPr/>
          <p:nvPr/>
        </p:nvPicPr>
        <p:blipFill>
          <a:blip r:embed="rId4"/>
          <a:stretch/>
        </p:blipFill>
        <p:spPr>
          <a:xfrm>
            <a:off x="5486400" y="3809880"/>
            <a:ext cx="231948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ww.about.co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ttp://qldscienceteachers.tripod.com/junior/chem/acid.htm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ttp://www.infoplease.com/cig/chemistry/acids-bases.htm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4:43:03Z</dcterms:created>
  <dc:creator>cl12smithz</dc:creator>
  <dc:description/>
  <dc:language>en-US</dc:language>
  <cp:lastModifiedBy>cl12smithz</cp:lastModifiedBy>
  <dcterms:modified xsi:type="dcterms:W3CDTF">2009-02-19T14:49:47Z</dcterms:modified>
  <cp:revision>13</cp:revision>
  <dc:subject/>
  <dc:title>Acid-Base Reactions</dc:title>
</cp:coreProperties>
</file>