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18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8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0891-A462-4155-8BB3-59150D0A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84D-1322-4E21-89C8-BC4EB5CFE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F9B-BFD8-4430-A759-46C6AA227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F3F-F4BB-496B-90EA-8002D8C8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BCB-5E1D-4AF5-A09A-4A87F8E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16750-2B04-4A45-860F-0F33170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FAB82-97B2-4EEE-8C4E-FEBFFD29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6BD0AC-23E8-4A2B-B15B-054E2C4F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FDC15-2AB9-47B4-801F-8829F84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603BB-775E-4EFD-A7E5-47D6FBC4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E3652-61E3-4960-AD4C-880052C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9E423-4B15-4F3B-B9D5-5F514F91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4FC03-D0CB-471C-956C-493B534C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986DE1-8D45-4C21-8753-94054E6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52F-10BA-4276-93A2-61D91D0F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E49-632B-4F96-BA92-0D1F43C2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EEC1E-5B71-42C3-AAA9-4ABA3CFF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C2C94-2B36-42A8-ACB1-01AC6C26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4D3E1-01EB-406A-AD10-7AE56A8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169EA-765F-4AC9-8CFA-55AC005A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506C9-4E53-4329-83F5-1E99100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C047-BDCF-408F-9858-726DC9D0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DF76E-FE8A-41A9-961F-E3D64A1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C33-0524-449C-8664-5E17264C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3A8F-FFB5-4C85-8703-81EAB6D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5C540-D507-4062-AE61-6412BD4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B176F-25A6-482B-BF5A-142D7C7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2AEB9-218A-4352-931F-F6C67F4A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665ED-5C80-4E2C-BA34-CCE9C0A1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4E07-B8B3-4F8E-B454-10377789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C6B3-D5D7-45EE-8B9F-AF48AB8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A7B3-7B31-4845-B6EE-4C03F74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109F-A97A-492D-A075-78294E0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9AD0-B0F3-430D-85C6-876B456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F16-FC66-42C9-8514-443DA711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73EF-C322-46E3-A704-45C6D11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1B00-AA53-4CD7-B2D9-EA30A1C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9C60-944A-4E27-9002-6E6C1C8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4E29-1709-4289-B899-EB4FD96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4D5D-0BF2-41CB-9840-45916F56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7093-C311-48EC-9A4A-5A450BBA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3864-C09F-436D-AEB9-B9793C63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D2F0D-9DB4-4D58-A377-2DA88E04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AD9B2-4AAC-4817-8814-2D99473E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188C7-7509-44AB-A831-6E20E63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2AA-EF04-4E48-93BC-5BED500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E3D48-4154-4BBF-9AD9-2C5C6E03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AD463-F433-423A-B8E7-133ADDF2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7D312-6A10-43E2-8389-9057AEE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5672C-6F33-449E-8C2C-A7BD8533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CA6C3-8C2D-45EF-85AC-CB39F593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8315F-7A41-4D82-A844-55B394A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F72AC-B87F-4864-B92F-10653D1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3E218-5BF4-4237-A149-4D9C1BA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D4425-57DA-4463-A9FC-B255B4D3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AE84-2408-428A-88F2-9829D58A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877-FC71-4524-B609-D50B0B6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1118-195C-4403-BC7A-6A9C4D9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1595-28A8-4D82-8609-9050D84D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8C27-3B01-4D7F-8D80-A71C788C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C78B-3362-45F0-85BE-84B3D234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A9FA-BF2D-4605-A02C-DB28C4A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7CE6-8F05-47D3-AD90-A4B1789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5919-10FA-4CB3-A38E-F7C567B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04365-E5F5-4D86-8B19-778BF69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5C30-540D-457A-B4A8-B616172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00285-099D-4933-9849-68D28692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FF6-2D02-4F34-B87A-ECCDDB4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8A6B-9345-43B1-81BD-994D6E2C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8930-0FDE-46BA-8FB0-6DCD9770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43F3B-C5B5-44E8-BA09-CDFE7EEA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7B631-735D-44EE-A7A8-A410455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147D8-BFC3-4566-99A4-3DE0E92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CCC1-9336-49DC-9AE2-72FE9AD2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8899-5EAF-4E58-97B0-059A211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52B2-E57F-426D-A868-7BD610A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23AF5-F8F3-4E80-8E09-39F7562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B781-BBBF-4D51-9438-11C98C1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AFB-BA79-4205-837F-7D8B935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6DDA-DE10-445E-9102-9476DAF2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941CF-0FE4-49EF-8861-F88C93F2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9DB16-55D6-47DA-B16F-F24192D4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3187-3C01-4A06-896B-0B6933D4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E86F-E7C0-4255-8DE3-56BA771B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6E7B-7835-41AB-BD78-D4571AA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62BC4-29E3-4F8B-97B6-E7891F8A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0BD0-C083-49FE-9165-B54D1FF5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852C-C853-476A-8A94-A313CDBB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BDEB-FAF9-48DC-9216-54FAE8B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9EA-38C1-41B1-B9C4-DEB250D5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9C39E-8B77-4DB4-9062-0E7C22F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74E95-1EBC-41CA-808F-EF39C79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C3E4-CDF0-4678-AA3E-996B44D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6D147-3B00-4A50-B9CF-8030770A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EF96B-1929-495F-9F74-76CA14FF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590DD-D597-478D-8953-3BB21C2D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2A6F6-AE12-4F44-BB23-208570F1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E7E5E-37CB-4121-8C8D-EEDA944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65C126-88E8-45E4-83EA-5277F85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74A0C3-DDE5-42B9-B21C-9C9F2DD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A91-006F-4FBF-8D80-27E61E7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76A65-0E2E-4369-8247-52CFD99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AE3F8-A2FD-4C12-82C2-81F977E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ECFAB0-FDED-4D1C-8266-63D0DDE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0E6F6-246C-48D9-BFAA-A76C85C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FF86C-F28B-405A-9DFC-47532F87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AE3ED-1E32-4C47-94B1-FE97BB76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B7DD42-B3D8-4DC9-AF65-F490B6C0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3B931-A5F1-44D1-9292-E6CFE566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F534E2-33FC-4A8C-B7FB-4F9DF9E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E056D-0697-4445-8134-1F5D02E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CE4E-EF09-4B92-8D97-9A68A457BC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F377-A3F6-4635-AC19-4C59D155718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98E1-A8AE-4F9C-881D-6CCF80393F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F73-4B4E-4AB9-9EFF-5BB8B3BA87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4F57-92D8-49B3-BAD3-2F158E1046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4EB8-62CD-41D2-BC24-B38D3B302D0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74E0-F162-4A1E-8E59-35E7AE2704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36BF-88E3-4B85-95C0-FEBCDACC90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6004-FBC7-4C18-8E2C-7190A18C57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Zach Smith, Joe Vargas, and Tyler Her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ids are a species which deals with supplying protons or hydrogen ions but also accept electr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s are a chemical species that supplies electrons with hydroxide ions and can accept proton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are corrosive (burns you skin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sour tas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y have a pH of less than 7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 of aci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ydrochlo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ulfu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itric Aci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rrosive they also burn your ski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apy feel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s a pH of more than 7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mples of B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d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lc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gnesium Hydroxid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mmon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C:\Documents and Settings\cl12smithz\Local Settings\Temporary Internet Files\Content.IE5\L7U47SJM\MCj04126420000[1].wmf"/>
          <p:cNvPicPr/>
          <p:nvPr/>
        </p:nvPicPr>
        <p:blipFill>
          <a:blip r:embed="rId2"/>
          <a:stretch/>
        </p:blipFill>
        <p:spPr>
          <a:xfrm>
            <a:off x="5334120" y="2514600"/>
            <a:ext cx="3103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249120"/>
            <a:ext cx="85644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neutralization reaction is a specific type of double replacement reaction that occurs when and acid reacts with a base, producing a solution of salt and water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it was baseball the pitcher would be the acid and the catcher would be the base.  The ball would be the Hydrog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ton. When the catcher would catch the ball that would be the reac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ny bleaches, soaps, toothpastes, and cleaning agents use acids and bas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mon, limes, and grapefruits are citric 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me common bases are baking soda, ammonia, vinegar, and antac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4" descr="C:\Documents and Settings\cl12smithz\Local Settings\Temporary Internet Files\Content.IE5\6G601VPN\MCj02153720000[1].wmf"/>
          <p:cNvPicPr/>
          <p:nvPr/>
        </p:nvPicPr>
        <p:blipFill>
          <a:blip r:embed="rId2"/>
          <a:stretch/>
        </p:blipFill>
        <p:spPr>
          <a:xfrm>
            <a:off x="5486400" y="4191120"/>
            <a:ext cx="2890800" cy="2000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C:\Documents and Settings\cl12smithz\Local Settings\Temporary Internet Files\Content.IE5\6G601VPN\MCj03356420000[1].wmf"/>
          <p:cNvPicPr/>
          <p:nvPr/>
        </p:nvPicPr>
        <p:blipFill>
          <a:blip r:embed="rId3"/>
          <a:stretch/>
        </p:blipFill>
        <p:spPr>
          <a:xfrm>
            <a:off x="914400" y="480060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acid-base reaction or neutralization reaction happens when a base and an acid mix to produce a salt and water mi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6" descr="C:\Documents and Settings\cl12smithz\Local Settings\Temporary Internet Files\Content.IE5\L7U47SJM\MCj03980670000[1].wmf"/>
          <p:cNvPicPr/>
          <p:nvPr/>
        </p:nvPicPr>
        <p:blipFill>
          <a:blip r:embed="rId2"/>
          <a:stretch/>
        </p:blipFill>
        <p:spPr>
          <a:xfrm>
            <a:off x="1447920" y="40384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5" descr=""/>
          <p:cNvPicPr/>
          <p:nvPr/>
        </p:nvPicPr>
        <p:blipFill>
          <a:blip r:embed="rId3"/>
          <a:stretch/>
        </p:blipFill>
        <p:spPr>
          <a:xfrm>
            <a:off x="3255840" y="3932280"/>
            <a:ext cx="227340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cl12smithz\Local Settings\Temporary Internet Files\Content.IE5\84J2OIQR\MCj01128680000[1].wmf"/>
          <p:cNvPicPr/>
          <p:nvPr/>
        </p:nvPicPr>
        <p:blipFill>
          <a:blip r:embed="rId4"/>
          <a:stretch/>
        </p:blipFill>
        <p:spPr>
          <a:xfrm>
            <a:off x="5486400" y="3809880"/>
            <a:ext cx="2319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ww.about.c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qldscienceteachers.tripod.com/junior/chem/acid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ttp://www.infoplease.com/cig/chemistry/acids-bases.htm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43:03Z</dcterms:created>
  <dc:creator>cl12smithz</dc:creator>
  <dc:description/>
  <dc:language>en-US</dc:language>
  <cp:lastModifiedBy>cl12smithz</cp:lastModifiedBy>
  <dcterms:modified xsi:type="dcterms:W3CDTF">2009-02-19T14:49:47Z</dcterms:modified>
  <cp:revision>13</cp:revision>
  <dc:subject/>
  <dc:title>Acid-Base Reactions</dc:title>
</cp:coreProperties>
</file>