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18.png" ContentType="image/png"/>
  <Override PartName="/ppt/media/image9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8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DC43-011E-4AE1-935E-45D161999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C5AD-E5B1-44C4-B630-2EA8692132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5F51-CDDB-4E91-B3C7-9F6C6B6D76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870-95CE-428E-B924-5ACF88BF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641-3178-405A-BAEC-67C11172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DDD579-1470-4ADF-9A48-C484B5B3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A86AA6-2E03-4B15-94F4-765C12F8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BF9922-5E84-4746-95F0-B64D5131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977975-CC75-43C0-941B-CAA694FC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F7C67E-9A3E-40D9-A363-445BC065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8BECC6-0321-4F18-BC51-47956E12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8C2661-C2D8-41B0-959D-BE31D7BE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358044-A1BD-4FAB-9FBB-464F6A9F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E5E36D-612C-4FAE-8C23-F41B9C49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CBC-D4A6-4EF8-9C36-4492377D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BCC-B428-41D1-8257-C0EB25CD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64366-CDD7-4B49-9C57-44F3671E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F2D0E-5891-4E6A-9935-137C7734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8FFF2-7271-4C04-AD1A-D9C4EB42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C6DC8-3676-4E0D-B684-B65EE8E1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82D49-1893-4B64-B8E4-0C50BAF5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B76F5-C34A-4CB8-B948-94E89AC5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D1133-7D2A-47E0-86F0-5130A8D6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073-B9E8-44F5-BBC4-10288AFC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8FC45-3102-4D1F-8EBA-34CAAC69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2AA03-9877-41EC-A9C2-AAC56132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E21F0-68E5-459A-B325-2EA72602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A312C-8856-42B2-A047-DDDACE9B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B3CF6-F1FE-4E35-8A41-BACD5C28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761B4-8D84-4EC8-A77B-75FADA95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73400-D3C9-4E5B-8EC2-2C435D28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C210C-6B96-4C2D-B5A3-96A0F493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12AB8-443D-4690-9483-281EF8C5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C07E-4D9E-4D04-8B3D-99B5D445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819-3F35-466C-BC00-BC4425E3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9FD5-678B-44AA-8BE0-DC0710E8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16FF5-B547-43FE-9E92-C9300498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DAB49-2A08-4123-990E-6B7AD8E1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3EA4F-8970-4167-96C1-208879AB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9183B-C997-40AD-917A-AA55096B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EFAC6-8130-4190-B0BD-7FCC9703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78E49-432E-4A38-960A-0AC81880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5909DE-EAA1-4231-AF3F-1462EEB3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315CBA-12EF-4C9A-930F-0B3D177F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3567E1-1CD0-4675-8098-B0702BD1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176-BD27-4AA7-A34E-6A34A989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4BAC8A-97D9-4D77-9C39-13D496B9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26B6BC-1776-4FFC-9950-683F5EA0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BB737-FFA9-489C-8890-EDCF8B82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740EEF-AE36-4168-8B76-7E310AAA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DE57D1-1734-42E4-8C2E-25AA4040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A9F54-13F6-4A0C-98EA-1CB92065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05E2D-0235-4FC1-92B7-B097618F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F134AA-41EE-45BB-A16F-BBF57086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C0FD36-16F7-43A8-8183-0EA2CD44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69734-B4BC-410E-913C-C10AF095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23F-A964-438B-BF78-ED33E67B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63C20-4749-4619-8C05-72239B56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49B1E-7DC7-49FB-8B65-D888127F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F73A8-C3FB-47DE-93BA-2BEAC4B8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0A694-B075-4788-859C-0C5D5889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F7719-C2D7-4628-A88A-BBC330B9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95E8B-0D22-46EC-9538-30BDECF1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115D1-6E32-4C53-A88F-2D7D6DDC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5BF7A-6A79-4C19-A12D-6E6C93C8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79021-260B-4527-B5EF-C6A9A3F5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F6169-0C15-4264-9AD0-BFCC86F6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6C9-AF79-47DA-9169-86A19098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C6CC8-055C-4B6C-BA32-604FC6BA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87417-7AC5-47CA-861B-5680A957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84C39-5D71-4568-8F27-A9F617EB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D9577-A0A1-440F-A31F-D1840F09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FD90C-72C5-4DCD-A31A-682BE5EC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175B2-11AC-40B1-A465-20CEFB1B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C2761-2F3B-4E0D-AEF4-195741DB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3A1D7-52D7-4A98-A9A5-47C4CD9F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DB48C-C744-4D08-8D29-1950A791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64267-0B86-4D17-975D-31CB2380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C4D-9E67-476D-B14E-ADC1D398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19F22-1B7D-437E-928F-29809A54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19EBF-22D1-40DB-BB9A-5F4A0D69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3EFD7-C3B6-41DE-8112-4DE373FE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3D670-BA57-468F-B6D5-EE3CC52F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EEDC1-E70C-42DF-BD43-F8A52C7B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254E1-D722-4A95-8BD0-6799F086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9DCA-F2C9-4F4E-8BF0-4DD32DEA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7A6E4-B5B5-4706-B6E4-A72E91F3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A1596-8A70-4885-B05C-9C8AAB18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0E052-D866-4504-A72C-E5AECD42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F5C-325E-4DFE-A87F-37986CE8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65D2A-DF5B-40CC-8943-8639F6DE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D5BAA-4054-421D-9F70-EA5F34BE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C6DCD-AD7C-450E-93E8-CA8BEDF8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7F878-9A70-4301-9402-28FA4D4B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BC8AB-04F9-4456-B66E-35A7AFD5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0495B4-9F7B-47AE-B79B-FBEF17CF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E3A2AC-BC83-4310-AAB2-96036C71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78AED6-1257-4962-9DE9-E448BF64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9ECD5A-F5DC-4C6F-924A-6ADB92FA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65F585-15F8-4CC4-97A9-B924FA39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ED2-BFED-4D69-9F9D-8C3A5E0D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7D4B2E-5C55-498B-85FB-61262E40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28DA86-75A8-4E48-BD67-7169E6EF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47E61C-2237-4BBA-8989-A303D464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E22E98-6CF4-4D0E-A950-0629847A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96B3A3-A724-466C-B019-3CBBC3FB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54B01F-C93A-47E3-828F-168045F8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BC9969-A02A-40AD-A57D-39AEA194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BA36F2-4E72-4BC8-B9C4-D17B8BE8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48E418-4F5F-4722-BF4D-2997E2CA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7456E2-8F61-4A81-B7E3-EDA4A15C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6279-30DC-4D15-86AE-5CF575359E4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6143-2881-4CAD-96D0-920CAB0BBCD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245A-9F0C-4617-9E44-F017ACDCF46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9C43-456C-42BB-B32A-EF1F57F9D55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78EE-B29E-49F0-8FC9-F08983AF7E0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9B20-8873-41AF-95F2-FDDCCF86BF8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B229-BF09-41BD-9FAE-FCE54741B22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9223-817B-47F9-B4D8-E59D6FDE0D0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AE0C-8C4D-4099-BF16-73E9D4DF46B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Zach Smith, Joe Vargas, and Tyler Her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cids are a species which deals with supplying protons or hydrogen ions but also accept electron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ses are a chemical species that supplies electrons with hydroxide ions and can accept proton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are corrosive (burns you skin)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have a sour tast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have a pH of less than 7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amples of aci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ydrochlo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ulfu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it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rrosive they also burn your skin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apy feel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s a pH of more than 7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 of Base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d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alc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gnes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mmon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9" name="Picture 2" descr="C:\Documents and Settings\cl12smithz\Local Settings\Temporary Internet Files\Content.IE5\L7U47SJM\MCj04126420000[1].wmf"/>
          <p:cNvPicPr/>
          <p:nvPr/>
        </p:nvPicPr>
        <p:blipFill>
          <a:blip r:embed="rId2"/>
          <a:stretch/>
        </p:blipFill>
        <p:spPr>
          <a:xfrm>
            <a:off x="5334120" y="2514600"/>
            <a:ext cx="31035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378000" y="249120"/>
            <a:ext cx="856440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neutralization reaction is a specific type of double replacement reaction that occurs when and acid reacts with a base, producing a solution of salt and water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it was baseball the pitcher would be the acid and the catcher would be the base.  The ball would be the Hydrog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ton. When the catcher would catch the ball that would be the reactio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any bleaches, soaps, toothpastes, and cleaning agents use acids and bas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mon, limes, and grapefruits are citric acid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me common bases are baking soda, ammonia, vinegar, and antacid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6" name="Picture 4" descr="C:\Documents and Settings\cl12smithz\Local Settings\Temporary Internet Files\Content.IE5\6G601VPN\MCj02153720000[1].wmf"/>
          <p:cNvPicPr/>
          <p:nvPr/>
        </p:nvPicPr>
        <p:blipFill>
          <a:blip r:embed="rId2"/>
          <a:stretch/>
        </p:blipFill>
        <p:spPr>
          <a:xfrm>
            <a:off x="5486400" y="4191120"/>
            <a:ext cx="2890800" cy="2000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C:\Documents and Settings\cl12smithz\Local Settings\Temporary Internet Files\Content.IE5\6G601VPN\MCj03356420000[1].wmf"/>
          <p:cNvPicPr/>
          <p:nvPr/>
        </p:nvPicPr>
        <p:blipFill>
          <a:blip r:embed="rId3"/>
          <a:stretch/>
        </p:blipFill>
        <p:spPr>
          <a:xfrm>
            <a:off x="914400" y="4800600"/>
            <a:ext cx="2743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 acid-base reaction or neutralization reaction happens when a base and an acid mix to produce a salt and water mix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0" name="Picture 6" descr="C:\Documents and Settings\cl12smithz\Local Settings\Temporary Internet Files\Content.IE5\L7U47SJM\MCj03980670000[1].wmf"/>
          <p:cNvPicPr/>
          <p:nvPr/>
        </p:nvPicPr>
        <p:blipFill>
          <a:blip r:embed="rId2"/>
          <a:stretch/>
        </p:blipFill>
        <p:spPr>
          <a:xfrm>
            <a:off x="1447920" y="4038480"/>
            <a:ext cx="1904760" cy="1933560"/>
          </a:xfrm>
          <a:prstGeom prst="rect">
            <a:avLst/>
          </a:prstGeom>
          <a:ln w="0">
            <a:noFill/>
          </a:ln>
        </p:spPr>
      </p:pic>
      <p:pic>
        <p:nvPicPr>
          <p:cNvPr id="421" name="Rectangle 5" descr=""/>
          <p:cNvPicPr/>
          <p:nvPr/>
        </p:nvPicPr>
        <p:blipFill>
          <a:blip r:embed="rId3"/>
          <a:stretch/>
        </p:blipFill>
        <p:spPr>
          <a:xfrm>
            <a:off x="3255840" y="3932280"/>
            <a:ext cx="2273400" cy="19321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Documents and Settings\cl12smithz\Local Settings\Temporary Internet Files\Content.IE5\84J2OIQR\MCj01128680000[1].wmf"/>
          <p:cNvPicPr/>
          <p:nvPr/>
        </p:nvPicPr>
        <p:blipFill>
          <a:blip r:embed="rId4"/>
          <a:stretch/>
        </p:blipFill>
        <p:spPr>
          <a:xfrm>
            <a:off x="5486400" y="3809880"/>
            <a:ext cx="23194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ww.about.co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ttp://qldscienceteachers.tripod.com/junior/chem/acid.htm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ttp://www.infoplease.com/cig/chemistry/acids-bases.htm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43:03Z</dcterms:created>
  <dc:creator>cl12smithz</dc:creator>
  <dc:description/>
  <dc:language>en-US</dc:language>
  <cp:lastModifiedBy>cl12smithz</cp:lastModifiedBy>
  <dcterms:modified xsi:type="dcterms:W3CDTF">2009-02-19T14:49:47Z</dcterms:modified>
  <cp:revision>13</cp:revision>
  <dc:subject/>
  <dc:title>Acid-Base Reactions</dc:title>
</cp:coreProperties>
</file>