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4.png" ContentType="image/png"/>
  <Override PartName="/ppt/media/image13.wmf" ContentType="image/x-wmf"/>
  <Override PartName="/ppt/media/image5.png" ContentType="image/png"/>
  <Override PartName="/ppt/media/image18.png" ContentType="image/png"/>
  <Override PartName="/ppt/media/image9.png" ContentType="image/png"/>
  <Override PartName="/ppt/media/image17.wmf" ContentType="image/x-wmf"/>
  <Override PartName="/ppt/media/image16.png" ContentType="image/png"/>
  <Override PartName="/ppt/media/image14.png" ContentType="image/png"/>
  <Override PartName="/ppt/media/image8.wmf" ContentType="image/x-wmf"/>
  <Override PartName="/ppt/media/image10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15.wmf" ContentType="image/x-wmf"/>
  <Override PartName="/ppt/media/image1.jpeg" ContentType="image/jpeg"/>
  <Override PartName="/ppt/media/image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move the slide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88667-EE60-44B5-BB66-4646634C35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E4F59-DF24-4702-B605-08002BC4A1C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FEF3E-3B2E-4E5F-86C0-12983D80AAC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2082-BDF0-4B61-978E-3AB36CDDA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311E-C1CB-44AF-BF5E-979B3B6F4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CD17C2E-088E-49EE-A6D3-9A50BCA1B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DAB437C-786B-47DB-88CC-FDED19439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BE6EBB5-7139-4783-926E-CECFDF5FD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31A3C88-13EC-40ED-8D76-59D83D0E6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FF1AB8C-8A48-41AE-AFB9-3CD957A12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210012B-12D4-490B-9AEB-19AA79651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3AA4926-F308-4CF5-8CB9-D2ABAADA4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9639340-8B3F-4C80-861A-7FB6215E9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65A469C-2BD7-4F8B-ADE8-C89D32521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1C27-AAB1-4996-8BE4-59AE47630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B112-C428-4103-A353-40C589C54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ABFEDB-C48A-45C3-9101-CE1210B6F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62F625-D39E-47A8-8965-3376068FC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EEF13A-C6FF-4E99-8EE8-BB47695E3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A143A0-0578-4159-9908-4001D9C80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926598-B90F-416F-A564-785D40389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7FB8EA-B2AD-4881-BE69-AA735208A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BCFDB3-B81A-433F-B946-2EF5D8383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1F0C-13F5-4E9E-B9EE-838E0E454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7993A9-8E89-46E7-B985-B88B66E67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074E8D-ECE7-4956-A5A7-2D2766755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03AFCD-49B3-45F5-8ED9-594D55942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46C023-1490-4182-8D8E-6DE3AA4EB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8FD806-992B-4460-B63F-8C09FCD13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E8601-8BA0-44F0-87F2-C38FBEDAC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5EA02-37A2-422A-B0B4-2962317E8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50B27-272C-43D5-8E45-F4360360F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D0108-1852-45FB-A4FB-DEE9CAB8E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51DBD-EB19-4B87-B991-DF8729FAC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A176-C0E1-4BB0-BBF9-6E95A13C7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733A7-2BA1-4384-AA52-95D60F43F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BAA3C-BC19-44C9-9E70-8403E792E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24FC9-06D4-4DCD-9B9D-6B1597DA1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09D5D-4EA7-4505-87B2-5D2D7BC54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2F36B-A270-4ABB-AF23-03A6D7DF3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29044-03EE-4EFC-AF09-612FB322D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499CF-063D-486E-A54A-1A599DBC0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CC17AC-73A2-4C16-A76F-F3E2F7BD5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E806E7-BBF3-49A7-9C2B-86D5C6B63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9F0F85-3FF2-48C3-9264-CED737AF3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D30D-C23F-469B-8BBC-BDF97141E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22530D-1F4C-4665-B373-9A660270F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AE2BAC-ABBF-4914-AFC4-B89EF0C44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8FB285-6F7E-4889-9285-A32581174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529180-F6AF-4D07-8402-8018F7542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885B5C-DF29-45C6-ABF9-DFCE1760C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AEB8E0-E97B-49B8-A9FB-525B30C34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008027-C4A2-4FFB-A87A-6AD7DDCD9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642D17-EE48-4AB1-8F66-37AD66023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852796-8CB2-469F-A0D2-1957F2C3C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9C7143-F292-43BB-B02D-1D2BCBCAC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8EB3-5BB1-403C-A961-315AD854E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933D9F-0D7D-4B68-9BFB-05F2F2E62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78F3E2-866F-4F82-B071-46A6D21B6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252DE7-AAFC-4E9C-98E7-D3D463DD0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51725E-22F2-4546-A30F-9C709958B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4FE1C6-CB7A-40CA-9D06-FE2CB24E2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E186D3-2AD2-4F06-BE60-39A067624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48D429-19B2-4088-B75C-6DAF6A9CC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362862-CC3D-44E6-BA68-873777BE0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34BFB0-B79F-437B-B9FC-0B95961C7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33639B-A3F6-4704-B3BC-F0C966767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BCA2-7EBD-4306-80C8-46C20B86F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97859B-121A-43FA-92FB-B1693696C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43E122-3A9D-4497-9D97-C70B9BDA5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060077-A649-4063-BB5A-8889ACA75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08AAB5-D81B-4C93-ABF5-B2E649361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F070BF-B933-4B6C-8F90-9D2EAD5FF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E94F65-8775-448D-93C7-45B135C67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2C1566-701B-4FC4-935F-704414857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03FF90-6EAC-4892-ABD5-04A1DA6DC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CD19CC-55D2-4590-A103-786990CB7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F41C2F-C66E-415A-9DB0-315BB68ED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C1B0-7035-4BA6-BBA3-95A5602F2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79C0D3-95F1-42F0-BCD3-36DC26441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DCACF3-CEAD-4C91-8067-060BC665D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C258FB-8E74-442E-B24A-8AB68024B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F7F163-E47C-43B5-B2C5-74E5F49FF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0FDF46-A0E5-4EC6-B035-0BA2DD192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712C05-A001-48F1-9E4C-A45B1A8A7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E6AA99-E65E-4B9F-A6C3-3106BC31D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3263E0-14A4-4201-9669-014D8E6A6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2F4368-4445-4BCD-986E-AA0928348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4C0F01-34A6-4D3C-A2A7-4D1B41FB9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3391-A11F-4016-A6F9-8CF25D202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832601-7512-446C-BA58-25F01A3C0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D699E2-4B23-4C00-8C39-B4B08ED31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528BB8-E5A7-4F59-B515-561D0EF3A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526DA6-8F79-4088-BD5A-9006EC869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19A74F-2CD9-4953-99E7-D58A0D1CA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E2AE711-B0B9-4C68-9515-069D5D0A6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3118F3F-A1DE-4641-8C2B-643AE94C1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94A5917-CB62-4603-AB46-33155E73B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CFDFA28-4D89-4D8D-BD48-F08A98267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2E67BCC-7602-4A11-A7B1-48D3E539F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DCD8-2618-49AB-85C6-343CE81D4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DBC872A-7FD7-4A3A-B126-08AC04F46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4AFF1D6-2F0D-42F6-8B06-684C2A34C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A33994A-3D5E-4A5D-BB87-577759B7D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22B7D5E-44A8-412D-8009-BD6019761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52A5494-9CA0-4D6B-874C-905E9F301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B78B090-2845-47E8-BAA5-D761AAC5D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6FACB35-F7B8-4EA1-B68E-F20A78960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5B8986C-CA73-4482-AA0E-1C4170F4D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F8AAF01-9E61-41EE-88A6-6D00BB8F4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A106F3D-C7E8-4E84-8417-696117EF2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974D7-6734-4743-A6CC-83258AE1AA54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und Diagonal Corner Rectangle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Round Diagonal Corner Rectangle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260E5-24A0-4F81-BD6D-64E33D601006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5CD20-AA92-49D0-B0FD-431DDD8AB20F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A1120-926A-405B-866E-4C665331F641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A21F3-FCC2-4C18-9DE7-66AFFBCB9BCA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Rectangle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F205F-ACB0-45EA-9F96-A9055EF7A018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F1711-521D-44B1-94F3-1B930B904019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3121E-C95F-4271-BAA1-5E0E847E943C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619B9-F403-44D3-9DEE-E7CBE0E9934C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Title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By Zach Smith, Joe Vargas, and Tyler Herr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Acids are a species which deals with supplying protons or hydrogen ions but also accept electrons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Bases are a chemical species that supplies electrons with hydroxide ions and can accept protons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ey are corrosive (burns you skin)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ey have a sour taste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ey have a pH of less than 7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Examples of acid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Hydrochloric Acid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Sulfuric acid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Nitric Acid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Corrosive they also burn your skin.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Soapy feel.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Has a pH of more than 7.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Examples of Bases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Sodium Hydroxide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Calcium Hydroxide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Magnesium Hydroxide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Ammonia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09" name="Picture 2" descr="C:\Documents and Settings\cl12smithz\Local Settings\Temporary Internet Files\Content.IE5\L7U47SJM\MCj04126420000[1].wmf"/>
          <p:cNvPicPr/>
          <p:nvPr/>
        </p:nvPicPr>
        <p:blipFill>
          <a:blip r:embed="rId2"/>
          <a:stretch/>
        </p:blipFill>
        <p:spPr>
          <a:xfrm>
            <a:off x="5334120" y="2514600"/>
            <a:ext cx="31035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Title 1" descr=""/>
          <p:cNvPicPr/>
          <p:nvPr/>
        </p:nvPicPr>
        <p:blipFill>
          <a:blip r:embed="rId1"/>
          <a:stretch/>
        </p:blipFill>
        <p:spPr>
          <a:xfrm>
            <a:off x="378000" y="249120"/>
            <a:ext cx="8564400" cy="115884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A neutralization reaction is a specific type of double replacement reaction that occurs when and acid reacts with a base, producing a solution of salt and water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If it was baseball the pitcher would be the acid and the catcher would be the base.  The ball would be the Hydrogen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proton. When the catcher would catch the ball that would be the reaction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Many bleaches, soaps, toothpastes, and cleaning agents use acids and bases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Lemon, limes, and grapefruits are citric acids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ome common bases are baking soda, ammonia, vinegar, and antacids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16" name="Picture 4" descr="C:\Documents and Settings\cl12smithz\Local Settings\Temporary Internet Files\Content.IE5\6G601VPN\MCj02153720000[1].wmf"/>
          <p:cNvPicPr/>
          <p:nvPr/>
        </p:nvPicPr>
        <p:blipFill>
          <a:blip r:embed="rId2"/>
          <a:stretch/>
        </p:blipFill>
        <p:spPr>
          <a:xfrm>
            <a:off x="5486400" y="4191120"/>
            <a:ext cx="2890800" cy="200016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6" descr="C:\Documents and Settings\cl12smithz\Local Settings\Temporary Internet Files\Content.IE5\6G601VPN\MCj03356420000[1].wmf"/>
          <p:cNvPicPr/>
          <p:nvPr/>
        </p:nvPicPr>
        <p:blipFill>
          <a:blip r:embed="rId3"/>
          <a:stretch/>
        </p:blipFill>
        <p:spPr>
          <a:xfrm>
            <a:off x="914400" y="4800600"/>
            <a:ext cx="27432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An acid-base reaction or neutralization reaction happens when a base and an acid mix to produce a salt and water mix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20" name="Picture 6" descr="C:\Documents and Settings\cl12smithz\Local Settings\Temporary Internet Files\Content.IE5\L7U47SJM\MCj03980670000[1].wmf"/>
          <p:cNvPicPr/>
          <p:nvPr/>
        </p:nvPicPr>
        <p:blipFill>
          <a:blip r:embed="rId2"/>
          <a:stretch/>
        </p:blipFill>
        <p:spPr>
          <a:xfrm>
            <a:off x="1447920" y="4038480"/>
            <a:ext cx="1904760" cy="1933560"/>
          </a:xfrm>
          <a:prstGeom prst="rect">
            <a:avLst/>
          </a:prstGeom>
          <a:ln w="0">
            <a:noFill/>
          </a:ln>
        </p:spPr>
      </p:pic>
      <p:pic>
        <p:nvPicPr>
          <p:cNvPr id="421" name="Rectangle 5" descr=""/>
          <p:cNvPicPr/>
          <p:nvPr/>
        </p:nvPicPr>
        <p:blipFill>
          <a:blip r:embed="rId3"/>
          <a:stretch/>
        </p:blipFill>
        <p:spPr>
          <a:xfrm>
            <a:off x="3255840" y="3932280"/>
            <a:ext cx="2273400" cy="193212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5" descr="C:\Documents and Settings\cl12smithz\Local Settings\Temporary Internet Files\Content.IE5\84J2OIQR\MCj01128680000[1].wmf"/>
          <p:cNvPicPr/>
          <p:nvPr/>
        </p:nvPicPr>
        <p:blipFill>
          <a:blip r:embed="rId4"/>
          <a:stretch/>
        </p:blipFill>
        <p:spPr>
          <a:xfrm>
            <a:off x="5486400" y="3809880"/>
            <a:ext cx="2319480" cy="21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www.about.com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http://qldscienceteachers.tripod.com/junior/chem/acid.htm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http://www.infoplease.com/cig/chemistry/acids-bases.htm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14:43:03Z</dcterms:created>
  <dc:creator>cl12smithz</dc:creator>
  <dc:description/>
  <dc:language>en-US</dc:language>
  <cp:lastModifiedBy>cl12smithz</cp:lastModifiedBy>
  <dcterms:modified xsi:type="dcterms:W3CDTF">2009-02-19T14:49:47Z</dcterms:modified>
  <cp:revision>13</cp:revision>
  <dc:subject/>
  <dc:title>Acid-Base Reactions</dc:title>
</cp:coreProperties>
</file>