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13.wmf" ContentType="image/x-wmf"/>
  <Override PartName="/ppt/media/image5.png" ContentType="image/png"/>
  <Override PartName="/ppt/media/image18.png" ContentType="image/png"/>
  <Override PartName="/ppt/media/image9.png" ContentType="image/png"/>
  <Override PartName="/ppt/media/image17.wmf" ContentType="image/x-wmf"/>
  <Override PartName="/ppt/media/image16.png" ContentType="image/png"/>
  <Override PartName="/ppt/media/image14.png" ContentType="image/png"/>
  <Override PartName="/ppt/media/image8.wmf" ContentType="image/x-wmf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15.wmf" ContentType="image/x-wmf"/>
  <Override PartName="/ppt/media/image1.jpeg" ContentType="image/jpe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move the slide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077F1-CF80-40E6-A34C-D80EC7959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19B41-4F7C-4891-AA47-CB60221A80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97E1B-BBEC-438D-9665-F28736F95EE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FA87-E4C2-4A99-8B80-60BABB303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D402-4A12-4E8B-939E-39EC26FA7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3D2D7E-77D1-4872-9600-08551DFA0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BD539C-3B37-4A2F-9D0F-0F71E14AB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017CDE-A698-4B85-AF8E-9F3295DC6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D42C24-A34E-445A-AA77-CD63A370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867194-8A59-483B-B584-6507B247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CA81F59-E9F5-4406-A382-C5FB040C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01DA97-5824-47E3-AF96-D6F446DF2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5C0D36-6E10-4EEE-9F6B-C00571C45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1158B3-E449-451E-9AD9-252030E45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4A87-D100-4104-9A1E-51C33A461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BE1D-0789-4236-ACA9-65A883E70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CCBFBD-7347-447E-8DDE-A7AFEA19C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B4EDF2-C7D6-41ED-913B-55C88EDE5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A38700-D2E0-47B1-A5A4-5B15491D4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BE4AAB-AF2F-4FD8-A411-FD33C7F4E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67DABA-FD4A-42B6-AD69-90EAE0A9C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99A013-C1B5-423C-A8DC-69DBDE14A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99B66F-8C4E-47B0-86D1-4F311345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8157-1168-4A78-8AA4-E417A8B6C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C948DB-3CE0-4D55-9053-87F77056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A878EB-519F-4467-A475-869CC1C6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B493C8-57AE-4025-8805-52E7DA8A9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CDB9DB-1776-4081-B0F4-BF82A3A26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DBAC43-4AAB-4F82-A4F3-79E15C83E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EB020-42A5-4CDE-B275-60C95A596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B979D-9E54-4DEF-8AAD-90E160E16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5A792-2FA6-4B14-A02D-1258ABEC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9969E-8E50-4EA0-8768-981BB6490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90043-3A76-4F5A-B422-7FB76AAF6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C423-6C83-41E7-A653-8D6E57A28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D9B73-E60D-4421-B54B-5A014B623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C036B-4C8B-4125-817B-076D02AB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3D48A-E30A-4ABF-AD74-63E489C6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27776-C912-470B-AB6F-40C5E999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470DD-87DD-469D-884C-D235F8DF6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F0C8D-76C7-47F7-B7CC-BD416504F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4B746-A308-4E1B-9DEA-AC4DE2FC1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7AEBF8-4D40-430F-B033-6C4B0D173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CA362C-9485-480A-8C0A-69D7D1227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34263E-DAAD-4744-BB0E-7929FD561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B7AF-B505-4171-B74D-CE0D40CB2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48E9B8-0138-4C48-9B2E-6AE1238DA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984904-6E53-4A5D-8241-9E7E3E0F0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01B4AA-4A91-4429-82DC-8E04D36D2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204103-7CA3-42E1-ADBC-D495FF5E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83789B-A98D-41BC-B3A0-67CD46D2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3363B4-85C0-4850-8208-EECE65F3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AA1179-86B3-4DFA-8CAA-B0E24D0DD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180C34-86E2-4373-8920-63CF27D0D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851751-FE74-4E07-92A3-FB9D7DE57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DF7AA-755F-47B5-919F-C8CBC46B0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FA73-C68D-448A-8265-5848D8187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1A84A-D5D1-473E-99AB-7562F2AB5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A1186-2A33-47CB-A10B-16AE484C4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AC6D1-7F79-46DF-981A-280607F60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15EBE-958A-4B4B-88AA-2DE75B604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C59B8-7566-4CFC-A6A3-628835F21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6169D-4865-4CF3-935B-69CA9D3A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B19B1-89E7-462F-9C19-18556FDF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06063-9EFC-4677-8FB2-AB3D9E7D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4FDC1-D0BF-4B72-948C-1E00F4512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4A92C-F3C5-4AC9-BAF6-A8E911878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14FF-E8BD-438E-9752-82E89E4FB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A941D-E33F-41B8-B9D4-799FE3F62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9B02F-41CB-4D21-B3E1-E4AAE05FB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F6D6F-1659-4198-BA36-D84A19756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E6094-629F-4F43-9B0E-484A5FB2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E7DEF-251F-4A7B-900F-CE34F0EBB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6102C-ED81-4B49-B80B-000E15F92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4FF2E-9953-4295-BFFA-AE693BEBA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E0E13-0FDA-4796-B590-AC766788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C5FCF-5879-47A4-9BCD-A4F88F68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C67E4-2514-44D9-BE33-C6B95FC1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116E-8121-44FF-973D-74388814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7B760-9DD0-4CA6-BD8E-A3CEB6BB2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F8255-579C-411A-B046-74F6791BB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6065F-B8FA-4FD1-9BD0-CAA7CAD27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FCF11E-7BC0-4808-B15B-6A4697305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658B8-467B-435B-94EC-B6C57CD60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C31A40-7961-4AE7-9DAB-EF7926F28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E93105-8AC0-4FEB-B8EF-B329FC56D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5946E-EBBD-4E30-8807-E146C601C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927EA-E382-4BE6-A526-839CFEEE6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A4AEBB-FAA7-4D6F-96D9-C3A48916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EDBA-34CD-4D7B-ABB6-9B28E6DF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935316-FCE4-450A-BB19-4A975680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2D727-7ADA-48E5-B721-1D3AC5B3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D44D2-3E73-4703-8231-453DEC22E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D8CAE-3817-4D1D-A89E-BFBB3CB1B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68E2F-1B29-4292-931F-691A5221B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702940-9375-4602-875A-9D28A91A7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BE2062-8430-4CCC-AA2E-4D8D9BB15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8ECE71-E1D1-4A73-828A-573A107A7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AA0060-AA06-4C1F-845B-90B77BFF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CFB8F6-0D73-4EC5-B8C9-2ADD86C98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FCFD-A7B1-47FA-B3B9-C1AC8376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8B375F-AB0B-49D6-9D3C-479B46E5B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0FF462-144F-41CB-BD59-45A15DCA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048261-004C-4512-B693-12DC18F5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68C83F-0315-4C2E-B0EF-C709B4B8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BDD77C-E9A2-4D54-BEA6-8BA6591D1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ADD0F6-F964-46EC-A82F-687B21F46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DAEB94-5AD6-4134-95B8-A601BE571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08FCAD-FAFB-4C1A-B5B5-B137C719E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C5FA5E-21CD-4227-A1B7-337DBC1CE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30C139-8DB7-4848-B748-6E05A21C0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9C87E-1819-4330-A2C0-251E4A27929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913FC-EF6C-46C9-99AB-AF263D85CD3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83CAE-6467-47B3-B960-9EC71CD78CB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B31CF-AF4F-4273-81E4-CB71E658563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3F26B-0B04-4CEB-B7D6-56D64C740D3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512C2-3F91-4B6A-9A7A-B9BC64B5363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6FC54-8691-40AA-B15C-EADF3A0DC1B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46BFB-BA2F-4E0E-A768-46A763A99C2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55B99-928E-4632-88DD-124A6E2478E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By Zach Smith, Joe Vargas, and Tyler Herr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cids are a species which deals with supplying protons or hydrogen ions but also accept electron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Bases are a chemical species that supplies electrons with hydroxide ions and can accept proton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y are corrosive (burns you skin)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y have a sour taste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y have a pH of less than 7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Examples of acid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Hydrochloric Acid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Sulfuric acid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Nitric Acid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Corrosive they also burn your skin.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Soapy feel.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Has a pH of more than 7.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Examples of Bases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Sodium Hydroxide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Calcium Hydroxide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Magnesium Hydroxide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Ammonia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09" name="Picture 2" descr="C:\Documents and Settings\cl12smithz\Local Settings\Temporary Internet Files\Content.IE5\L7U47SJM\MCj04126420000[1].wmf"/>
          <p:cNvPicPr/>
          <p:nvPr/>
        </p:nvPicPr>
        <p:blipFill>
          <a:blip r:embed="rId2"/>
          <a:stretch/>
        </p:blipFill>
        <p:spPr>
          <a:xfrm>
            <a:off x="5334120" y="2514600"/>
            <a:ext cx="31035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Title 1" descr=""/>
          <p:cNvPicPr/>
          <p:nvPr/>
        </p:nvPicPr>
        <p:blipFill>
          <a:blip r:embed="rId1"/>
          <a:stretch/>
        </p:blipFill>
        <p:spPr>
          <a:xfrm>
            <a:off x="378000" y="249120"/>
            <a:ext cx="8564400" cy="115884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 neutralization reaction is a specific type of double replacement reaction that occurs when and acid reacts with a base, producing a solution of salt and water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f it was baseball the pitcher would be the acid and the catcher would be the base.  The ball would be the Hydrogen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roton. When the catcher would catch the ball that would be the reaction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Many bleaches, soaps, toothpastes, and cleaning agents use acids and base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emon, limes, and grapefruits are citric acid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ome common bases are baking soda, ammonia, vinegar, and antacid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16" name="Picture 4" descr="C:\Documents and Settings\cl12smithz\Local Settings\Temporary Internet Files\Content.IE5\6G601VPN\MCj02153720000[1].wmf"/>
          <p:cNvPicPr/>
          <p:nvPr/>
        </p:nvPicPr>
        <p:blipFill>
          <a:blip r:embed="rId2"/>
          <a:stretch/>
        </p:blipFill>
        <p:spPr>
          <a:xfrm>
            <a:off x="5486400" y="4191120"/>
            <a:ext cx="2890800" cy="20001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6" descr="C:\Documents and Settings\cl12smithz\Local Settings\Temporary Internet Files\Content.IE5\6G601VPN\MCj03356420000[1].wmf"/>
          <p:cNvPicPr/>
          <p:nvPr/>
        </p:nvPicPr>
        <p:blipFill>
          <a:blip r:embed="rId3"/>
          <a:stretch/>
        </p:blipFill>
        <p:spPr>
          <a:xfrm>
            <a:off x="914400" y="4800600"/>
            <a:ext cx="27432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n acid-base reaction or neutralization reaction happens when a base and an acid mix to produce a salt and water mix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20" name="Picture 6" descr="C:\Documents and Settings\cl12smithz\Local Settings\Temporary Internet Files\Content.IE5\L7U47SJM\MCj03980670000[1].wmf"/>
          <p:cNvPicPr/>
          <p:nvPr/>
        </p:nvPicPr>
        <p:blipFill>
          <a:blip r:embed="rId2"/>
          <a:stretch/>
        </p:blipFill>
        <p:spPr>
          <a:xfrm>
            <a:off x="1447920" y="4038480"/>
            <a:ext cx="1904760" cy="1933560"/>
          </a:xfrm>
          <a:prstGeom prst="rect">
            <a:avLst/>
          </a:prstGeom>
          <a:ln w="0">
            <a:noFill/>
          </a:ln>
        </p:spPr>
      </p:pic>
      <p:pic>
        <p:nvPicPr>
          <p:cNvPr id="421" name="Rectangle 5" descr=""/>
          <p:cNvPicPr/>
          <p:nvPr/>
        </p:nvPicPr>
        <p:blipFill>
          <a:blip r:embed="rId3"/>
          <a:stretch/>
        </p:blipFill>
        <p:spPr>
          <a:xfrm>
            <a:off x="3255840" y="3932280"/>
            <a:ext cx="2273400" cy="19321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5" descr="C:\Documents and Settings\cl12smithz\Local Settings\Temporary Internet Files\Content.IE5\84J2OIQR\MCj01128680000[1].wmf"/>
          <p:cNvPicPr/>
          <p:nvPr/>
        </p:nvPicPr>
        <p:blipFill>
          <a:blip r:embed="rId4"/>
          <a:stretch/>
        </p:blipFill>
        <p:spPr>
          <a:xfrm>
            <a:off x="5486400" y="3809880"/>
            <a:ext cx="231948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ww.about.com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http://qldscienceteachers.tripod.com/junior/chem/acid.htm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http://www.infoplease.com/cig/chemistry/acids-bases.htm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4:43:03Z</dcterms:created>
  <dc:creator>cl12smithz</dc:creator>
  <dc:description/>
  <dc:language>en-US</dc:language>
  <cp:lastModifiedBy>cl12smithz</cp:lastModifiedBy>
  <dcterms:modified xsi:type="dcterms:W3CDTF">2009-02-19T14:49:47Z</dcterms:modified>
  <cp:revision>13</cp:revision>
  <dc:subject/>
  <dc:title>Acid-Base Reactions</dc:title>
</cp:coreProperties>
</file>