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18.png" ContentType="image/png"/>
  <Override PartName="/ppt/media/image9.png" ContentType="image/png"/>
  <Override PartName="/ppt/media/image17.wmf" ContentType="image/x-wmf"/>
  <Override PartName="/ppt/media/image16.png" ContentType="image/png"/>
  <Override PartName="/ppt/media/image14.png" ContentType="image/png"/>
  <Override PartName="/ppt/media/image8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CD86-ABBF-45BA-BF3B-E33B23CCE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81D1-B827-420E-BC54-498534E05E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C421-46F9-4197-9E08-3907D12563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1475-A3EB-41F2-A746-87A858E8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3060-609C-424A-9EDA-93FAD484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EA563D-DE6B-4BE3-98A9-1D792165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E7B0C2-AC73-4E47-B27A-46621EE9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D67C0C-7AB7-4372-A8CA-C8864AAB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7C3B97-3074-4905-816D-432B1A12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6B9D60-75F0-45D1-BD89-F1EEB990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CD300C-1888-4580-8797-7A54BA92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14D836-6AC0-49F2-B525-93B8BD87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8133BF-58FB-4266-B09E-5D3A641F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452F8A-C337-4A91-946D-859EA8FD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6644-E530-4786-8684-AE4D06CB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3BFF-33BE-487A-A5DF-0F50571E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70D1C-B957-42FF-87DA-A329F88E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8C97D-FDCC-46D4-A815-EA34815B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C1E08-EBED-49EE-A973-CF2CC0B4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87A7F-8B6B-4199-9854-19E61602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40063-0474-4FA9-B4BE-FA2648A0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DE220-4E6E-4957-9A4B-6BD18F8A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05CD4-7BE0-47C7-9F78-27375CA9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9CCC-1515-4DF6-A0B0-10189DB8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2B9CD-311F-4355-A28F-1706D74C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58D59-3979-4467-B5AD-C8E24405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4C834-F077-42B4-AB81-F22AF46A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CD67C-E412-443E-B902-07E2F62C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7D819-78B9-4A38-BA1E-08466568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E5D44-43D4-401D-9528-871591F8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F80F8-B66B-4003-915F-7DE6CC44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906F2-CCFA-4353-AB91-02048FC0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A1976-90AD-4C55-8203-34A3C8DA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BB692-2113-4269-856E-0D020787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0B1B-3F82-49C6-9EC4-4E64561E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397C8-B959-4163-806D-80A1C6D8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2239E-3141-4638-825D-56F1596C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69915-98D8-4330-9AE3-54FF353E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1F4A2-379C-4112-9009-531AF669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3D4BB-AF07-480C-A5EF-F28EAEF1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9FEAA-4457-4AD3-B3AE-A8795EB9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F4A20-70DF-4749-85C2-199E16E8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335577-CFC3-402E-B021-67FC73E1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C12800-B0A9-46CC-85E0-D8363828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0F57A0-4265-4242-B7EA-8BDC6E24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D7C9-3548-458F-AC4F-B3320C69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84756E-0EF2-4AC7-9A0E-665EBBED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0C5D65-C979-454B-8889-D3653D8C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CBCA23-4E76-494C-A2AC-9D57A94D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0E1653-6DF8-484E-AB33-CC18D886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1A2B2C-C7D4-433C-A2E7-6205C31C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35A4B8-0B96-4013-A993-8F025519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9B85CC-215B-4B63-8AB1-FE1D51DA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B12FF3-927A-496C-8229-85F4D9E2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AE5115-01CD-449E-9CD6-BF58119F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16CA9-3789-47B0-9844-94EBBB35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698D-48AA-46F0-9BE6-A97428E3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42BFF-0E83-4276-9FBB-0852BFF9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A3054-33F1-4C76-A57C-31388CC8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894B9-F1C6-4190-B4D5-D5A1C63B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9773D-25AB-4B9A-B520-30990DEA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36B43-0584-47CE-93D2-E768DE25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B6619-3DE0-4E9E-BEBC-58534E74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1F05A-B49F-45E9-9865-DB77CEF1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C5476-C26C-4417-9538-F087BB0F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ADB1C-735B-496F-86BF-1C2F23D0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3CFF6-5F62-4A10-B8B7-E93D8BB5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7339-16D9-4E67-8A2C-528B77B3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15C47-DC3A-4F89-96C9-256612FD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F39CA-BCCA-4B26-8873-3A0FC8F5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CD1E8-226F-4160-AE15-2EB9E79F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EC11A-008F-462A-BC18-A15F8D21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2D6D7-1071-452A-8D5B-05317929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899E1-95C3-4EFF-BE85-08543026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263E4-136A-4F5F-81E3-D4130A6E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03423-F73C-4CC7-983A-A4E5CB96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D78C0-7156-4C1F-B0E3-F86FD114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2C179-C1EC-4A55-A404-D4354D84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9888-7246-4511-9196-E541A3EC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EDDEA-E189-402C-8790-9A385EBB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79B99-B49E-4EB8-8704-29B9FF71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EF7EE-E148-4971-A5F1-7A27ABB9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AADC6-A674-4618-985D-2F7879DD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94B36-3F19-403B-A4F2-6C7BD05D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5F9BD-2E10-4B64-8737-4874CED6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40E7D-8CA8-432D-89C3-47871042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76C79-C945-4DAB-8568-3E083D18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C9468-D50D-4DFE-8DB9-BFE7B4A9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B303E-9815-4794-BE7F-FB128797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9A52-318E-4A4B-9F0E-15FDDC07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99137-AFA9-4AF1-A586-2D4ABD2E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ABE77-B198-47E4-BF23-394D5724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05CCC-E632-4A48-9724-EFF9229A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F1830-5108-46DB-8AFD-04AC17B9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EBCF7-7D4C-4A5D-A4F5-22EDF3A4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F861B1-A201-46B1-8C8C-68268519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68F686-AFE3-4F5F-846A-4FC5124C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B7A58C-E13D-4392-AF8F-27EEF354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28865A-C0EC-4D17-A4D6-B6DEE89D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114586-A92E-4F5A-9A08-C0C3BDDB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5E26-6E04-48F1-BAF7-BC9611F5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E87328-AB1D-4C22-9CAE-232D7197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41EB05-324A-4C04-AAC1-29E61825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C7A06B-0B03-487D-8DD2-13D68343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9ABF4E-4076-40BC-AA92-BDBACF01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96C60C-C2C0-424D-BCBB-FB5A3812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C8A8DC-821A-46B9-9F34-2E8DFF84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464B5F-6CCD-424E-9AF0-56912D8C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7F78D9-7E03-43FF-8C3F-A9D23EB3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238E27-00ED-4BDE-95C9-3A67641E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14EF6F-4A78-4D0A-B27C-5380AC6A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C909-D39F-4984-8586-D51B5D1C4EE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43B0-8618-4C4E-A7D6-B04EAFB7578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85FE-8662-42B7-A2ED-E82C8D6332A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3AB2-DA06-4771-9B99-23F13C11043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1317-F6EC-4B4B-8D48-32582240390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91A3-E516-462F-816F-508FF53CB80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47DF-7848-4661-AEF6-00861E2DCC8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6387-2C65-424C-9B06-343A92D4D9E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3BE5-4F6F-46CD-8123-19C259C5EBE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y Zach Smith, Joe Vargas, and Tyler Herr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cids are a species which deals with supplying protons or hydrogen ions but also accept electron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ases are a chemical species that supplies electrons with hydroxide ions and can accept proton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y are corrosive (burns you skin)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y have a sour tast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y have a pH of less than 7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xamples of acid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ydrochloric Acid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ulfuric acid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Nitric Acid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orrosive they also burn your skin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oapy feel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as a pH of more than 7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amples of Base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odium Hydroxid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alcium Hydroxid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gnesium Hydroxid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mmonia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9" name="Picture 2" descr="C:\Documents and Settings\cl12smithz\Local Settings\Temporary Internet Files\Content.IE5\L7U47SJM\MCj04126420000[1].wmf"/>
          <p:cNvPicPr/>
          <p:nvPr/>
        </p:nvPicPr>
        <p:blipFill>
          <a:blip r:embed="rId2"/>
          <a:stretch/>
        </p:blipFill>
        <p:spPr>
          <a:xfrm>
            <a:off x="5334120" y="2514600"/>
            <a:ext cx="31035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378000" y="249120"/>
            <a:ext cx="8564400" cy="11588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neutralization reaction is a specific type of double replacement reaction that occurs when and acid reacts with a base, producing a solution of salt and water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f it was baseball the pitcher would be the acid and the catcher would be the base.  The ball would be the Hydroge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roton. When the catcher would catch the ball that would be the reaction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any bleaches, soaps, toothpastes, and cleaning agents use acids and bas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emon, limes, and grapefruits are citric acid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ome common bases are baking soda, ammonia, vinegar, and antacid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6" name="Picture 4" descr="C:\Documents and Settings\cl12smithz\Local Settings\Temporary Internet Files\Content.IE5\6G601VPN\MCj02153720000[1].wmf"/>
          <p:cNvPicPr/>
          <p:nvPr/>
        </p:nvPicPr>
        <p:blipFill>
          <a:blip r:embed="rId2"/>
          <a:stretch/>
        </p:blipFill>
        <p:spPr>
          <a:xfrm>
            <a:off x="5486400" y="4191120"/>
            <a:ext cx="2890800" cy="20001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C:\Documents and Settings\cl12smithz\Local Settings\Temporary Internet Files\Content.IE5\6G601VPN\MCj03356420000[1].wmf"/>
          <p:cNvPicPr/>
          <p:nvPr/>
        </p:nvPicPr>
        <p:blipFill>
          <a:blip r:embed="rId3"/>
          <a:stretch/>
        </p:blipFill>
        <p:spPr>
          <a:xfrm>
            <a:off x="914400" y="4800600"/>
            <a:ext cx="2743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n acid-base reaction or neutralization reaction happens when a base and an acid mix to produce a salt and water mix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0" name="Picture 6" descr="C:\Documents and Settings\cl12smithz\Local Settings\Temporary Internet Files\Content.IE5\L7U47SJM\MCj03980670000[1].wmf"/>
          <p:cNvPicPr/>
          <p:nvPr/>
        </p:nvPicPr>
        <p:blipFill>
          <a:blip r:embed="rId2"/>
          <a:stretch/>
        </p:blipFill>
        <p:spPr>
          <a:xfrm>
            <a:off x="1447920" y="4038480"/>
            <a:ext cx="1904760" cy="1933560"/>
          </a:xfrm>
          <a:prstGeom prst="rect">
            <a:avLst/>
          </a:prstGeom>
          <a:ln w="0">
            <a:noFill/>
          </a:ln>
        </p:spPr>
      </p:pic>
      <p:pic>
        <p:nvPicPr>
          <p:cNvPr id="421" name="Rectangle 5" descr=""/>
          <p:cNvPicPr/>
          <p:nvPr/>
        </p:nvPicPr>
        <p:blipFill>
          <a:blip r:embed="rId3"/>
          <a:stretch/>
        </p:blipFill>
        <p:spPr>
          <a:xfrm>
            <a:off x="3255840" y="3932280"/>
            <a:ext cx="2273400" cy="19321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Documents and Settings\cl12smithz\Local Settings\Temporary Internet Files\Content.IE5\84J2OIQR\MCj01128680000[1].wmf"/>
          <p:cNvPicPr/>
          <p:nvPr/>
        </p:nvPicPr>
        <p:blipFill>
          <a:blip r:embed="rId4"/>
          <a:stretch/>
        </p:blipFill>
        <p:spPr>
          <a:xfrm>
            <a:off x="5486400" y="3809880"/>
            <a:ext cx="231948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ww.about.co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ttp://qldscienceteachers.tripod.com/junior/chem/acid.htm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ttp://www.infoplease.com/cig/chemistry/acids-bases.htm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4:43:03Z</dcterms:created>
  <dc:creator>cl12smithz</dc:creator>
  <dc:description/>
  <dc:language>en-US</dc:language>
  <cp:lastModifiedBy>cl12smithz</cp:lastModifiedBy>
  <dcterms:modified xsi:type="dcterms:W3CDTF">2009-02-19T14:49:47Z</dcterms:modified>
  <cp:revision>13</cp:revision>
  <dc:subject/>
  <dc:title>Acid-Base Reactions</dc:title>
</cp:coreProperties>
</file>