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52F8-C360-4D65-8D98-36E4E780B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3832-7372-4D54-AE24-7A2F60B4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ED1-3676-4380-95B9-AE16D36C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080-EB41-4979-A5DC-893440A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50400-52A9-4E15-B04D-1929B7DD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A753B-1A77-4403-8232-0827D73B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5C425-E856-41B8-BEB7-50AAAC6F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94405-D5BC-40F8-A906-3A9E01F5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34025-8D6B-4000-AE94-CCED54A4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470BA-FC20-4ADD-8D09-8277C116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18D02-EC5C-45A1-ADD3-ADB4EA33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D12E7-2EE3-45B6-B243-26934900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24D4E-522D-44AE-BCB7-CB542F5A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9A609-A939-456A-B45E-467F7832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1AC-1105-4899-92EC-762A47AD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95AA9-96BF-4177-9965-5BF11793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E0BF2-4F06-4CC2-BB70-8BE4BCED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DBB6C-B0E3-4DA0-AC8B-795F4FF1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34DC3-A3AB-4D3E-989D-743EBE7B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F6BC9-F9B1-4B21-89D1-010D03BB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49666-D11D-4D58-97B5-BE925F3E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453A0-4875-4103-A2E4-4B35386C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62D87-070D-493C-882E-154486C7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6FA8C-788B-4912-9B9D-7B52C730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EFD21-021E-4E80-A1DF-29A02BD9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289-0A5B-4CEC-B5FB-DA691A1E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8B7F0-F258-43F5-AA9F-E3221DF6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E5787-25B5-4EF9-9617-902924FB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E3317-28AA-49A7-B542-A43F7445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9E492-9A42-4E6F-B6D2-F988FD92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C607A-20CA-4044-A7EF-FF7B075C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2CA8B-5039-428F-8538-AA9C02F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D371D-D9A5-4D5F-A241-426CE499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5A75A-51F0-4B22-89D7-D1B3B8AC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30D00-3637-41AB-A96C-0A3B18DF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965C1-D9C5-4E62-BE4A-6A6683E9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B7F3-C669-4A4E-A8DC-8FFE64C5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6177F-D92B-4EC5-91F0-0C8B4E82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DE457-E4FF-42AC-97C1-5D44847A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5C2A4-0D44-4FB3-B196-D44BBF54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67D91-31BA-48E1-A378-96EBA351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BDE95-A2D1-47A1-883E-83F58127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9FD1A-FF6E-42F5-BD48-9CE4489E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6E79C-6BEF-4E66-97B5-7C364B76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D62E0-2EBD-447E-ACFF-9C9BE39B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653E6-53D7-48AB-8EF3-8C53068C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9A776-D278-4A66-A537-1AF1D12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E180-B6BC-4809-97D5-12B9164B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70BE2-65AA-4F29-A64C-5897B3AC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0AB38-B670-497F-BEEB-CD326433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B1B50-FD8C-464A-9B5B-459E6873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3381E-C833-49CC-98C9-D33E04BB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BEFDA-67D5-497A-97CB-D261DB7B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044A-C142-4BA2-B580-E94B4DCB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599D-9B6A-4A38-8D36-3A5664D7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E4D6-6154-4F5F-B218-F3AA5C67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FD95-40E0-4CE2-BED0-0E9AD550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FDAE-CBC5-4457-AF05-0EF1A7B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FCC-56DC-42CE-A74C-8613B831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EBCF-E759-42D7-8577-07DCFF13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A726-72E8-4362-AF5B-361A78D6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5CCB-E625-4892-A9FB-2199A849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970-795C-4106-82DB-E7AD9D23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307F-713E-41E7-A35B-298DA478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B413-A996-460C-8712-B5B5CE95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7D0B-CFD4-4ED0-AA88-DD2696B8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91AE-2587-4567-9F03-EDE19857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181B-170D-4345-AFF1-962F745D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BA03-C4F0-43E3-8B58-D6241098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A57-CE41-4EAE-8092-59B8EF7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EADBB-554F-4BA2-9DC3-E71BDF59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EF7C-4989-4972-9BDB-A3F22B3E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F419-5A26-4302-B8E4-8A4CD27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5830-D98C-4508-ABCC-B7B1636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EFBD-E26D-4389-912E-5FA9EEC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697E-EE6C-4F71-9CA9-93D913BA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F6314-90A9-4D99-B9CF-5A4057B9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A358-58D6-4618-84C7-8D7714CF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D6A2D-298B-4ABC-BA53-07551FC8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6FDC-C3F9-4E54-B755-4B52A0EE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715-55B0-4E7C-8085-1D671B7C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ACAE-68E2-483D-BF02-B3AF24D2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9988-EBB9-4053-826E-6D302D47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08E2-8A28-4D61-A6F8-7DF0028C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C82E-E854-42EE-A184-5FDABB8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78DA-F78C-49CF-BD86-2ED68D1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505C-1C90-4700-93EC-705F4608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C065-85FE-42FA-A938-4F565264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401D-0DA9-498F-9E41-4A8611F4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1C95-9C07-436F-B15F-A01A332C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655B3-BE04-408D-8103-EFB68744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C2C-18B3-4077-AC5A-A9D33801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E0D60-BDFA-41D5-A5DE-EAB4EC6F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4643F-4661-4291-9946-6035D466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13E9-BB1C-4278-BC9B-DC4D44D2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1A25E-3997-4E8C-B18F-AEC084A8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A4CE-4D07-443D-9D97-FAB02C6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98177-31D8-43E3-96E5-407ED721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14E2-E0B9-4053-866F-C6ED3D69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06829-8F5B-42CD-8471-1AED74EA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6ECC7-222F-4DF7-8148-297E4A3C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ED2CE-BEB8-4F8A-85E6-789AC821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7BE-3886-4952-9234-7F2DDAD4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19495-95D6-4969-AC2E-A4B8C977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BA615-D9E5-47B8-BF03-B5976774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9303F-D3D0-4E5E-BC21-A8DEB85E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D9860-7841-4556-AA68-E9F70C91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229BD-D9FF-4CE5-A555-5A58E026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313B1-5C90-4570-92E4-75BF3789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5EE27-DDE9-494B-9065-B10C3BBA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AE78B-E6F6-465F-975A-8AC8299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98EA2-AF3C-4E7F-8680-E9C9C798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1EF7C-B8C6-4B2F-90FA-14C917A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504-3AEA-4313-AF63-11192E1A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157E-B053-4BA9-9DED-148354A9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397E4-CB17-4CB3-91DE-CD84F895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9812-0819-43FC-AFF8-35E4FEC6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01BA-D2A0-4DA0-88C5-AED9F21F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298E9-7A6C-4CF7-8434-21EC9F1B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27EC8-8531-4BFC-BC95-AD14B39D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C6B94-8640-4D0C-9D9C-7E2B123C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854A9-7007-4437-889B-F9A4E978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CE7A-31A4-4AED-B9FE-7306B792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3A812-9837-43AD-A6BD-A365FF7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1BD-A44D-4FF7-B449-B39A5DD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9FDB5-BEDD-4493-85AB-991D9162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A6133-C393-4F30-8EE0-7D7E298B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137DA-CB36-414F-A7DB-22A285EF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024F-7C81-4D56-8822-45577A19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205C8-9381-43FD-8DA9-052A5FC8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E5D77-ED6E-4B22-A64C-E343B55C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2D2F3-0035-4195-B39F-C25A1FF8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DA366-1E18-42AE-81B3-36743CF8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AE07-0B22-414B-83FB-E2EC926B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A35C-CF8E-40E0-868A-120D6C8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BA1-969B-49A7-B17B-295D8BBE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821F9-95FC-4353-BABB-F0A0F97F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9CBDD-C906-4259-9F31-6DF65104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15081-2504-4554-BFA2-5F089A9C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6A0BD-D0B1-4D62-A006-85149ED5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FE5F7-FFC5-4292-90AE-9A7406FD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11261-651C-4E23-975C-0C925DF8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0F855-ED78-4AC0-BD32-AA899800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8F5AB-C04A-4022-820D-B5C99FAD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31AC7-CAD1-4E9D-AB08-47772672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D77A3-17A4-45D1-A0A1-7EEAAB00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E6C7-1AB3-40B9-B2AB-3E2C6995A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718D-8E75-4B7B-B08B-D1109EACB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FA8-854F-486C-B238-F58624E91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6D83-4082-46C5-BEDC-49EB44D4C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F6F9-23A1-4FD7-97A8-DB4B820F0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A5EF-5F07-4D2D-BA3A-8F051EA8D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F50F-42C2-4AB6-9799-C3D55B667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825B-1BF8-4F54-9B28-6D97A8AC2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66B-0564-4211-A3D9-A6713C1F6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CBFE-2CCE-4B7B-8011-ECC0620EE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82D7-101F-4CDF-9EE2-4E8FE3098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D36A-42FB-440E-9F03-40947A73D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Mark Eppley, Brandon Gettle, and Jackie Pain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Rectangle 4" descr=""/>
          <p:cNvPicPr/>
          <p:nvPr/>
        </p:nvPicPr>
        <p:blipFill>
          <a:blip r:embed="rId1"/>
          <a:stretch/>
        </p:blipFill>
        <p:spPr>
          <a:xfrm>
            <a:off x="1090440" y="2139840"/>
            <a:ext cx="7291440" cy="1157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cl12eppleym\Local Settings\Temporary Internet Files\Content.IE5\L7U47SJM\MCj04379780000[1].wmf"/>
          <p:cNvPicPr/>
          <p:nvPr/>
        </p:nvPicPr>
        <p:blipFill>
          <a:blip r:embed="rId2"/>
          <a:stretch/>
        </p:blipFill>
        <p:spPr>
          <a:xfrm>
            <a:off x="3886200" y="304920"/>
            <a:ext cx="187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Base Reaction: When an acid and a base are placed together they react to neutralize their acid and base properties producing a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5" descr="http://www.creativenonfiction.org/brevity/bookrev/book%20review%20art/books.jpg"/>
          <p:cNvPicPr/>
          <p:nvPr/>
        </p:nvPicPr>
        <p:blipFill>
          <a:blip r:embed="rId1"/>
          <a:stretch/>
        </p:blipFill>
        <p:spPr>
          <a:xfrm>
            <a:off x="3733920" y="35053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0000"/>
              </a:solidFill>
              <a:uFillTx/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acids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blue litmus to 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mus: a blue coloring matter obtained from certain fung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our t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to me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a pH less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181480" y="37339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4" descr=""/>
          <p:cNvPicPr/>
          <p:nvPr/>
        </p:nvPicPr>
        <p:blipFill>
          <a:blip r:embed="rId2"/>
          <a:stretch/>
        </p:blipFill>
        <p:spPr>
          <a:xfrm>
            <a:off x="1401840" y="201600"/>
            <a:ext cx="6005520" cy="11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itric Acid in oranges and lem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chloric acid (HCl) in gastric ju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lfuric acid 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tric acid (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5" descr="http://www.solarnavigator.net/solar_cola/cola_images/Oranges_Ambersweet.jpg"/>
          <p:cNvPicPr/>
          <p:nvPr/>
        </p:nvPicPr>
        <p:blipFill>
          <a:blip r:embed="rId1"/>
          <a:stretch/>
        </p:blipFill>
        <p:spPr>
          <a:xfrm>
            <a:off x="5334120" y="3200400"/>
            <a:ext cx="3033720" cy="332280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4" descr=""/>
          <p:cNvPicPr/>
          <p:nvPr/>
        </p:nvPicPr>
        <p:blipFill>
          <a:blip r:embed="rId2"/>
          <a:stretch/>
        </p:blipFill>
        <p:spPr>
          <a:xfrm>
            <a:off x="1627200" y="201600"/>
            <a:ext cx="581040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issolved in water, bases will conduct electr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red litmus to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slippery fe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a pH more tha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rosive (will burn your sk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7" descr="http://static.howstuffworks.com/gif/acid-rain-2a.jpg"/>
          <p:cNvPicPr/>
          <p:nvPr/>
        </p:nvPicPr>
        <p:blipFill>
          <a:blip r:embed="rId1"/>
          <a:stretch/>
        </p:blipFill>
        <p:spPr>
          <a:xfrm>
            <a:off x="5867280" y="23623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17" name="Rectangle 8" descr=""/>
          <p:cNvPicPr/>
          <p:nvPr/>
        </p:nvPicPr>
        <p:blipFill>
          <a:blip r:embed="rId2"/>
          <a:stretch/>
        </p:blipFill>
        <p:spPr>
          <a:xfrm>
            <a:off x="1103400" y="189000"/>
            <a:ext cx="7443720" cy="18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hydroxide (NaOH) or caustic so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ium hydroxide ( Ca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or lime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monium hydroxide 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H) or ammonia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bleaches, soaps, toothpastes and cleaning agen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http://www.shop.kn/GRFX/Items/clorox_bleach.jpg"/>
          <p:cNvPicPr/>
          <p:nvPr/>
        </p:nvPicPr>
        <p:blipFill>
          <a:blip r:embed="rId1"/>
          <a:stretch/>
        </p:blipFill>
        <p:spPr>
          <a:xfrm>
            <a:off x="495288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1" name="Rectangle 4" descr=""/>
          <p:cNvPicPr/>
          <p:nvPr/>
        </p:nvPicPr>
        <p:blipFill>
          <a:blip r:embed="rId2"/>
          <a:stretch/>
        </p:blipFill>
        <p:spPr>
          <a:xfrm>
            <a:off x="1189080" y="189000"/>
            <a:ext cx="676584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cid-Base Reac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ID + BAS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T +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Cl + NaO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Cl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Hydrochloric Acid) + (Sodium Hydroxide) (Sodium Chloride) + (Wa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2" descr="http://aic.stanford.edu/sg/bpg/annual/v10/bp10-01a.gif"/>
          <p:cNvPicPr/>
          <p:nvPr/>
        </p:nvPicPr>
        <p:blipFill>
          <a:blip r:embed="rId1"/>
          <a:stretch/>
        </p:blipFill>
        <p:spPr>
          <a:xfrm>
            <a:off x="2133720" y="3809880"/>
            <a:ext cx="4762440" cy="2562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orks Ci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visionlearning.com/library/module_viewer.php?mid=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qldscienceteachers.tripod.com/junior/chem/acid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shodor.org/unchem/basic/ab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8:06:39Z</dcterms:created>
  <dc:creator>cl12eppleym</dc:creator>
  <dc:description/>
  <dc:language>en-US</dc:language>
  <cp:lastModifiedBy>cl12eppleym</cp:lastModifiedBy>
  <dcterms:modified xsi:type="dcterms:W3CDTF">2009-02-18T17:57:13Z</dcterms:modified>
  <cp:revision>12</cp:revision>
  <dc:subject/>
  <dc:title>Acid Base Reactions</dc:title>
</cp:coreProperties>
</file>