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BE7-A1E4-4D00-B647-C854E947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DB09-80A8-474F-8F69-9F8361DB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7D3-B5AF-4D2F-A0B1-2BDD37F1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6DC-9A96-4199-B071-F2F1CE59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3A1B6-C90A-476F-BEAD-4FCABBAA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25B3B-716D-4AD1-BF8E-2EAF3854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96EB7-6FA5-465D-A56E-02DBB27E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8DB1-3C47-401C-A136-6926BF2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A9E3E-8B53-4732-9F19-621A1865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12FD8-0C66-41F8-9B5B-6DF3BE1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CF79D-489F-476C-9E24-4A85A3F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BBFA-1557-414C-8DC4-C660403A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711A8-E5C5-4870-8213-3438FE9B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EF3EA-A7C2-4F20-851F-E19AE447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B48-986E-4998-9B5E-DC212BC9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2FDCC-F4F4-48D7-84D7-DBB802C0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F8106-BF3C-4453-824E-0A53D98C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D9410-BE4D-4827-9273-E2F1871B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2241D-E64B-404B-AF8F-A19A2786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386B9-7B4E-427F-8D44-F9ACF05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3BB62-11FE-4EAD-A55B-126632E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FE435-6FC7-4409-A1BE-4A3272E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056CB-EA1F-498F-97F5-4C695D9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EB38D-3F74-4CC1-A9EC-38DBF3C2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B6EB7-E3C1-4E98-BFE4-F1E017E6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9C2-0D56-4A51-832D-18E4ACFD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EAEAC-64C6-4AAB-A745-7B0CFF2D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E5DE1-6B70-4EEF-BC56-15E59B16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D595F-DA22-4C14-BDA8-48CFF24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FD3F3-E049-42DC-9080-8B1BBFCB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2F9F8-CD50-4E51-A4F9-0B0BDD84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C53BD-E9FF-4B0E-901F-915AF6A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D6BF7-B5D3-4642-8F66-AE550CF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222F8-FEA9-4210-8C43-3AB46DD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3182F-7603-4CB8-9457-7A54195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C2538-749A-4B75-B68A-66EDF9C4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B67D-F186-4888-A875-23D8A9F4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64CB4-C481-4544-A8AD-0BD97E48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5EDD7-C00B-4143-B229-3F302AE5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346D1-8420-45DE-83DE-F6254E67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22E8D-0559-4E20-808C-23384926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F77FA-6264-428A-8393-DEC62C67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10595-016D-4C8A-96BD-4E90A1BA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3115F-6FB8-412C-98F9-D47CEA44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5681E-B4AD-418D-91F1-E8763919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A1254-8B44-4BF1-81BC-B6563820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EDB90-AA83-4410-AB10-BD6A94F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76EA-ACDD-45F3-AC91-E9835A4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24A1B-E132-460D-873E-4E33F18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8131F-81D1-46EE-AAE1-52ABAAF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5F5A-45B7-4E2D-9F2F-6795C2D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87C21-E1AD-4FF3-BA6C-4E4D1975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67674-87FC-47BF-8697-36A3B347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7DA0-C693-4CED-A03B-66A24EC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4070-C71F-4453-8FCB-3789175A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2393-4626-4CBF-B388-BA770239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2FD-934D-4754-89ED-A3780D46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DC83-AE17-4F71-9DF0-3C387B61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67F-7848-4EB9-A5D1-11E68131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2F91-8BA5-4739-A9C9-D0A3EF4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ACCA-6A96-4E81-B953-3DD9EAA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7A2F-3EB1-4955-AFD4-6C1B8255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0607-C19C-4AA5-B04A-4D98CBCC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7B9-B488-4727-936A-D505360C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8476-5244-4DB3-8A79-EB114BB9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B76C-2046-44CF-9AD5-2FBA2C91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A3AA-A7DD-477A-94C6-B3657991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5797-0F35-4F8B-954B-3BF87C4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A940-8AC3-4D6D-8D20-32C5122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12B-3CE9-4F9B-ABBB-6CAABFD9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C68D-6104-4405-A6BC-D35C82C6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7B72-600F-429E-BC81-0863950B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68C1-6226-46DD-AF79-DA3F1678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859A-61FB-4E2B-B818-1CA459A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8D88-D784-4950-8CB5-4A30963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7045-E1B2-4639-A07C-69649507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8970-7D5A-4854-8BB4-495BD702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7366-6EC2-4F17-BAB5-BBEF6171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5073-320B-4AD1-83EC-B7916259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FA64-6990-44BE-B65F-AD14DC7A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9A6-5D5E-4A71-BC1F-68F5784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7870-3090-4700-8531-6BCFE9A9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1444-B0EE-4522-8537-AFB44B14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695E-7D62-4F21-97D3-2B7899B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9784-DFD8-457D-AB9A-3630736D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B6A3-2B61-4192-8D6E-EBA7FE1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8617-6719-40A4-A6CD-C5D6AA9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BA33-2BCB-46B3-BDC0-D3524F3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FB04-06A1-480D-BF4B-8E99FC0D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5D0A-203D-42D5-B251-2958EAD8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B3B4E-8C81-4114-9584-8E77D425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01E-E78B-49E5-B235-CC7F69BE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9FD7B-C838-4EEF-AFA6-40936B0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F5614-2EC1-41AA-8B92-58F08EAE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D2B14-D743-42B0-A4D7-CCD02D54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14750-39D4-4C6E-99C6-786B55E0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63068-251D-4643-BF12-324B9523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05D2-0DE1-4FA2-9885-056538D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E7CE-DA5B-4263-A0C3-F796044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B30D-1818-4D5B-B770-BE1BEEA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8DF0-B9C1-4FC0-A777-5729AB13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642F-C22A-4254-87ED-66782890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A70-24C2-4A9C-B733-108482C9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C3EA-2E84-424D-BF6D-E3721A7B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8C83-F3D0-406C-A6C5-68DA7B24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8EB9-23FD-495A-B1B7-312135CA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8349-0C4C-4F92-932B-C5AAC633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C25C-E980-4988-A168-4CDDC48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9165-A677-410F-A480-5358BE18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83D3-3155-43F0-B404-56390512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6D607-FAA9-4A2D-9209-72341EF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5758-0C25-424C-8497-EF07842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F335-A453-48E9-AC6A-F24EB1F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BF4-95B0-4B95-8F62-1F35CE4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769C-2DDF-4098-A126-B4B9DF88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49E2D-0C36-4B8E-923B-A27C4714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E1D3-3AA4-460F-ADA5-FE31D7EE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F30A-68C9-490F-A068-F6B0EFB8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1BF8D-EC3C-4924-97DD-BD630CC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E407E-7CBC-4561-916E-7F95B6A7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2453C-B61C-4309-992B-A73D1BC6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9EB5E-B304-4874-9534-0F1E2B6B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B51F-C238-40DD-A142-2D1463E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0006-C637-483D-B67C-01928D6C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4E3-BD39-44E7-BD93-C884515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1B1A9-CFFB-4781-89CD-80F0020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7CB7-9BBF-4D4F-B137-E4EBE086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2B7F7-5BC1-4B7E-A0F3-854980BD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40961-D3E1-49C9-8716-8DB031A4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41B04-4C35-4EF7-AFAA-6FE7922A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8DC8-C261-4871-A0B5-E3EA075B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59E46-BB3B-4B27-B0C7-5099D379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E876E-6629-439B-985E-F8457EA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DEE2-64A0-4234-B2E5-2CBB9C71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E606-BD81-4239-A72F-46FD0C64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FFD-3F6B-41F1-AA95-D2E92E4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139BA-48A9-4669-AF47-13B4682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3FA4E-C45C-40D2-8039-A0D54FC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6507-528A-4473-8B66-415D485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FF8C-23AF-4BFE-99C8-5FFAC6C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D90D0-8A9E-4F0D-8EE2-58497FDD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61A6-BF83-46AF-B850-B770BC82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CD7B-1E60-4A14-9E7A-5F3931CF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5022C-5AFF-4AF4-ACBB-AB5B08B1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87D8E-2A19-4BB1-B2FB-B3D96E2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52CC1-689E-43F4-B38B-90E41D9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AC68-9910-4A2C-A2E1-9BBE1DFD4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9FE-99BB-4066-BABF-65BF4A73D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C059-7560-42A4-858B-A4C6F126D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64AC-E823-4DA5-A4F8-C6E3B2D41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44ED-0A52-440C-922F-39AAA45FF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36D4-50C8-4C84-8671-ACF8DEC38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24AB-D5A9-456F-B0DC-2B5F97E75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20B0-B220-41F5-AD50-07F0FB813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34BF-40FA-42ED-89DB-F1884C85D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DD47-C07E-4B4B-A706-7D6E8AA23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05D-66B7-4690-8527-C5162B280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5FF-ED59-4C6D-8C86-982EC8F83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ark Eppley, Brandon Gettle, and Jackie Pa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Rectangle 4" descr=""/>
          <p:cNvPicPr/>
          <p:nvPr/>
        </p:nvPicPr>
        <p:blipFill>
          <a:blip r:embed="rId1"/>
          <a:stretch/>
        </p:blipFill>
        <p:spPr>
          <a:xfrm>
            <a:off x="1090440" y="2139840"/>
            <a:ext cx="7291440" cy="1157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cl12eppleym\Local Settings\Temporary Internet Files\Content.IE5\L7U47SJM\MCj04379780000[1].wmf"/>
          <p:cNvPicPr/>
          <p:nvPr/>
        </p:nvPicPr>
        <p:blipFill>
          <a:blip r:embed="rId2"/>
          <a:stretch/>
        </p:blipFill>
        <p:spPr>
          <a:xfrm>
            <a:off x="3886200" y="304920"/>
            <a:ext cx="187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Base Reaction: When an acid and a base are placed together they react to neutralize their acid and base properties producing a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http://www.creativenonfiction.org/brevity/bookrev/book%20review%20art/books.jpg"/>
          <p:cNvPicPr/>
          <p:nvPr/>
        </p:nvPicPr>
        <p:blipFill>
          <a:blip r:embed="rId1"/>
          <a:stretch/>
        </p:blipFill>
        <p:spPr>
          <a:xfrm>
            <a:off x="3733920" y="35053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0000"/>
              </a:solidFill>
              <a:uFillTx/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acids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blue litmus to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mus: a blue coloring matter obtained from certain fung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our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to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a pH less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181480" y="37339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4" descr=""/>
          <p:cNvPicPr/>
          <p:nvPr/>
        </p:nvPicPr>
        <p:blipFill>
          <a:blip r:embed="rId2"/>
          <a:stretch/>
        </p:blipFill>
        <p:spPr>
          <a:xfrm>
            <a:off x="1401840" y="201600"/>
            <a:ext cx="6005520" cy="11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tric Acid in oranges and lem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chloric acid (HCl) in gastric ju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ic acid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ic acid (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5" descr="http://www.solarnavigator.net/solar_cola/cola_images/Oranges_Ambersweet.jpg"/>
          <p:cNvPicPr/>
          <p:nvPr/>
        </p:nvPicPr>
        <p:blipFill>
          <a:blip r:embed="rId1"/>
          <a:stretch/>
        </p:blipFill>
        <p:spPr>
          <a:xfrm>
            <a:off x="5334120" y="3200400"/>
            <a:ext cx="3033720" cy="332280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4" descr=""/>
          <p:cNvPicPr/>
          <p:nvPr/>
        </p:nvPicPr>
        <p:blipFill>
          <a:blip r:embed="rId2"/>
          <a:stretch/>
        </p:blipFill>
        <p:spPr>
          <a:xfrm>
            <a:off x="1627200" y="201600"/>
            <a:ext cx="58104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bases will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red litmus to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lippery fe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pH more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(will burn your sk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867280" y="23623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17" name="Rectangle 8" descr=""/>
          <p:cNvPicPr/>
          <p:nvPr/>
        </p:nvPicPr>
        <p:blipFill>
          <a:blip r:embed="rId2"/>
          <a:stretch/>
        </p:blipFill>
        <p:spPr>
          <a:xfrm>
            <a:off x="1103400" y="189000"/>
            <a:ext cx="744372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hydroxide (NaOH) or caustic so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hydroxide ( Ca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or lime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monium hydroxide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H) or ammonia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bleaches, soaps, toothpastes and cleaning agen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http://www.shop.kn/GRFX/Items/clorox_bleach.jpg"/>
          <p:cNvPicPr/>
          <p:nvPr/>
        </p:nvPicPr>
        <p:blipFill>
          <a:blip r:embed="rId1"/>
          <a:stretch/>
        </p:blipFill>
        <p:spPr>
          <a:xfrm>
            <a:off x="49528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Rectangle 4" descr=""/>
          <p:cNvPicPr/>
          <p:nvPr/>
        </p:nvPicPr>
        <p:blipFill>
          <a:blip r:embed="rId2"/>
          <a:stretch/>
        </p:blipFill>
        <p:spPr>
          <a:xfrm>
            <a:off x="1189080" y="189000"/>
            <a:ext cx="676584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cid-Base Reac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+ BAS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T +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Cl + Na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Cl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Hydrochloric Acid) + (Sodium Hydroxide) (Sodium Chloride) + (Wa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2" descr="http://aic.stanford.edu/sg/bpg/annual/v10/bp10-01a.gif"/>
          <p:cNvPicPr/>
          <p:nvPr/>
        </p:nvPicPr>
        <p:blipFill>
          <a:blip r:embed="rId1"/>
          <a:stretch/>
        </p:blipFill>
        <p:spPr>
          <a:xfrm>
            <a:off x="2133720" y="3809880"/>
            <a:ext cx="4762440" cy="256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ks Ci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visionlearning.com/library/module_viewer.php?mid=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qldscienceteachers.tripod.com/junior/chem/aci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shodor.org/unchem/basic/ab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06:39Z</dcterms:created>
  <dc:creator>cl12eppleym</dc:creator>
  <dc:description/>
  <dc:language>en-US</dc:language>
  <cp:lastModifiedBy>cl12eppleym</cp:lastModifiedBy>
  <dcterms:modified xsi:type="dcterms:W3CDTF">2009-02-18T17:57:13Z</dcterms:modified>
  <cp:revision>12</cp:revision>
  <dc:subject/>
  <dc:title>Acid Base Reactions</dc:title>
</cp:coreProperties>
</file>