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7AF5-9D61-4F14-80EC-82F042F6B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8866-53A0-4994-866D-75E8BB075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4B0-602D-4DD4-9006-6571C846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DDF-F779-421F-89DA-155E4C94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0D188-C660-4963-8125-A0D4D949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C2803-8C5B-4D11-A1DD-EF73B4EF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EA3D6-3CFC-4325-82DB-4250B966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C6512-A210-414C-A7CB-BD902CB8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CF86C-EDD4-46F3-8B9F-1EFB1B75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3F35A-59E8-4AF5-A535-AAE416E4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49E8B-CCA5-4AB5-BCC9-A1A4B106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C0637-CA89-4A25-9EBB-333B375C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988AB-0EAB-46BB-A97A-1386A78B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3734A-5070-4786-A66B-41D5B538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376-86FD-44D4-B0D1-C24493D0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3EB23-8CFF-4344-8A12-2633DC87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D7312-A63C-47EB-8C4C-EAE6C1A4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CE348-C31D-4C28-BEF5-52A2584D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66221-4251-4C74-97C2-C031F90E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A6532-14C8-4E9F-94AE-2B48C45C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F08DC-6786-4971-8141-AE327AE3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91E8B-CD09-4E5B-AC3C-A3D31A91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7B346-E893-4B0E-9184-98C2BB9E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1EFFB-0D34-4FD6-8A80-6896241C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9F693-CA40-4460-86BA-B01A6490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A90-A4DC-434A-BA86-57CA696A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C2624-2F72-46AD-BCF3-08FE4548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E9FB9-5EA6-4568-BFDF-B3C5DDE1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3EF9D-60E7-4C75-9B09-DD7711BE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9985E-CEE0-4C0B-AD77-EECA24E6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848D8-62D2-4293-BF72-B5D48024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347CA-0D1B-4011-8981-17EE7228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17E8B-1D96-4885-B4B9-894B7A4A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18771-E4EA-4400-B6CC-754EEFD0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B6216-B5B0-45B0-AD0B-369607EF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3E26B-F77E-43D5-8568-5573276A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58E7-208D-417B-896C-797C3B30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E0021-EEA8-4492-915F-2B25232F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199B7-66AA-4C8B-A05D-54711B5D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9062B-EB43-439C-85B2-19F293F1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51CF6-E881-423A-92D2-06BA7894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82CD0-276C-462C-BE8B-6380E11F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7F1B3-434A-44CA-A7C4-67C57B9F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A8973-05A8-41A5-B5DA-A294E815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18894-CA91-428C-BC1F-722DEEBF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543CB-C99E-49B6-92C3-CA5DD1D2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29F06-7A48-47FD-9E6E-C6C637CA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1B25-3D04-46D3-9FEA-331A98F5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C4465-A1B4-4786-BA14-F8B4F8F9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FD517-0B12-4AA3-AA11-201543B2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8C1F8-2905-4380-88A3-D5F768E8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02C79-4CCF-4727-992F-6583A3E7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13739-0061-4DDA-9236-B25D2109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2A07-AC64-41BD-B27F-31C26AD7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5DD3-F99E-4561-8533-E3CA52DB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D62B-326B-40EA-9508-44FEA439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AFF6-92F3-4303-AA23-688B1C4D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0E3D-0FDB-43A2-8E2C-071AC6CB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97D-63DF-4A33-ABF0-19CA6FE8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6DD4-4FF5-408D-AA6A-0F6B62E0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AECC-126E-4362-BDB1-8ADFB0A6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768B-83D1-43B0-9028-C2A3E7D9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170F-34BC-45FF-9784-E5F0CD4F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A9E8-3E62-4968-BAFB-B145AE2D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DB4B-FE3A-4B68-8CC0-5C608D4C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0101-F827-40B0-A88C-1EAE5DEF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EB414-3B1E-4AF3-8A70-805B3027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BE8F-B92A-4593-9F9D-63461A77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3EE2-16F6-4925-990C-5D72B13A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28B-9C94-4344-B763-7E7FA4FE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AB5EA-1FB7-493A-80BF-11ED54DC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C2CD5-72A8-49EA-88E9-47872271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08D72-BA92-46DE-9A9D-10FDEB50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9AAE-9C6E-476B-94FD-00CE6B0A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D228-4E82-481B-BE40-17D828EC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E9F5-6224-4DDB-BDE0-FD6AC726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8F1E-FA6C-45CB-BF69-F92486FC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67740-F8D5-450D-A711-477B43A3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8430C-518F-4BB0-8333-C7D4B345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FC661-0AC4-4704-AAF4-9853AC3C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F5E-0D94-4963-BCFE-98637263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07966-A73C-455F-A374-B9150673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A95DE-2948-4BB2-BD4B-AF71B191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F0A49-F330-49C2-9B1C-D4B56C64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81A32-F5D3-4AEA-81E9-786B75EC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0DDA7-5B63-45B0-8037-49EB434A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65029-620B-419B-82E3-90E08A7F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D8AB1-8CB4-46DF-AD26-696BE18D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6E72C-82E2-4D97-8440-AE177084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7AB86-637F-4916-8801-00422AC6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F1CEC-92D2-4364-AD27-AC1BB0F6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053-55B6-4411-AB49-6E58398E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9C680-0463-40E3-BD99-9FB64D23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68EDF-ED48-469F-815A-8809120F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5FFD5-F08A-4744-8A95-D82B0E8E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58574-C1A8-40E1-8C1D-2C2E7690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217AC-7945-471B-A581-C32E0144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80891-7525-4A0C-8D92-6FA370D8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705E6-AF1A-45BF-8F4D-8B98F8D4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6C8C2-0DC3-43F5-826E-4E1F7344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79124-190C-4C3F-8610-CF13BD9D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DC0BE-69F3-4D19-83B1-48949889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629-3C16-4A92-98E6-339AD8AD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F1689-C974-4058-BE20-CB53D1BC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41AF-2BF9-4228-8998-8285FCFF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91026-3A70-4D37-9F3C-9E7F43CE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CB538-F3CB-406A-99ED-EC5DFAF5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816B6-D025-444D-9B96-242E08FC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6C3B7-305E-484E-864B-C6A8C388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B5DA5-BD83-483E-8602-85D3C54E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E38E5-0C97-4640-B213-1EDA2ECA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949AF-A1D4-4955-A1A9-CE41E724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82E08-8AA4-40BE-96C4-8F5450D7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292-D033-472B-AAFC-93EA46D7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D1967-2363-4AA2-A908-3B3F624D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2AAA4-29A3-4DE5-B2F0-195DFB25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92904-424C-417F-A7FB-88D54EE8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05004-4B4A-4698-80B2-EE20EAF8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F7025-C951-499D-8CD2-1C955671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3F16D-7DF2-48E0-90DC-F40A9AA9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CA074-F92A-47EA-9297-228CC63F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27834-F57D-4A49-8678-19C9E434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72C20-F112-4712-98D9-B7DD5998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96C7B-E5EC-4CB9-8C66-647A6FBA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516-DED8-4143-98D9-8D03CFE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E1F81-2CE3-4548-B0D9-F4A7E715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DF9F0-606E-453B-B93F-754CEDB2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D202D-060A-46FA-A6A9-4DE5F912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CB9A7-0960-4B8C-8A30-BA580C7B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F7E24-C40F-45A8-BB42-E7C29813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37E27-F962-47D9-AFDC-220EA02E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F174-FBAC-4AA0-9C85-21D4F5A7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020DE-6CD3-4B7D-B22A-9F6FB3AB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3E828-E0F3-4B84-96C7-96B83EE9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66585-F088-4341-828B-97443B09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0FA-3CD3-4D3E-A831-191812C7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56367-EF88-4BA5-B558-D2C0C5A5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5935D-E286-4CD3-8754-E781DACE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08D98-2451-4301-89A8-F9BE9DE3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D78D9-8350-47C7-9E45-23C56F23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3EE2A-0758-40BC-B6A3-DAF6A48B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19286-B449-435B-9E1A-A83AED2B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F4C67-D0B2-4305-8CFE-3F8E7999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155CD-CF35-468C-B51A-4E627B29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9DE4F-A8C9-4A8C-B2A8-215F9817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C5D6B-E01A-410C-A40F-BD10FA73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55EE-2BAE-4CDC-B580-E4F0E435E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7A96-0085-42B4-AC45-55EAE980A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A9EE-FD58-45EB-9919-3CEDD7A2C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00CE-CFC2-49C5-8991-23C50DB1A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A771-411D-4EB3-AE39-275F9D701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3EB6-0B26-4232-8B77-9385DAF1A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265E-2B26-409E-BC48-D4BB5B6E6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88D6-081D-4BD8-B041-AF23F8C51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9E64-8238-47FE-9ECB-EAAD4E6C6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5084-7709-4207-BBBE-662DD7BFD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50F7-5357-4CB9-B5D6-EAA19AC0B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344C-BC35-4397-A78B-D86B9B466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Mark Eppley, Brandon Gettle, and Jackie Pain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Rectangle 4" descr=""/>
          <p:cNvPicPr/>
          <p:nvPr/>
        </p:nvPicPr>
        <p:blipFill>
          <a:blip r:embed="rId1"/>
          <a:stretch/>
        </p:blipFill>
        <p:spPr>
          <a:xfrm>
            <a:off x="1090440" y="2139840"/>
            <a:ext cx="7291440" cy="1157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cl12eppleym\Local Settings\Temporary Internet Files\Content.IE5\L7U47SJM\MCj04379780000[1].wmf"/>
          <p:cNvPicPr/>
          <p:nvPr/>
        </p:nvPicPr>
        <p:blipFill>
          <a:blip r:embed="rId2"/>
          <a:stretch/>
        </p:blipFill>
        <p:spPr>
          <a:xfrm>
            <a:off x="3886200" y="304920"/>
            <a:ext cx="1876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id Base Reaction: When an acid and a base are placed together they react to neutralize their acid and base properties producing a sa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5" descr="http://www.creativenonfiction.org/brevity/bookrev/book%20review%20art/books.jpg"/>
          <p:cNvPicPr/>
          <p:nvPr/>
        </p:nvPicPr>
        <p:blipFill>
          <a:blip r:embed="rId1"/>
          <a:stretch/>
        </p:blipFill>
        <p:spPr>
          <a:xfrm>
            <a:off x="3733920" y="35053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0000"/>
              </a:solidFill>
              <a:uFillTx/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issolved in water, acids conduct electr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blue litmus to 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tmus: a blue coloring matter obtained from certain fung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sour t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osive to met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a pH less tha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7" descr="http://static.howstuffworks.com/gif/acid-rain-2a.jpg"/>
          <p:cNvPicPr/>
          <p:nvPr/>
        </p:nvPicPr>
        <p:blipFill>
          <a:blip r:embed="rId1"/>
          <a:stretch/>
        </p:blipFill>
        <p:spPr>
          <a:xfrm>
            <a:off x="5181480" y="37339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09" name="Rectangle 4" descr=""/>
          <p:cNvPicPr/>
          <p:nvPr/>
        </p:nvPicPr>
        <p:blipFill>
          <a:blip r:embed="rId2"/>
          <a:stretch/>
        </p:blipFill>
        <p:spPr>
          <a:xfrm>
            <a:off x="1401840" y="201600"/>
            <a:ext cx="6005520" cy="11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tric Acid in oranges and lemo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drochloric acid (HCl) in gastric jui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lfuric acid 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itric acid (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5" descr="http://www.solarnavigator.net/solar_cola/cola_images/Oranges_Ambersweet.jpg"/>
          <p:cNvPicPr/>
          <p:nvPr/>
        </p:nvPicPr>
        <p:blipFill>
          <a:blip r:embed="rId1"/>
          <a:stretch/>
        </p:blipFill>
        <p:spPr>
          <a:xfrm>
            <a:off x="5334120" y="3200400"/>
            <a:ext cx="3033720" cy="332280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4" descr=""/>
          <p:cNvPicPr/>
          <p:nvPr/>
        </p:nvPicPr>
        <p:blipFill>
          <a:blip r:embed="rId2"/>
          <a:stretch/>
        </p:blipFill>
        <p:spPr>
          <a:xfrm>
            <a:off x="1627200" y="201600"/>
            <a:ext cx="581040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issolved in water, bases will conduct electr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red litmus to b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slippery fe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pH more tha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osive (will burn your sk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7" descr="http://static.howstuffworks.com/gif/acid-rain-2a.jpg"/>
          <p:cNvPicPr/>
          <p:nvPr/>
        </p:nvPicPr>
        <p:blipFill>
          <a:blip r:embed="rId1"/>
          <a:stretch/>
        </p:blipFill>
        <p:spPr>
          <a:xfrm>
            <a:off x="5867280" y="23623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17" name="Rectangle 8" descr=""/>
          <p:cNvPicPr/>
          <p:nvPr/>
        </p:nvPicPr>
        <p:blipFill>
          <a:blip r:embed="rId2"/>
          <a:stretch/>
        </p:blipFill>
        <p:spPr>
          <a:xfrm>
            <a:off x="1103400" y="189000"/>
            <a:ext cx="7443720" cy="18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dium hydroxide (NaOH) or caustic so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ium hydroxide ( Ca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or lime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monium hydroxide 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H) or ammonia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bleaches, soaps, toothpastes and cleaning agent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5" descr="http://www.shop.kn/GRFX/Items/clorox_bleach.jpg"/>
          <p:cNvPicPr/>
          <p:nvPr/>
        </p:nvPicPr>
        <p:blipFill>
          <a:blip r:embed="rId1"/>
          <a:stretch/>
        </p:blipFill>
        <p:spPr>
          <a:xfrm>
            <a:off x="495288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21" name="Rectangle 4" descr=""/>
          <p:cNvPicPr/>
          <p:nvPr/>
        </p:nvPicPr>
        <p:blipFill>
          <a:blip r:embed="rId2"/>
          <a:stretch/>
        </p:blipFill>
        <p:spPr>
          <a:xfrm>
            <a:off x="1189080" y="189000"/>
            <a:ext cx="6765840" cy="1852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cid-Base Reac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ID + BAS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LT +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Cl + NaOH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Cl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Hydrochloric Acid) + (Sodium Hydroxide) (Sodium Chloride) + (Wa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2" descr="http://aic.stanford.edu/sg/bpg/annual/v10/bp10-01a.gif"/>
          <p:cNvPicPr/>
          <p:nvPr/>
        </p:nvPicPr>
        <p:blipFill>
          <a:blip r:embed="rId1"/>
          <a:stretch/>
        </p:blipFill>
        <p:spPr>
          <a:xfrm>
            <a:off x="2133720" y="3809880"/>
            <a:ext cx="4762440" cy="2562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orks Ci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visionlearning.com/library/module_viewer.php?mid=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qldscienceteachers.tripod.com/junior/chem/acid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shodor.org/unchem/basic/ab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06:39Z</dcterms:created>
  <dc:creator>cl12eppleym</dc:creator>
  <dc:description/>
  <dc:language>en-US</dc:language>
  <cp:lastModifiedBy>cl12eppleym</cp:lastModifiedBy>
  <dcterms:modified xsi:type="dcterms:W3CDTF">2009-02-18T17:57:13Z</dcterms:modified>
  <cp:revision>12</cp:revision>
  <dc:subject/>
  <dc:title>Acid Base Reactions</dc:title>
</cp:coreProperties>
</file>