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046B-D39F-4227-A711-11FA338A5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F357-9E65-411B-8421-1B88750EA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A4FE-1E54-4881-87E5-33032789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C06D-95B5-438C-A731-95882174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DD31E-7A1B-4E9E-B1A9-00FA1FCB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B2A90-6D6B-453C-9BE2-D000805D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76C15-2936-4484-ABFA-65EE7ED7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E03F4-0C2F-44A6-A324-D9BF9CF5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BE7C0-5E5A-41B1-8723-25F78CA1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63981-7494-4C44-B545-4281A19F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79896-E8F4-409B-916B-4137334C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C08A0-396E-4B52-8B28-B45578E27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1FE82-5370-4F16-91C8-E824DD127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94542C-6C79-44DE-A069-58F5817C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BADE-64DB-433F-912E-40E648ED8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B7DB3A-7183-410B-B154-740FCF32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F1BAD-8258-42DA-A58C-DA43EF96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6C4618-9E72-4AFD-B385-2A1A4A56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3079C-7D36-4BE3-9579-D6737ECF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CE4FCA-7514-40F8-AC31-3B00F3F6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F014C3-E488-4566-8AC8-50EB1ADB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9845D9-D475-46A2-B31B-E66B9707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B2BE8-F0DD-49A8-AA05-E65DCD12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26993-C851-406F-8C08-E71E7594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1B6C03-B0A9-4064-A0FE-92DE969B5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7DF7-5613-47EB-A990-EE54F5C2A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3B5305-1F8C-4E9A-A45F-17605EB50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A0F20-A65B-4997-9C3D-F99E378AF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D89CF-205E-4099-845D-2116B92B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1B1F3-B9BE-4FE6-9A04-101A696C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65AE8-95F1-4313-9865-8DAC5FF4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1518B-2458-4F2B-AE89-17FE90B3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340BE-7C46-40DC-BD70-C673FCA1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6F1E2-E688-4755-AA71-1EE221B5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E21C3-11C7-4D79-8BBF-7558EC2A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FBDB2-FE9D-42A3-BEB5-0E297989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F90A-5263-4D82-8EB1-502097469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6AB33-4FB0-4E42-95CE-F5C017E6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469F5-745C-42A1-A19B-547E12779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4E8D4-D102-46C2-9EF3-AE1A8B01A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0FF6F1-0047-4B8E-8A9F-D6B1EB9EB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1488AB-AFC7-4B24-870E-6372CA32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4EA585-983E-473F-B8E9-5013C113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57DD37-61C0-47A8-9DF5-2430ECB9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8545A0-EC9D-46F7-A659-8ED74C97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6AFC44-A970-4E85-877C-D8AF2D9E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79B78C-D6AE-4F83-BA91-6E582401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4546-31A4-498F-8AD7-7E4EC286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C9AD3E-03E0-4E78-9D94-DE2238AF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B6B4F-0C0E-4195-822A-B636C68B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C4C501-2DE1-429F-A387-BC50AFD1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2926C-33A4-4FC0-BC7E-AB8E034D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73EA5-E0D5-4F32-B39A-0DD2BBFAF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1FC3-E788-49E1-B85E-088E1F47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1118-7486-4AE7-BBA9-33E20E1E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89A2-9358-4CCA-A3E4-BF273527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279D-B60A-4644-8C47-4885911A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097D-0C37-4892-A15F-F4F2F7E2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A3E5-C2C9-4633-AEC8-B61A0F95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A9F4-01F4-4A47-B4CE-A6904EC9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BD81-60E6-4A59-8716-A69ABC8F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7080-5ED4-4114-9605-3541E71A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6FA7-97EE-4655-94A2-32CDC836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D37B-4142-48B4-B860-5A822EB6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35EBA-6B25-4CA5-9D67-3031568A8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49A51-AE31-4109-9994-2AE414A5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6D2DD-FAD8-485F-B4DD-AF3C10BE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56B31-AE35-4600-AABC-E686955C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49D3D-7A9E-4785-AFEC-B327BDB6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3ADA-B524-4AFD-82AE-A1EFFA83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9AA03-6C7B-4250-8B94-E89FFE11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FCCC2-2AEB-43C4-B912-C43241E3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59ECD-809C-4D85-97BB-E4E779E0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91A6B-3ED3-41F4-819C-79934D15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3F95F-FFD8-46E0-A642-9911046A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C3314-9061-4988-8D32-3CFF101BE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178BB-C243-49B9-B91C-4E684C1B7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45070-96DB-4B15-B295-4FE62FEAE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67E3D-96FD-4EA9-8192-DC42435D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708AF-64CD-4280-A0EC-9D0FF969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D48A-F2F8-4ECC-84EE-BC029A56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A65AF-22CB-4ABB-A563-A6914459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8EA3B-FA94-41F5-AA50-AF4FCCC7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2BB9B-40C9-4D40-AFD7-170822AD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123A1-0F4F-4268-8499-A76D70C2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24C70-3BA3-4FB2-AE8E-C6DCA2EF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71F5C-F899-4E9E-8F6A-4B0FC494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5DD47-6707-4236-B08A-D8A16807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B2830-9D67-4A23-9A78-5399B5738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A1C3D-44E4-463D-925C-360043144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360C4-CEBD-454D-B93E-60B0F4906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29FA-3A6F-4866-9F6A-5F8184A1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FBD16-C514-49EF-B885-1394B3E8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D7B27-C79B-49EA-BFE2-E8D4E3DA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0461B-59E7-419B-9438-50684982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BC607-DC89-493E-BBE8-CC3FD977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C0FBE-8AC5-4046-8275-5EC7E8EA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615F5-90E1-41E3-ADB9-A69BC893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EDCAB-F2A7-40F4-9FDC-5539A15B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832A8-507B-4469-B4B9-5A817DC4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091F5-B4AB-4511-B0CF-CCC429A2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A1C29-22ED-44E2-84AD-ADC554052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BB29-D745-4DEE-A8ED-876CFF45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FDE74-E266-412D-95DC-604D437DD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057E6-6784-41E6-84E6-B19F894BA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E54D2-1F60-4BE7-8400-7D25F2B3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A8D98-0ACD-41EC-9A0B-C4ED2B83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1E82D-D250-40E8-B6F4-10A8F239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92CA7-6ED7-4904-9DC5-AA7543AB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2396D-238B-4C7B-A621-2A24B87C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834BB-ABFB-4A1E-A2E3-A27303CE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027A3-A64B-47B1-9567-9909089E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8EB12-CC7F-4546-B2AE-0A9EC1D6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13F2-A5FF-479F-82C6-E9DA73D6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9E7FE-25DA-4ACE-B180-EFBAD76A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CA000-6481-4480-B9D8-463EC976A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AA50C-1357-47FE-87C5-CD2DE117C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DE9D2-3DF6-4EBA-B2BB-9D984CDF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C1087-6347-4BDA-B5C6-30141FCF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1575A-4F52-4224-9D3F-B21F5A87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1536A-4EFD-4875-AD15-B852DE54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3D82E-262E-430B-A831-55BEC84F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2F516-1C6F-4051-BC4D-A7F90E3C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05167-C305-479E-81EB-E8C6C7DC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F7DF-DDFF-4BB4-B4F8-DA420C69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818BF-50E6-4D63-8A4B-0BB45D18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BDC4C-CB42-4B44-AEB8-05C385C3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20C1C-A609-44C1-9BA5-6C1EE50D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4A76E-B56C-41E2-84FF-FD2166D1B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02323-09F1-4788-A365-F37AE01EB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1504C-2D71-483D-BDAD-1C4A12CA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B7D5D-1973-4406-ABF2-A82A6967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E79D8-076E-4365-80DC-88522935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A8816-9934-4DAB-A18A-23AFBA8E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D3BA7-587A-43FA-BBAD-EB8C5859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D34D-7843-45CD-B078-6FE92F9C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55B14-278F-440B-AEF3-B8522B95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8BAC4-9909-4161-828D-2EC2A31E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A35FA-9D3D-4962-A73A-E4FBBCA2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136A7-5199-4391-84C9-52241EE1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0C936-0181-4C0D-9227-10338C82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2262E-E7CF-4CBA-B4C8-F4840EA22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5887B-92D7-4C86-BCAD-D139B6E10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C798B-5C39-4AD8-9C93-8D52556E2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F5B4E-FC84-4715-94FC-2261005C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158EA-F8D0-4ED5-857A-2D8E22B0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0F26-5242-48F4-A29E-D5B3E89EC0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6D79-E5A5-4318-B091-467CC49E8D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691A-0A7B-43FA-82A0-81A2098268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FC5D-75DF-4219-A66F-7158F15A33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7968-7986-41D5-A366-0BE4F54F5A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75FF-0953-40B9-A81A-4F69F3E8A0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32D0-D9F2-43FB-B23E-257296D83F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1652-0A75-4528-B6F3-1735442489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9A55-3B59-4CF1-B80D-3CFF769E8D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91FD-637A-4D6E-A583-24841CAAC2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5169-CF8C-4908-BFA1-6A1945885B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7F64-A9ED-42EE-B8F8-8B9CF7F31D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y Mark Eppley, Brandon Gettle, and Jackie Pain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1" name="Rectangle 4" descr=""/>
          <p:cNvPicPr/>
          <p:nvPr/>
        </p:nvPicPr>
        <p:blipFill>
          <a:blip r:embed="rId1"/>
          <a:stretch/>
        </p:blipFill>
        <p:spPr>
          <a:xfrm>
            <a:off x="1090440" y="2139840"/>
            <a:ext cx="7291440" cy="11574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" descr="C:\Documents and Settings\cl12eppleym\Local Settings\Temporary Internet Files\Content.IE5\L7U47SJM\MCj04379780000[1].wmf"/>
          <p:cNvPicPr/>
          <p:nvPr/>
        </p:nvPicPr>
        <p:blipFill>
          <a:blip r:embed="rId2"/>
          <a:stretch/>
        </p:blipFill>
        <p:spPr>
          <a:xfrm>
            <a:off x="3886200" y="304920"/>
            <a:ext cx="1876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cid Base Reaction: When an acid and a base are placed together they react to neutralize their acid and base properties producing a sal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Picture 5" descr="http://www.creativenonfiction.org/brevity/bookrev/book%20review%20art/books.jpg"/>
          <p:cNvPicPr/>
          <p:nvPr/>
        </p:nvPicPr>
        <p:blipFill>
          <a:blip r:embed="rId1"/>
          <a:stretch/>
        </p:blipFill>
        <p:spPr>
          <a:xfrm>
            <a:off x="3733920" y="350532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0000"/>
              </a:solidFill>
              <a:uFillTx/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dissolved in water, acids conduct electri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nge blue litmus to 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tmus: a blue coloring matter obtained from certain fungu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ve a sour tas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rrosive to met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s a pH less than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Picture 7" descr="http://static.howstuffworks.com/gif/acid-rain-2a.jpg"/>
          <p:cNvPicPr/>
          <p:nvPr/>
        </p:nvPicPr>
        <p:blipFill>
          <a:blip r:embed="rId1"/>
          <a:stretch/>
        </p:blipFill>
        <p:spPr>
          <a:xfrm>
            <a:off x="5181480" y="373392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509" name="Rectangle 4" descr=""/>
          <p:cNvPicPr/>
          <p:nvPr/>
        </p:nvPicPr>
        <p:blipFill>
          <a:blip r:embed="rId2"/>
          <a:stretch/>
        </p:blipFill>
        <p:spPr>
          <a:xfrm>
            <a:off x="1401840" y="201600"/>
            <a:ext cx="6005520" cy="113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itric Acid in oranges and lemons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ydrochloric acid (HCl) in gastric juic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lfuric acid (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itric acid (H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2" name="Picture 5" descr="http://www.solarnavigator.net/solar_cola/cola_images/Oranges_Ambersweet.jpg"/>
          <p:cNvPicPr/>
          <p:nvPr/>
        </p:nvPicPr>
        <p:blipFill>
          <a:blip r:embed="rId1"/>
          <a:stretch/>
        </p:blipFill>
        <p:spPr>
          <a:xfrm>
            <a:off x="5334120" y="3200400"/>
            <a:ext cx="3033720" cy="3322800"/>
          </a:xfrm>
          <a:prstGeom prst="rect">
            <a:avLst/>
          </a:prstGeom>
          <a:ln w="0">
            <a:noFill/>
          </a:ln>
        </p:spPr>
      </p:pic>
      <p:pic>
        <p:nvPicPr>
          <p:cNvPr id="513" name="Rectangle 4" descr=""/>
          <p:cNvPicPr/>
          <p:nvPr/>
        </p:nvPicPr>
        <p:blipFill>
          <a:blip r:embed="rId2"/>
          <a:stretch/>
        </p:blipFill>
        <p:spPr>
          <a:xfrm>
            <a:off x="1627200" y="201600"/>
            <a:ext cx="5810400" cy="114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dissolved in water, bases will conduct electri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nge red litmus to b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ve a slippery feel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ve a pH more than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rrosive (will burn your sk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Picture 7" descr="http://static.howstuffworks.com/gif/acid-rain-2a.jpg"/>
          <p:cNvPicPr/>
          <p:nvPr/>
        </p:nvPicPr>
        <p:blipFill>
          <a:blip r:embed="rId1"/>
          <a:stretch/>
        </p:blipFill>
        <p:spPr>
          <a:xfrm>
            <a:off x="5867280" y="236232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517" name="Rectangle 8" descr=""/>
          <p:cNvPicPr/>
          <p:nvPr/>
        </p:nvPicPr>
        <p:blipFill>
          <a:blip r:embed="rId2"/>
          <a:stretch/>
        </p:blipFill>
        <p:spPr>
          <a:xfrm>
            <a:off x="1103400" y="189000"/>
            <a:ext cx="7443720" cy="1852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dium hydroxide (NaOH) or caustic sod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lcium hydroxide ( Ca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 or limewa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mmonium hydroxide (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H) or ammonia wa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ny bleaches, soaps, toothpastes and cleaning agent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Picture 5" descr="http://www.shop.kn/GRFX/Items/clorox_bleach.jpg"/>
          <p:cNvPicPr/>
          <p:nvPr/>
        </p:nvPicPr>
        <p:blipFill>
          <a:blip r:embed="rId1"/>
          <a:stretch/>
        </p:blipFill>
        <p:spPr>
          <a:xfrm>
            <a:off x="4952880" y="44956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21" name="Rectangle 4" descr=""/>
          <p:cNvPicPr/>
          <p:nvPr/>
        </p:nvPicPr>
        <p:blipFill>
          <a:blip r:embed="rId2"/>
          <a:stretch/>
        </p:blipFill>
        <p:spPr>
          <a:xfrm>
            <a:off x="1189080" y="189000"/>
            <a:ext cx="6765840" cy="1852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Acid-Base Reaction 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CID + BASE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ALT +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Cl + NaOH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aCl +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Hydrochloric Acid) + (Sodium Hydroxide) (Sodium Chloride) + (Wat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4" name="Picture 2" descr="http://aic.stanford.edu/sg/bpg/annual/v10/bp10-01a.gif"/>
          <p:cNvPicPr/>
          <p:nvPr/>
        </p:nvPicPr>
        <p:blipFill>
          <a:blip r:embed="rId1"/>
          <a:stretch/>
        </p:blipFill>
        <p:spPr>
          <a:xfrm>
            <a:off x="2133720" y="3809880"/>
            <a:ext cx="4762440" cy="2562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Works Cit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www.visionlearning.com/library/module_viewer.php?mid=5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qldscienceteachers.tripod.com/junior/chem/acid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www.shodor.org/unchem/basic/ab/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8:06:39Z</dcterms:created>
  <dc:creator>cl12eppleym</dc:creator>
  <dc:description/>
  <dc:language>en-US</dc:language>
  <cp:lastModifiedBy>cl12eppleym</cp:lastModifiedBy>
  <dcterms:modified xsi:type="dcterms:W3CDTF">2009-02-18T17:57:13Z</dcterms:modified>
  <cp:revision>12</cp:revision>
  <dc:subject/>
  <dc:title>Acid Base Reactions</dc:title>
</cp:coreProperties>
</file>