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760D-A1D2-4929-BBE8-312D72D90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FB9C-7F11-4CBA-A226-67592F819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D84-3B87-49CE-949F-6DF6FE0E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270-BFEE-4F85-9695-5E76CB4C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6BBFC-64B5-4264-92A6-E45F588A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53320-A0C8-4933-A967-45A67B1F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C229D-0307-4FEB-AFA9-502AB96C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8270F-35F3-48C4-9118-B33D3426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FD2FD-51F7-46E6-8042-B7BD0193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AE9D6-F321-4FD6-99A3-E2C712C2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0F813-DC06-47DC-91D3-952F6343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7E15D-671F-433B-8758-CC57D5D3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A2093-63F3-48CC-892F-FB4D892F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293B9-8FDB-48DA-9F43-AE66F3BE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4397-6209-44B5-BC14-ED9E64D5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4D1AD-9579-43F7-83A5-A531C8CD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41422-0651-43CD-85F1-8995B5CF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DD70C-17D6-4178-90E1-5655B337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54F58-113A-418B-8603-D05FD5E2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C192D-D535-4C00-A6DE-2F91B6CE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6AD02-1EEA-4E62-828C-16C1FFB5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4828E-BE4A-496A-A941-F15A8E20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91D24-0CBC-4EB1-9E3B-F8BCAD65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8FD6E-F00C-49D4-8BBD-B441B5F8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A3A02-A785-448C-AD3B-560E5B71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4060-B9E2-4290-821C-F6FC965B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EBF7B-3905-4515-9CD7-0C22ABE3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6AF02-862A-4AE4-B4C1-EB0A4555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6E913-C347-45CE-AD0D-0881AF1B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29019-1ABC-4CAB-80B2-1727FD06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DA093-8C3E-45D7-9FE2-57C0D105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E0A22-B6D2-419A-88AD-51CF0803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30064-B25A-4741-B0CC-7111C2C8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4DF07-1C60-43A8-9641-1A427CB8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8A729-03C8-40E3-8B68-DAA9A615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D9922-EE40-4730-AD0D-82F10823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37CC-91FE-4D45-A41A-8D6425A7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E2967-A38C-4961-BA38-3DDDE6E0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796D2-D41A-494A-A6BE-BEDF08C0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B02E6-BFBD-4573-9914-4F3DE70F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8C5A1-4090-4816-A82F-E9869E0B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23ECD-39C4-4445-A36A-F281749C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19777-4CB6-4BA8-A604-0E91400D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3A727-A898-481A-9C9E-B0FDA83C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4327A-78CA-4D2A-9BDF-E15FB26E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C989E-8E28-4B1A-A323-670240D1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51461-C2A5-4708-92A8-B5CCD516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F8E1-DE04-4DEE-ACAA-6CF77B5B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70827-46B0-464A-876F-C4D091B0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3EDC0-D979-4529-9AAB-1CF055AB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A997F-C581-435B-A1E4-3134EE4D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C0F46-3750-43E1-92B2-D411829D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4DE46-1900-46B9-B10E-DB7759B2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742F-9601-457C-8386-88CDAB24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D945-BAA8-4548-8229-ECF9ACCC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62FC-B333-4524-91F3-0A4521D2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1195-A2A4-4275-9260-FB92E92E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491D-3435-4D5E-82B3-CE775C9B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07F-9547-4CFE-9118-BF01F464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E642-7E65-445B-BB1A-2B02450A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A61D-F74B-48A1-8089-0A260A13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B425-ED9E-4A36-8397-B04ACCD1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05E8-AE03-45A7-88F6-F289EC3F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9F7B-CFBF-43D5-BD29-46478E68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B1711-E1D0-4BED-B634-663B9D54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C122C-ED56-4A68-A447-A3F30F5A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2177F-5B2E-4C16-ABDA-75FC328C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DE118-5862-4E9C-BCDA-CEE0D734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CD5CF-1141-46BE-A938-3D463612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255-BEFE-4F57-85CD-36630F04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40E5D-1476-48A4-A066-28EFAEDA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3FBF5-F16B-4DA8-AEA4-3FB6416F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0D1EF-799F-41B4-B326-B0FB305B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1891A-F16F-4593-9589-892740BC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CDB19-9CD3-4230-B12F-0F7410DA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2A084-C364-4D73-A7CC-BA717D2C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99EF7-98B3-4446-8F2B-59781603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8634D-B7C1-4E44-B5C4-07B77826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CF6AF-1A2D-4F8F-AD09-042AE7A6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A3766-B943-4F40-82B0-30526447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833-6D15-4905-88AA-98FE439D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D3D85-31BF-4B8A-A09C-588052B6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920DA-8D98-43BF-AD25-C3F22388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9BF9E-7E29-4C60-A4D0-FAC66CF5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79CA9-E81A-428F-82B6-E3597B5F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0369E-ACE7-40ED-B16C-4223731B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66C47-91F3-4C76-AC60-4F4EEF29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361AE-C1ED-4EF1-BB04-036CAC8E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02613-F406-470F-80B0-3A750F85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DD5FE-54B6-42AB-92CB-A0B08BA9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A76C9-B9F4-46FA-9D68-D87BD14E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9D3E-EE9A-4A2C-ADAB-21862629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C3BB6-F633-4AFE-BD3C-749CEDE8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8A05D-9730-4F84-8243-0C4EA26C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7BE3A-327C-497F-A492-3DD290DF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A3BB2-18FD-4AAE-BD58-02531FF8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2A80A-AF2F-4082-87BF-EAE8419A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B3C54-BE7A-4F27-A19C-8F089C69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DD138-4A1C-4341-9274-A8B3197F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AA172-5BF1-4134-A326-530AC629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524EE-D783-4CBD-A4D7-647473B3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8D0F8-F19E-4055-8033-2B18B5CD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6ACA-A6F7-47D5-AD6D-A901B454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F3684-7D3C-46B7-8A4C-96ECC6F1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E5FD4-259A-4585-9901-632E149D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26B23-1D5D-46E7-AE13-D9D67674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D99A9-2F42-472E-A24A-3A338413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23B05-9C00-4750-8246-39A6CDB1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39EAF-3B60-4AA4-BBE7-0BB36C4E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B93B5-AC98-4810-8F88-10F0FB29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FA344-C2FE-4DA2-9FA3-59DAA22D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381FD-23DE-4604-B52C-EDF03286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D1DDD-8195-4A0C-8DCC-364AA1D5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40D-7D74-4617-BE79-ED5D24E2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55636-753F-4BC4-9882-0775789B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A6AEC-7B3D-4DF6-A38D-E32B4BA0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4DC71-472D-4642-8EAE-437AA8C6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4F57C-F943-4F6E-8113-DEEE28D7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0ED74-6B46-4A62-9874-54F2C4B9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B41B4-7423-4F99-957D-AE2BB811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92275-57C2-4D4A-9744-DD70921F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9EC1D-FA2D-4805-8F5A-2AEC3437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90468-A01E-4EEC-8370-2FD0063C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4518F-0118-4A47-B0E3-7C5CB7C5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9F06-BAD5-4D05-A60F-09CEFDA8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3ADBE-5F49-4D64-B888-72C663A7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08D24-F472-454F-AF34-F7E8196E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1C6B1-DA32-4577-A12E-8E94DCB2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C205D-9E8B-46BD-84EA-ED8B06AD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F5E8D-9E7F-4705-A025-DADB9A62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1A3D5-123D-4DB4-A95E-760DC227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A4FFA-54DE-42F6-9244-DA41A36C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4545F-F928-4430-990B-A728E00D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C0ABB-2AE1-4363-877D-08DDE935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B4285-9475-4BC5-BEAE-EB44424D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A0C-4CE8-42DD-9571-20E90C82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D20EF-2D40-4DF4-92AE-8EDF326B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BEE14-8F67-45DF-8BE1-F1ED076E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868DA-25E8-4D54-B15B-76063665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A3A02-F944-4ECC-9DC0-4C86DBAE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A4D12-0F8A-4507-A144-0D27CD3E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22CF8-6156-411C-A820-8F1E487A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0E7B5-0034-440E-8889-707157FD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8A563-2D12-491B-BFB6-7DBCDE51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47ACD-2AA0-4D4D-AD63-9B21253B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E0840-93A7-49B3-9D08-6320E327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9B39-F08B-485D-BF7C-45B554DC9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5CC1-E817-4A3A-B0F8-28B0FA752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87A6-CD67-4B62-822D-DB6E09959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35E1-01CD-4B11-ACAC-91DD3919D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C809-C01D-4E64-8792-E92698238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8D61-A1EE-4611-B21D-E7C137D37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86FA-FCF0-4362-9289-E1D55654B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9F29-5F89-4BAB-B76E-5591D8D9B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4278-B290-4A73-B46E-3D96AC85E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7026-5EEE-4565-B0AF-68BEF48F0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8D99-C15D-48A1-8330-C2508EBC3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75E9-6565-42DE-9326-926193A41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 Mark Eppley, Brandon Gettle, and Jackie Pain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Rectangle 4" descr=""/>
          <p:cNvPicPr/>
          <p:nvPr/>
        </p:nvPicPr>
        <p:blipFill>
          <a:blip r:embed="rId1"/>
          <a:stretch/>
        </p:blipFill>
        <p:spPr>
          <a:xfrm>
            <a:off x="1090440" y="2139840"/>
            <a:ext cx="7291440" cy="1157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cl12eppleym\Local Settings\Temporary Internet Files\Content.IE5\L7U47SJM\MCj04379780000[1].wmf"/>
          <p:cNvPicPr/>
          <p:nvPr/>
        </p:nvPicPr>
        <p:blipFill>
          <a:blip r:embed="rId2"/>
          <a:stretch/>
        </p:blipFill>
        <p:spPr>
          <a:xfrm>
            <a:off x="3886200" y="304920"/>
            <a:ext cx="1876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cid Base Reaction: When an acid and a base are placed together they react to neutralize their acid and base properties producing a sa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5" descr="http://www.creativenonfiction.org/brevity/bookrev/book%20review%20art/books.jpg"/>
          <p:cNvPicPr/>
          <p:nvPr/>
        </p:nvPicPr>
        <p:blipFill>
          <a:blip r:embed="rId1"/>
          <a:stretch/>
        </p:blipFill>
        <p:spPr>
          <a:xfrm>
            <a:off x="3733920" y="350532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0000"/>
              </a:solidFill>
              <a:uFillTx/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dissolved in water, acids conduct electr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 blue litmus to 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tmus: a blue coloring matter obtained from certain fung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a sour ta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rrosive to met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s a pH less tha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7" descr="http://static.howstuffworks.com/gif/acid-rain-2a.jpg"/>
          <p:cNvPicPr/>
          <p:nvPr/>
        </p:nvPicPr>
        <p:blipFill>
          <a:blip r:embed="rId1"/>
          <a:stretch/>
        </p:blipFill>
        <p:spPr>
          <a:xfrm>
            <a:off x="5181480" y="373392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509" name="Rectangle 4" descr=""/>
          <p:cNvPicPr/>
          <p:nvPr/>
        </p:nvPicPr>
        <p:blipFill>
          <a:blip r:embed="rId2"/>
          <a:stretch/>
        </p:blipFill>
        <p:spPr>
          <a:xfrm>
            <a:off x="1401840" y="201600"/>
            <a:ext cx="6005520" cy="113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itric Acid in oranges and lemon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drochloric acid (HCl) in gastric jui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lfuric acid (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itric acid (H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Picture 5" descr="http://www.solarnavigator.net/solar_cola/cola_images/Oranges_Ambersweet.jpg"/>
          <p:cNvPicPr/>
          <p:nvPr/>
        </p:nvPicPr>
        <p:blipFill>
          <a:blip r:embed="rId1"/>
          <a:stretch/>
        </p:blipFill>
        <p:spPr>
          <a:xfrm>
            <a:off x="5334120" y="3200400"/>
            <a:ext cx="3033720" cy="3322800"/>
          </a:xfrm>
          <a:prstGeom prst="rect">
            <a:avLst/>
          </a:prstGeom>
          <a:ln w="0">
            <a:noFill/>
          </a:ln>
        </p:spPr>
      </p:pic>
      <p:pic>
        <p:nvPicPr>
          <p:cNvPr id="513" name="Rectangle 4" descr=""/>
          <p:cNvPicPr/>
          <p:nvPr/>
        </p:nvPicPr>
        <p:blipFill>
          <a:blip r:embed="rId2"/>
          <a:stretch/>
        </p:blipFill>
        <p:spPr>
          <a:xfrm>
            <a:off x="1627200" y="201600"/>
            <a:ext cx="581040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dissolved in water, bases will conduct electr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 red litmus to b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a slippery fee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a pH more tha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rrosive (will burn your sk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7" descr="http://static.howstuffworks.com/gif/acid-rain-2a.jpg"/>
          <p:cNvPicPr/>
          <p:nvPr/>
        </p:nvPicPr>
        <p:blipFill>
          <a:blip r:embed="rId1"/>
          <a:stretch/>
        </p:blipFill>
        <p:spPr>
          <a:xfrm>
            <a:off x="5867280" y="236232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517" name="Rectangle 8" descr=""/>
          <p:cNvPicPr/>
          <p:nvPr/>
        </p:nvPicPr>
        <p:blipFill>
          <a:blip r:embed="rId2"/>
          <a:stretch/>
        </p:blipFill>
        <p:spPr>
          <a:xfrm>
            <a:off x="1103400" y="189000"/>
            <a:ext cx="7443720" cy="185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dium hydroxide (NaOH) or caustic so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lcium hydroxide ( Ca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or lime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mmonium hydroxide 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H) or ammonia 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y bleaches, soaps, toothpastes and cleaning agent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5" descr="http://www.shop.kn/GRFX/Items/clorox_bleach.jpg"/>
          <p:cNvPicPr/>
          <p:nvPr/>
        </p:nvPicPr>
        <p:blipFill>
          <a:blip r:embed="rId1"/>
          <a:stretch/>
        </p:blipFill>
        <p:spPr>
          <a:xfrm>
            <a:off x="4952880" y="44956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21" name="Rectangle 4" descr=""/>
          <p:cNvPicPr/>
          <p:nvPr/>
        </p:nvPicPr>
        <p:blipFill>
          <a:blip r:embed="rId2"/>
          <a:stretch/>
        </p:blipFill>
        <p:spPr>
          <a:xfrm>
            <a:off x="1189080" y="189000"/>
            <a:ext cx="6765840" cy="1852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Acid-Base Reaction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CID + BASE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ALT +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Cl + NaOH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Cl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Hydrochloric Acid) + (Sodium Hydroxide) (Sodium Chloride) + (Wa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2" descr="http://aic.stanford.edu/sg/bpg/annual/v10/bp10-01a.gif"/>
          <p:cNvPicPr/>
          <p:nvPr/>
        </p:nvPicPr>
        <p:blipFill>
          <a:blip r:embed="rId1"/>
          <a:stretch/>
        </p:blipFill>
        <p:spPr>
          <a:xfrm>
            <a:off x="2133720" y="3809880"/>
            <a:ext cx="4762440" cy="2562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Works Ci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visionlearning.com/library/module_viewer.php?mid=5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qldscienceteachers.tripod.com/junior/chem/acid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shodor.org/unchem/basic/ab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8:06:39Z</dcterms:created>
  <dc:creator>cl12eppleym</dc:creator>
  <dc:description/>
  <dc:language>en-US</dc:language>
  <cp:lastModifiedBy>cl12eppleym</cp:lastModifiedBy>
  <dcterms:modified xsi:type="dcterms:W3CDTF">2009-02-18T17:57:13Z</dcterms:modified>
  <cp:revision>12</cp:revision>
  <dc:subject/>
  <dc:title>Acid Base Reactions</dc:title>
</cp:coreProperties>
</file>