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41B8-4BB6-4636-BFD8-21CB6CC5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333A-E765-498B-9631-73763D848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D0B-D9F6-4E1C-AA0D-CD92D7DC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FF9-9F71-4953-B751-5F148446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E0713-4300-4929-BC4A-4CA1F0DD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C7600-3670-4BFE-9B24-A888AFA6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9BDBB-3E50-44BA-B0E2-C7074E34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B8520-B1F8-4129-B0CD-502A19A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C9F65-18F3-4ECE-B814-EE01DBA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D4A8B-3C4C-4322-AA42-BFF9B01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B4E5E-EFDE-4AA6-93BB-4D226C0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A21A0-0917-41DB-9349-2A7EBE9E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731BD-E561-4466-80BE-FBB3643D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7A63A-2363-463C-82E6-53AE1E37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0F8-885D-4607-82B3-817199FB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AA9D2-A92A-48C9-8D94-2C812B07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C59BE-9F56-45A4-B8F3-E3B1C99E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17FEE-C3BC-4AC8-9E04-65F2DC3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8D3A8-3FC0-42BC-AEE1-5B138CBF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55A2B-A902-4073-8874-327D9E49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7CF93-0CF6-4742-A564-E90B07A4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86BFA-8AF3-49BF-9534-C923502A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FF46A-ADB2-49EB-8CA3-DA9F07CF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5A479-2511-460A-9FBF-DFCD4F5E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E303D-520C-4697-87CB-9F6528D5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76D-F8ED-4C08-AE1B-95019BAB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D441F-4141-47E3-B181-BEB99C95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4B588-D2E9-48C0-A74A-9C3F3D8D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EDB2D-44CA-4361-893D-52FEC4B0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B567B-3D35-4D02-A4BB-741A1F40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848EA-D7AF-4656-AEAA-68F0D4CB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A9D4C-8B91-4F0D-8796-BB4B69DF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57BB5-E329-4293-8639-C7AFF026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D07DF-4711-419C-9662-16E2DCD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AA257-7D55-4813-8DDF-97683B6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1C7A2-96A9-43DD-A622-62C72689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DED8-FE46-4C74-BD0E-E36EDE4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D2B3B-5EC0-40F5-AB07-8E71AA39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F6645-7561-46AF-A060-5612CE42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17AA2-4181-4CF2-9797-6BD12422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3B230-4ED9-42DC-820C-46DB7EDE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1B37E-5988-4559-AABE-DE9CD38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235E5-1394-4EDD-A594-07B22BC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337B2-4B68-446D-A699-260E174C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C143E-8C80-4B26-BB40-6975F43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DCA71-A834-423D-88BD-44D853A7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38D67-2E15-45D8-8EC4-54581498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651F-177D-499E-800F-30EF0422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40912-4089-468C-8484-51FE5415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5AE61-40F2-4705-BD63-A8A548CE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912BD-2EE4-4A1B-845D-D68E988E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2FDB6-9320-41D3-A101-505A5FF5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31A22-01FC-4895-ADA0-E98FF25C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ADAE-CE23-4E46-854F-19D3657F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1B34-17C5-4C8B-9B8B-107F4358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2A46-77A6-4917-AB8E-6AFFA6ED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62FD-A952-4889-877E-A45FAC43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7753-8429-49AC-B04D-A0BA79D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B3E-7335-4C09-B4A9-F0B7A61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132E-2534-4350-9EDC-449FE5A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9A6C-BE55-4213-90ED-A921A73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369B-B642-480D-9EF8-BD4C161A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C2CD-86B7-4494-93C4-AD2F80A4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F4EE-7EAD-4092-BA17-5E74E612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EAA6-FA1D-4EF1-9562-ACEA332A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9BED-5F67-499C-8192-9784021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74E3-B9A2-4B3D-8117-98DD0275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3E5E-2D3F-4714-868A-55D7D9BD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C58D-F40B-4C11-B543-418CD50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940-C04E-4AA8-B467-268868BF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0FE7-174D-4AEE-9105-EEEFF3DF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0B84-3C02-46E8-8CE0-80AF3477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A0FE-111E-456B-AEB9-C27D1703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5A45-1324-41F9-9D5A-A83D49D8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E095-2C32-4FFF-B511-DD16961D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861C-6D3E-4952-B8F8-079DB2F6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B5C2E-5F65-49D5-A846-46112DF1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37A5-EA53-4C0F-ADAE-DF21D936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0550-D796-46E3-AB8A-CBD04B7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CDED-5564-44A6-A11B-84D6506E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C4F-6285-46B3-95D1-1492CF16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8323-CB03-400A-995A-17F7E39C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D19A-BDCF-4726-8D1D-5220085B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D4EA-23D8-4DED-B3EB-D4F5E1E4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FF89-653A-4803-861B-8A36201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9092-022B-4B8F-A2FE-42D405AC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F2A2B-8554-45AD-A448-F21813F0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1261-3F19-446B-9D1F-FA84EC61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46A2-1CEB-4354-9B37-F4FE3DC1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372EC-D690-4FE0-A663-BECB1DEE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DF34B-EE83-485A-933B-E215C5DF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10D-8351-4EB7-BDF0-950EF74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C4E8-4833-485D-AEA0-8C7FC0CB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CA5FD-6F30-4331-9AC1-BAC33E9E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617B-553B-4370-A28A-AA01E1CA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2909-53CA-4E33-84A6-51B3545F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1BAA-6E1F-4E6A-ADBA-6C11315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3275-1E43-4910-AF44-EEF0E81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A5D6-E40A-4678-B14C-58BF0E2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A86FB-E74D-4C7A-8496-0637610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119D6-14BA-4106-8517-DE849C80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576A-3D0F-4560-94D3-1966C864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B2A-659B-4E61-B0F4-A15EE6EB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0429-6CD7-4771-99C4-21EF41D6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1B59-21C5-4EA9-A6AE-0387F7D1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6BB6-E9DC-40BB-B898-7F840BA9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5AAB-8BD4-4B17-A6F7-386699A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C830-119E-405A-9C2B-FE024DB9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21011-A8A2-489E-BE32-B0D8EEF0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F0425-BDF8-4D50-ABBD-0B3BB96E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40302-A07D-422D-BAA5-D75C9A0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AA822-20BE-4D0B-8CA2-A87C954A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72137-634E-47E8-B074-320AE45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744-0145-474E-A34D-01A3F14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324F9-8AFC-438D-9FC7-E080217D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C0DC7-C71A-4BFD-A73A-F8FBD4A2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15B1A-400A-4FEE-BED5-29175BC6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B6304-45DB-47A3-9D82-63DD188F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913D-DCB8-4960-B28F-2D141C8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83540-B826-43A4-934C-8A924042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A2390-938D-424C-B8F8-435E9815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68721-4DD9-41D5-91D2-B910D69C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D1A0-23CE-40C9-B56F-433B68DB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60C31-A7FF-43E8-B1E5-465CE9B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90C-856D-437F-B783-E3839D9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83F1-FB55-450E-8CEA-72EACCE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D40BA-5C51-4C73-B972-ED370F3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1929C-0413-4EA3-B8DA-0D6479BF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D8230-D3CB-411D-8F1B-7B5D866E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FE877-A76A-4326-A4F8-D499EED5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7827E-64CB-48F7-9132-3C9A675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BEA32-3174-4B6C-9DE1-4055D0EE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F04A9-94F9-4611-92D5-C69EC498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C6CD8-9E29-4B17-999B-5E267FE0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9FEC9-AAFA-4029-9B78-B6477294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471-1232-40EC-B8E0-B144B500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DDD87-BEDD-4BFD-B7DA-B859B050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115B1-81EA-4CE9-8541-7796792E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B5104-53EF-41E0-969E-666ECBA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BE248-6E55-41F0-BAB3-09B1237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953A9-FD18-43B5-9B20-719F847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2B78-96C2-417D-A381-D8D7FCF2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0686-E1A3-40C2-BEA1-E726257B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2E4DC-8421-415E-AC91-6B177DAE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897F3-90D2-46B6-9746-901842D1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7A00B-D34D-466B-AB8B-B1CD3CC2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B3D4-038B-49A0-9513-E3C04F626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91A-DE35-46E0-9459-2DAAF9E0B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A22-DD1F-4A96-90BF-52EB3A97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22CB-D964-48EC-A327-7AF1AC45D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2E48-7C21-4184-BC79-26E3E2ECC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B529-4688-4CC0-AE5F-17C9ABEBE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E8B7-5121-48B9-A8EC-A734A7D5A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E526-5899-4847-949A-4F4C258AD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6DE1-1FC3-4A37-BF14-06BF84393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9C4A-3144-45D2-BC02-DDCB883A8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B925-F1E1-4C29-92CB-DA8753276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BDF6-2CA0-4099-A141-8CA6D18B6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Mark Eppley, Brandon Gettle, and Jackie Pa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Rectangle 4" descr=""/>
          <p:cNvPicPr/>
          <p:nvPr/>
        </p:nvPicPr>
        <p:blipFill>
          <a:blip r:embed="rId1"/>
          <a:stretch/>
        </p:blipFill>
        <p:spPr>
          <a:xfrm>
            <a:off x="1090440" y="2139840"/>
            <a:ext cx="7291440" cy="1157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cl12eppleym\Local Settings\Temporary Internet Files\Content.IE5\L7U47SJM\MCj04379780000[1].wmf"/>
          <p:cNvPicPr/>
          <p:nvPr/>
        </p:nvPicPr>
        <p:blipFill>
          <a:blip r:embed="rId2"/>
          <a:stretch/>
        </p:blipFill>
        <p:spPr>
          <a:xfrm>
            <a:off x="3886200" y="304920"/>
            <a:ext cx="187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Base Reaction: When an acid and a base are placed together they react to neutralize their acid and base properties producing a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http://www.creativenonfiction.org/brevity/bookrev/book%20review%20art/books.jpg"/>
          <p:cNvPicPr/>
          <p:nvPr/>
        </p:nvPicPr>
        <p:blipFill>
          <a:blip r:embed="rId1"/>
          <a:stretch/>
        </p:blipFill>
        <p:spPr>
          <a:xfrm>
            <a:off x="3733920" y="35053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0000"/>
              </a:solidFill>
              <a:uFillTx/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acids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blue litmus to 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mus: a blue coloring matter obtained from certain fung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our t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to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a pH less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181480" y="37339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4" descr=""/>
          <p:cNvPicPr/>
          <p:nvPr/>
        </p:nvPicPr>
        <p:blipFill>
          <a:blip r:embed="rId2"/>
          <a:stretch/>
        </p:blipFill>
        <p:spPr>
          <a:xfrm>
            <a:off x="1401840" y="201600"/>
            <a:ext cx="6005520" cy="11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tric Acid in oranges and lem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chloric acid (HCl) in gastric ju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lfuric acid 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tric acid (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5" descr="http://www.solarnavigator.net/solar_cola/cola_images/Oranges_Ambersweet.jpg"/>
          <p:cNvPicPr/>
          <p:nvPr/>
        </p:nvPicPr>
        <p:blipFill>
          <a:blip r:embed="rId1"/>
          <a:stretch/>
        </p:blipFill>
        <p:spPr>
          <a:xfrm>
            <a:off x="5334120" y="3200400"/>
            <a:ext cx="3033720" cy="332280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4" descr=""/>
          <p:cNvPicPr/>
          <p:nvPr/>
        </p:nvPicPr>
        <p:blipFill>
          <a:blip r:embed="rId2"/>
          <a:stretch/>
        </p:blipFill>
        <p:spPr>
          <a:xfrm>
            <a:off x="1627200" y="201600"/>
            <a:ext cx="581040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bases will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red litmus to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lippery fe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pH more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(will burn your sk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867280" y="23623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17" name="Rectangle 8" descr=""/>
          <p:cNvPicPr/>
          <p:nvPr/>
        </p:nvPicPr>
        <p:blipFill>
          <a:blip r:embed="rId2"/>
          <a:stretch/>
        </p:blipFill>
        <p:spPr>
          <a:xfrm>
            <a:off x="1103400" y="189000"/>
            <a:ext cx="7443720" cy="18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hydroxide (NaOH) or caustic so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ium hydroxide ( Ca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or lime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monium hydroxide 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H) or ammonia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bleaches, soaps, toothpastes and cleaning agen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http://www.shop.kn/GRFX/Items/clorox_bleach.jpg"/>
          <p:cNvPicPr/>
          <p:nvPr/>
        </p:nvPicPr>
        <p:blipFill>
          <a:blip r:embed="rId1"/>
          <a:stretch/>
        </p:blipFill>
        <p:spPr>
          <a:xfrm>
            <a:off x="495288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1" name="Rectangle 4" descr=""/>
          <p:cNvPicPr/>
          <p:nvPr/>
        </p:nvPicPr>
        <p:blipFill>
          <a:blip r:embed="rId2"/>
          <a:stretch/>
        </p:blipFill>
        <p:spPr>
          <a:xfrm>
            <a:off x="1189080" y="189000"/>
            <a:ext cx="676584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cid-Base Reac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+ BAS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T +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Cl + NaO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Cl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Hydrochloric Acid) + (Sodium Hydroxide) (Sodium Chloride) + (Wa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2" descr="http://aic.stanford.edu/sg/bpg/annual/v10/bp10-01a.gif"/>
          <p:cNvPicPr/>
          <p:nvPr/>
        </p:nvPicPr>
        <p:blipFill>
          <a:blip r:embed="rId1"/>
          <a:stretch/>
        </p:blipFill>
        <p:spPr>
          <a:xfrm>
            <a:off x="2133720" y="3809880"/>
            <a:ext cx="4762440" cy="2562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orks Ci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visionlearning.com/library/module_viewer.php?mid=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qldscienceteachers.tripod.com/junior/chem/aci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shodor.org/unchem/basic/ab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06:39Z</dcterms:created>
  <dc:creator>cl12eppleym</dc:creator>
  <dc:description/>
  <dc:language>en-US</dc:language>
  <cp:lastModifiedBy>cl12eppleym</cp:lastModifiedBy>
  <dcterms:modified xsi:type="dcterms:W3CDTF">2009-02-18T17:57:13Z</dcterms:modified>
  <cp:revision>12</cp:revision>
  <dc:subject/>
  <dc:title>Acid Base Reactions</dc:title>
</cp:coreProperties>
</file>